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C067-DFD3-4EE5-810E-1FCE5ABE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1CCC-3F37-4931-A025-F227804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94B3-1340-45FE-A58B-E6715436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692B-33AA-4AB4-8A1D-10F3F627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C8F-741A-4251-B2FF-B3C775D4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1A1-F2E8-4A45-B92D-8C9DB9E3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3A57-4207-45A9-AF43-290695B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2402-7138-462E-8134-A66C2A2B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C6CD-86EB-46CD-97ED-D843F11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A0C-2693-4D85-ABB4-F121CAC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4AE7-D3D6-4CAF-958A-3C218F8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315D-2AE6-4333-BCB0-7DEF05DA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9E72-8711-4322-9485-7425596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5E2-DC42-474B-A10D-382FF09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76BE-CB2D-4035-9E63-F627BC6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3392-33D7-4C5C-8E39-D85DB3E0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0615-0FB9-4E54-99A6-2B39E724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2D54-259A-4E69-AEEC-75BED17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3E66-BE1B-4CCD-BAC1-EC95BBF6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EB34-E902-4807-AF9C-D8F93555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A9CE3-32D9-456D-811E-AF25FD9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3209-CD80-4937-847B-55035C0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810E-7217-4CFE-A66C-F89C22D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8B4C-46F9-4E8E-AA4D-529F695C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917-6590-4384-8EBD-668EEC819C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E81C-1143-4FBB-A76F-B40556DC4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990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3733920" y="1600200"/>
            <a:ext cx="4495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vity-Based Cos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ubtitle 2"/>
          <p:cNvSpPr/>
          <p:nvPr/>
        </p:nvSpPr>
        <p:spPr>
          <a:xfrm>
            <a:off x="3962520" y="3886200"/>
            <a:ext cx="2286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pter 1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51" name=""/>
          <p:cNvSpPr/>
          <p:nvPr/>
        </p:nvSpPr>
        <p:spPr>
          <a:xfrm>
            <a:off x="1676520" y="5105520"/>
            <a:ext cx="640080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ed        Squ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y                                Edge              Edge              Total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rchasing……………... 109 orders     431 orders    540 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chinery deprec…..…. 500 hrs          1,500 hrs       2,000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up…………………..…  40 setups     210 setups    250 setup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5105520"/>
            <a:ext cx="106668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447920" y="2819520"/>
            <a:ext cx="6400800" cy="825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Costs per Un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uare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3276720" y="2514600"/>
            <a:ext cx="21333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514600"/>
            <a:ext cx="1371600" cy="22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 flipV="1">
            <a:off x="5969160" y="3657600"/>
            <a:ext cx="0" cy="9144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267080"/>
            <a:ext cx="2666880" cy="337320"/>
          </a:xfrm>
          <a:prstGeom prst="rect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me rate from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01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66" name=""/>
          <p:cNvSpPr/>
          <p:nvPr/>
        </p:nvSpPr>
        <p:spPr>
          <a:xfrm>
            <a:off x="1676520" y="5257800"/>
            <a:ext cx="6400800" cy="11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nded        Squ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y                                Edge              Edge              Total     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rchasing……………... 109 orders     431 orders    540 o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chinery deprec…..…. 500 hrs          1,500 hrs       2,000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up…………………..…  40 setups     210 setups    250 setup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5257800"/>
            <a:ext cx="106668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447920" y="2819520"/>
            <a:ext cx="640080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Cost per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74" name=""/>
          <p:cNvSpPr/>
          <p:nvPr/>
        </p:nvSpPr>
        <p:spPr>
          <a:xfrm>
            <a:off x="838080" y="3505320"/>
            <a:ext cx="731520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3276720"/>
            <a:ext cx="32763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657240" y="3580920"/>
            <a:ext cx="304920" cy="1219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724280"/>
            <a:ext cx="42670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$31,200 / 10,000 units = $3.12 p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81" name=""/>
          <p:cNvSpPr/>
          <p:nvPr/>
        </p:nvSpPr>
        <p:spPr>
          <a:xfrm>
            <a:off x="838080" y="3505320"/>
            <a:ext cx="731520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276720"/>
            <a:ext cx="2438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62520" y="3657240"/>
            <a:ext cx="609480" cy="1219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724280"/>
            <a:ext cx="42670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$12,200 / 10,000 units = $1.22 p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228600" y="228600"/>
            <a:ext cx="8750160" cy="6324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88" name=""/>
          <p:cNvSpPr/>
          <p:nvPr/>
        </p:nvSpPr>
        <p:spPr>
          <a:xfrm>
            <a:off x="838080" y="3505320"/>
            <a:ext cx="731520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3276720"/>
            <a:ext cx="1066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105520" y="3580920"/>
            <a:ext cx="609480" cy="1219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648320"/>
            <a:ext cx="47242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om Activity-Based costing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95" name=""/>
          <p:cNvSpPr/>
          <p:nvPr/>
        </p:nvSpPr>
        <p:spPr>
          <a:xfrm>
            <a:off x="838080" y="3505320"/>
            <a:ext cx="731520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99" name=""/>
          <p:cNvSpPr/>
          <p:nvPr/>
        </p:nvSpPr>
        <p:spPr>
          <a:xfrm>
            <a:off x="4114800" y="3505320"/>
            <a:ext cx="4038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733560" y="3886200"/>
            <a:ext cx="22860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4724280"/>
            <a:ext cx="42670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$44,800 / 14,000 units = $3.20 p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228600" y="30492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62120" y="2286000"/>
            <a:ext cx="7696080" cy="17794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ss Exerc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7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rcise N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7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-1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693      Assigning costs using 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7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05" name=""/>
          <p:cNvSpPr/>
          <p:nvPr/>
        </p:nvSpPr>
        <p:spPr>
          <a:xfrm>
            <a:off x="5334120" y="3505320"/>
            <a:ext cx="28191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962520" y="3886200"/>
            <a:ext cx="685800" cy="914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4724280"/>
            <a:ext cx="42670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$23,800 / 14,000 units = $1.70 p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11" name=""/>
          <p:cNvSpPr/>
          <p:nvPr/>
        </p:nvSpPr>
        <p:spPr>
          <a:xfrm>
            <a:off x="6400800" y="3505320"/>
            <a:ext cx="17524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105520" y="3962520"/>
            <a:ext cx="68580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648320"/>
            <a:ext cx="4724280" cy="3682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rom Activity-Based costing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61976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28600" y="304920"/>
            <a:ext cx="8750160" cy="63244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371600" y="1676520"/>
            <a:ext cx="640080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ing Method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895480"/>
            <a:ext cx="6934320" cy="177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gle OH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BC OH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nded Edge ……….  $ 8.00 …………... $ 6.6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Squared Edge…………   10.00 ……….…..  11.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228600" y="30492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133720" y="3048120"/>
            <a:ext cx="4876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of 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ubtitle 2"/>
          <p:cNvSpPr/>
          <p:nvPr/>
        </p:nvSpPr>
        <p:spPr>
          <a:xfrm>
            <a:off x="3733920" y="2819520"/>
            <a:ext cx="4724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of Chapter 17 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458200" cy="350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rcise 17-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thwest Company produces two types of glass shelving; rounded edge and squared edge.  The company reports the following cost 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unded Edge      Squared Edge           Total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materials………………………..  $31,200 ………… $ 44,800 ………....$  76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labor..………………..………….    12,200 ………….    23,800 ………...     36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verhead (using plant-wide rate)….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36,6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………….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71,4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………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108,0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 product cost…….………………  $80,000 …………. $140,000 ………...$22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its produced………………………..    10,000 ………….     14,000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duct cost per unit…………………     $    8   ………….       $ 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4572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5029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95280"/>
            <a:ext cx="8458200" cy="496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rcise 17-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rthwest Controller wants to apply activity-based costing to allocate the $108,000 of overhead cost to the two products to see whether product cost per unit would change markedly from the previous chart.  The following additional information is coll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ity Usage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dgeted        Cost        Rounded       Squ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y                               Cost            Driver         Edge              Edge              Total  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rchasing……………... $   5,400       Orders      109 orders     431 orders    540 or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ry deprec…..….    56,600     Mach. hrs     500 hrs         1,500 hrs       2,000 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tup…………………..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46,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Setups        40 setups     210 setups    250 setups  Total……………………... $108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qui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1)  Compute the activity rate for each activity, using activity-based cost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2)  Compute overhead cost per unit for each of the two product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3)  Determine product cost per unit for each of the two product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327672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4800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447920" y="2819520"/>
            <a:ext cx="640080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Activity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33" name=""/>
          <p:cNvSpPr/>
          <p:nvPr/>
        </p:nvSpPr>
        <p:spPr>
          <a:xfrm>
            <a:off x="6705720" y="2819520"/>
            <a:ext cx="1828800" cy="15238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3200400"/>
            <a:ext cx="6400800" cy="131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unded         Squ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y                               Edge               Edge             Total  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rchasing……………... 109 orders     431 orders    540 or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ry deprec…..…. 500 hrs          1,500 hrs       2,000 h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tup…………………..…  40 setups     210 setups    250 setup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523880" y="1600200"/>
            <a:ext cx="6400800" cy="825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on Data to be used in the Cost Allo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28600" y="228600"/>
            <a:ext cx="8750160" cy="6242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47920" y="2819520"/>
            <a:ext cx="6400800" cy="825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Costs per Un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nded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28600" y="228600"/>
            <a:ext cx="875016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286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ity-Based C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44" name="Line 12"/>
          <p:cNvSpPr/>
          <p:nvPr/>
        </p:nvSpPr>
        <p:spPr>
          <a:xfrm flipV="1">
            <a:off x="6045120" y="3505320"/>
            <a:ext cx="0" cy="9144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4114800"/>
            <a:ext cx="2361960" cy="337320"/>
          </a:xfrm>
          <a:prstGeom prst="rect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om rate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438280"/>
            <a:ext cx="21333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2514600"/>
            <a:ext cx="13716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L. Blake</cp:lastModifiedBy>
  <dcterms:modified xsi:type="dcterms:W3CDTF">2023-06-04T20:33:02Z</dcterms:modified>
  <cp:revision>4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46029662</vt:r8>
  </property>
  <property fmtid="{D5CDD505-2E9C-101B-9397-08002B2CF9AE}" pid="3" name="_AuthorEmail">
    <vt:lpwstr>kelly_odom@mcgraw-hill.com</vt:lpwstr>
  </property>
  <property fmtid="{D5CDD505-2E9C-101B-9397-08002B2CF9AE}" pid="4" name="_AuthorEmailDisplayName">
    <vt:lpwstr>Odom, Kelly</vt:lpwstr>
  </property>
  <property fmtid="{D5CDD505-2E9C-101B-9397-08002B2CF9AE}" pid="5" name="_EmailSubject">
    <vt:lpwstr>PowerPoint Revisions</vt:lpwstr>
  </property>
  <property fmtid="{D5CDD505-2E9C-101B-9397-08002B2CF9AE}" pid="6" name="_ReviewingToolsShownOnce">
    <vt:lpwstr/>
  </property>
</Properties>
</file>