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1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6.wmf" ContentType="image/x-wmf"/>
  <Override PartName="/ppt/media/image12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13.wmf" ContentType="image/x-wmf"/>
  <Override PartName="/ppt/media/image30.wmf" ContentType="image/x-wmf"/>
  <Override PartName="/ppt/media/image5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9.wmf" ContentType="image/x-wmf"/>
  <Override PartName="/ppt/media/image39.png" ContentType="image/png"/>
  <Override PartName="/ppt/media/image24.wmf" ContentType="image/x-wmf"/>
  <Override PartName="/ppt/media/image37.wmf" ContentType="image/x-wmf"/>
  <Override PartName="/ppt/media/image7.wmf" ContentType="image/x-wmf"/>
  <Override PartName="/ppt/media/image29.png" ContentType="image/png"/>
  <Override PartName="/ppt/media/image32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6.wmf" ContentType="image/x-wmf"/>
  <Override PartName="/ppt/media/image28.png" ContentType="image/png"/>
  <Override PartName="/ppt/media/image1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4.wmf" ContentType="image/x-wmf"/>
  <Override PartName="/ppt/media/image27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97044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5524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97044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2442F4-DE33-4EAC-9AC6-4DFAF979D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95CA8B-B07D-4314-A6FE-3586EAB5E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A1DED4-DDA8-48B8-8F39-B41D4945A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74D097-1F1B-40D7-962C-CCE4B9F1E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0006C3-73B2-465A-A2D6-3AA10602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9EF8FA-B058-4A08-9A6B-78934DDF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027637-4ADF-45B4-B28E-C3EF84CA9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C7B536-5CD9-4925-BCE1-F37F91B70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81C510-121B-4D0A-B416-E4587EF7D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064AB36-D91E-4F71-ABFE-64FFFFEC4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A5C5A7-9937-4BC3-8463-E33E3832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020BC7-1354-4BC6-9C47-F8683C88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A57500-31BA-4311-8C7C-4063574D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060BA6-1BA4-4436-927A-C62711576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54CC47-98AA-4585-BE2F-4205139CB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C9A024-0314-402E-BC39-188B04233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D1BA4D-F650-4688-ACB8-B2831AC2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4CE0CF-D9AF-4A08-A6E1-B27561351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look at a petty c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DF583A-1513-49F0-94E1-9A148852C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950057-2E90-4328-94B5-A716A0295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5A99A9-566B-42E3-9BB3-B5745035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49EFEA-D61E-40F0-9403-529391858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F8732E-734D-4F52-AA0D-2E9DA2239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B1C32A-4F56-4EE5-BAF3-3D3B33232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5981CC-532C-476B-8209-2EE4936E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DC2AE9-7A73-4063-80D6-660FC902E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B2D6B3-59C5-4FE3-B7E7-824EE77CE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C79011-4E74-49C9-B517-DBD98822F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06AFA9-A719-4022-942F-7CB343094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8FD-8AB1-4299-910B-B2397A5C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C3C-3513-44B5-BF45-0AB3D336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240-0656-4A06-B4DF-2066315F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580-6AD2-4979-BDB3-CEA1EC29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46BDA-8348-47F5-B5CD-43F0BC55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1567D-5901-4536-8B01-3C5730FE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74901-5800-4FF9-A461-89897742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C35F5-F078-495B-9009-0CE2B442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471ED-4675-4F13-91EC-2EA37FD1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BFA36-C080-47A1-BD22-2B3BD542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B510F-CE92-40D1-9422-A640C838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6C6-8893-49C4-9AD1-B2806D09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CF634-84A4-4B5D-94CE-C75698CA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68635-C30C-4497-B4FB-8258DEDC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BC92-EECC-41D6-B6FE-F1F67C9C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A4DC7-18E8-4227-BA07-0CEF1764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CBC3A-0480-4D2F-A7A2-1DB5710A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186C-6C64-4B75-9C57-3EDC154D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85C0-EDF8-4E81-A797-D04E7125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CA9E-3D09-4557-8F29-3F356CA8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01E7-5D9C-427C-B3DF-F8DB5BC5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3C89-F79E-42BC-8B72-7DC5AA96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89A-015E-4578-9D21-905853B1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A4A5-4CAD-46EC-BB49-4AFB6E72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9535-7937-4BDD-BCB6-4886CE8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2EC3-BECF-47B8-8B7C-185F8B3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95FD-752F-44ED-94B3-E8CED923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226A-81BC-4F04-A7A4-36C9FE6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BCC0-3EDE-4A94-8D0E-C87BFE6F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F107-9FBD-4704-BC36-142B13AD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8DC-E246-4EBE-8ACC-488FFA42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EA1-07D7-4176-98BA-AD6A08E1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E8A-1D9D-4CD7-9E44-E1FF24DB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1E3-89EC-4F39-8CBA-08D373A0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6AA-255E-41A0-933C-4FCBB14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3FC-FAE5-4911-8A5F-C0004CA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6C7F-82BE-48BB-A62B-0EDD1A902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6FF9-A49E-4298-B7FC-AB866D98F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" name="Picture 21" descr=""/>
          <p:cNvPicPr/>
          <p:nvPr/>
        </p:nvPicPr>
        <p:blipFill>
          <a:blip r:embed="rId2"/>
          <a:stretch/>
        </p:blipFill>
        <p:spPr>
          <a:xfrm>
            <a:off x="3048120" y="317520"/>
            <a:ext cx="2857320" cy="200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2"/>
          <p:cNvSpPr/>
          <p:nvPr/>
        </p:nvSpPr>
        <p:spPr>
          <a:xfrm>
            <a:off x="6079680" y="6523200"/>
            <a:ext cx="291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© The McGraw-Hill Companies, Inc., 20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6480" y="655164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0AC6-8AB8-46DD-B971-538A420CA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2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image" Target="../media/image2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wmf"/><Relationship Id="rId8" Type="http://schemas.openxmlformats.org/officeDocument/2006/relationships/package" Target="../embeddings/oleObject3.xlsx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5"/>
          <p:cNvSpPr/>
          <p:nvPr/>
        </p:nvSpPr>
        <p:spPr>
          <a:xfrm>
            <a:off x="30492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3987720" y="914400"/>
            <a:ext cx="424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, Fraud, and Internal Contr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ubtitle 2"/>
          <p:cNvSpPr/>
          <p:nvPr/>
        </p:nvSpPr>
        <p:spPr>
          <a:xfrm>
            <a:off x="3809880" y="34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Receipts by 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4401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37" name="Text Box 11"/>
          <p:cNvSpPr/>
          <p:nvPr/>
        </p:nvSpPr>
        <p:spPr>
          <a:xfrm>
            <a:off x="380880" y="1752480"/>
            <a:ext cx="9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 flipV="1">
            <a:off x="6084720" y="4800600"/>
            <a:ext cx="1306800" cy="977760"/>
          </a:xfrm>
          <a:prstGeom prst="line">
            <a:avLst/>
          </a:prstGeom>
          <a:ln w="507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676520" y="5549760"/>
            <a:ext cx="5181480" cy="45396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bank/organization cash reconciliation is performed by a function assigned within the Comptroller establishme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Receipts from Cash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990720" y="2057400"/>
            <a:ext cx="7226280" cy="358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d2db3"/>
                </a:solidFill>
                <a:uFillTx/>
                <a:latin typeface="Arial"/>
              </a:rPr>
              <a:t>Change F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edetermined amount of cash given to                   each cashier for making change for custom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d2db3"/>
                </a:solidFill>
                <a:uFillTx/>
                <a:latin typeface="Arial"/>
              </a:rPr>
              <a:t>Reconcil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t the end of each day, sales for the d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ange fund, should equal cash in the draw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d2db3"/>
                </a:solidFill>
                <a:uFillTx/>
                <a:latin typeface="Arial"/>
              </a:rPr>
              <a:t>Cash Over and 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 Actual differences in amount on-hand a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ciled amou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 Account has no normal bal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 Debit balance at end of period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eated as an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xpe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 Credit balance at end of period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eated as a </a:t>
            </a:r>
            <a:r>
              <a:rPr b="1" lang="en-US" sz="1800" spc="-1" strike="noStrike">
                <a:solidFill>
                  <a:srgbClr val="009600"/>
                </a:solidFill>
                <a:latin typeface="Arial"/>
              </a:rPr>
              <a:t>Reve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Overage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1295280" y="2590920"/>
            <a:ext cx="685800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h sales for March 19 totaled $550.00 per the cash register record.  After removing the change fund, $555.00 was on h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Ove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2057400" y="4648320"/>
            <a:ext cx="563868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h sales for March 19 totaled $550.00 per the cash register tape.  After removing the change fund, $555.00 was on h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9"/>
          <p:cNvGrpSpPr/>
          <p:nvPr/>
        </p:nvGrpSpPr>
        <p:grpSpPr>
          <a:xfrm>
            <a:off x="228600" y="1905120"/>
            <a:ext cx="8762760" cy="3719520"/>
            <a:chOff x="228600" y="1905120"/>
            <a:chExt cx="8762760" cy="3719520"/>
          </a:xfrm>
        </p:grpSpPr>
        <p:sp>
          <p:nvSpPr>
            <p:cNvPr id="255" name="Rectangle 5"/>
            <p:cNvSpPr/>
            <p:nvPr/>
          </p:nvSpPr>
          <p:spPr>
            <a:xfrm>
              <a:off x="228600" y="1905120"/>
              <a:ext cx="8680320" cy="2286000"/>
            </a:xfrm>
            <a:prstGeom prst="rect">
              <a:avLst/>
            </a:prstGeom>
            <a:solidFill>
              <a:srgbClr val="ffd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890892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59616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>
              <a:off x="1478880" y="19051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9"/>
            <p:cNvSpPr/>
            <p:nvPr/>
          </p:nvSpPr>
          <p:spPr>
            <a:xfrm>
              <a:off x="5672160" y="19051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7730280" y="2004840"/>
              <a:ext cx="12610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1"/>
            <p:cNvSpPr/>
            <p:nvPr/>
          </p:nvSpPr>
          <p:spPr>
            <a:xfrm>
              <a:off x="758484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7958520" y="1905120"/>
              <a:ext cx="50724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6625440" y="1905120"/>
              <a:ext cx="50544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>
              <a:off x="248400" y="2362320"/>
              <a:ext cx="86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248400" y="2819520"/>
              <a:ext cx="86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>
              <a:off x="248400" y="3276720"/>
              <a:ext cx="86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7"/>
            <p:cNvSpPr/>
            <p:nvPr/>
          </p:nvSpPr>
          <p:spPr>
            <a:xfrm>
              <a:off x="228600" y="4191120"/>
              <a:ext cx="868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8"/>
            <p:cNvSpPr/>
            <p:nvPr/>
          </p:nvSpPr>
          <p:spPr>
            <a:xfrm>
              <a:off x="626040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9"/>
            <p:cNvSpPr/>
            <p:nvPr/>
          </p:nvSpPr>
          <p:spPr>
            <a:xfrm>
              <a:off x="228600" y="3733920"/>
              <a:ext cx="868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7721280" y="2004840"/>
              <a:ext cx="12610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>
              <a:off x="228600" y="1905120"/>
              <a:ext cx="868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2"/>
            <p:cNvSpPr/>
            <p:nvPr/>
          </p:nvSpPr>
          <p:spPr>
            <a:xfrm>
              <a:off x="1111320" y="1905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3"/>
            <p:cNvSpPr/>
            <p:nvPr/>
          </p:nvSpPr>
          <p:spPr>
            <a:xfrm>
              <a:off x="531720" y="1981080"/>
              <a:ext cx="84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r" pos="857160"/>
                  <a:tab algn="l" pos="971640"/>
                  <a:tab algn="r" pos="70866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 19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Cash                                                                555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2214720" y="3380760"/>
              <a:ext cx="36043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 record cash sales and actual cash on hand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5"/>
            <p:cNvSpPr/>
            <p:nvPr/>
          </p:nvSpPr>
          <p:spPr>
            <a:xfrm>
              <a:off x="1699560" y="2819520"/>
              <a:ext cx="7282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r" pos="628560"/>
                  <a:tab algn="l" pos="857160"/>
                  <a:tab algn="l" pos="1314360"/>
                  <a:tab algn="r" pos="73152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550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0"/>
            <p:cNvSpPr/>
            <p:nvPr/>
          </p:nvSpPr>
          <p:spPr>
            <a:xfrm>
              <a:off x="1478880" y="2362320"/>
              <a:ext cx="7503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sh Over and Short                                                      5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" descr="C:\Documents and Settings\Administrator\Local Settings\Temporary Internet Files\Content.IE5\CPDNP3QF\MCj03982850000[1].wmf"/>
            <p:cNvPicPr/>
            <p:nvPr/>
          </p:nvPicPr>
          <p:blipFill>
            <a:blip r:embed="rId1"/>
            <a:stretch/>
          </p:blipFill>
          <p:spPr>
            <a:xfrm>
              <a:off x="449280" y="4648320"/>
              <a:ext cx="1271880" cy="976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278" name="Line 7"/>
          <p:cNvSpPr/>
          <p:nvPr/>
        </p:nvSpPr>
        <p:spPr>
          <a:xfrm flipV="1">
            <a:off x="6694560" y="2690640"/>
            <a:ext cx="1338120" cy="15242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4795920" y="3727440"/>
            <a:ext cx="1976400" cy="6415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sh……………. $ 555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les..….……….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 (550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verage.………..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$    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Shortage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1295280" y="2666880"/>
            <a:ext cx="6782040" cy="10670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h sales for March 26 totaled $625.00 per the cash register tape.  After removing the change fund, only $621.00 was on h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9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9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Shor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2154240" y="4849920"/>
            <a:ext cx="53341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h sales for March 26 totaled $625.00 per the cash register tape.  After removing the change fund, only $621.00 was on h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3"/>
          <p:cNvGrpSpPr/>
          <p:nvPr/>
        </p:nvGrpSpPr>
        <p:grpSpPr>
          <a:xfrm>
            <a:off x="228600" y="1905120"/>
            <a:ext cx="8686440" cy="3886200"/>
            <a:chOff x="228600" y="1905120"/>
            <a:chExt cx="8686440" cy="3886200"/>
          </a:xfrm>
        </p:grpSpPr>
        <p:sp>
          <p:nvSpPr>
            <p:cNvPr id="287" name="Rectangle 5"/>
            <p:cNvSpPr/>
            <p:nvPr/>
          </p:nvSpPr>
          <p:spPr>
            <a:xfrm>
              <a:off x="228600" y="1905120"/>
              <a:ext cx="8604720" cy="2286000"/>
            </a:xfrm>
            <a:prstGeom prst="rect">
              <a:avLst/>
            </a:prstGeom>
            <a:solidFill>
              <a:srgbClr val="ffd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883332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59292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1468080" y="19051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9"/>
            <p:cNvSpPr/>
            <p:nvPr/>
          </p:nvSpPr>
          <p:spPr>
            <a:xfrm>
              <a:off x="5624640" y="19051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7665120" y="2004840"/>
              <a:ext cx="1249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52076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7891200" y="1905120"/>
              <a:ext cx="50292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6569640" y="1905120"/>
              <a:ext cx="50112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248040" y="2362320"/>
              <a:ext cx="858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"/>
            <p:cNvSpPr/>
            <p:nvPr/>
          </p:nvSpPr>
          <p:spPr>
            <a:xfrm>
              <a:off x="248040" y="2819520"/>
              <a:ext cx="858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248040" y="3276720"/>
              <a:ext cx="858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28600" y="4191120"/>
              <a:ext cx="86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620784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9"/>
            <p:cNvSpPr/>
            <p:nvPr/>
          </p:nvSpPr>
          <p:spPr>
            <a:xfrm>
              <a:off x="228600" y="3733920"/>
              <a:ext cx="86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7656120" y="2004840"/>
              <a:ext cx="1249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228600" y="1905120"/>
              <a:ext cx="86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>
              <a:off x="1103400" y="1905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3"/>
            <p:cNvSpPr/>
            <p:nvPr/>
          </p:nvSpPr>
          <p:spPr>
            <a:xfrm>
              <a:off x="529200" y="1981080"/>
              <a:ext cx="83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r" pos="857160"/>
                  <a:tab algn="l" pos="971640"/>
                  <a:tab algn="r" pos="70866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Cash                                                                621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2197440" y="3380760"/>
              <a:ext cx="35730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 record cash sales and actual cash on hand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1686960" y="2819520"/>
              <a:ext cx="72194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r" pos="628560"/>
                  <a:tab algn="l" pos="857160"/>
                  <a:tab algn="l" pos="1314360"/>
                  <a:tab algn="r" pos="73152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625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7"/>
            <p:cNvGrpSpPr/>
            <p:nvPr/>
          </p:nvGrpSpPr>
          <p:grpSpPr>
            <a:xfrm>
              <a:off x="738720" y="4572000"/>
              <a:ext cx="1020600" cy="1219320"/>
              <a:chOff x="738720" y="4572000"/>
              <a:chExt cx="1020600" cy="1219320"/>
            </a:xfrm>
          </p:grpSpPr>
          <p:sp>
            <p:nvSpPr>
              <p:cNvPr id="309" name="Freeform 28"/>
              <p:cNvSpPr/>
              <p:nvPr/>
            </p:nvSpPr>
            <p:spPr>
              <a:xfrm>
                <a:off x="1102680" y="5226480"/>
                <a:ext cx="629640" cy="550080"/>
              </a:xfrm>
              <a:custGeom>
                <a:avLst/>
                <a:gdLst>
                  <a:gd name="textAreaLeft" fmla="*/ 0 w 629640"/>
                  <a:gd name="textAreaRight" fmla="*/ 630000 w 629640"/>
                  <a:gd name="textAreaTop" fmla="*/ 0 h 550080"/>
                  <a:gd name="textAreaBottom" fmla="*/ 550440 h 550080"/>
                </a:gdLst>
                <a:ahLst/>
                <a:rect l="textAreaLeft" t="textAreaTop" r="textAreaRight" b="textAreaBottom"/>
                <a:pathLst>
                  <a:path w="2203" h="1941">
                    <a:moveTo>
                      <a:pt x="1830" y="1023"/>
                    </a:moveTo>
                    <a:lnTo>
                      <a:pt x="2055" y="1024"/>
                    </a:lnTo>
                    <a:lnTo>
                      <a:pt x="2138" y="948"/>
                    </a:lnTo>
                    <a:lnTo>
                      <a:pt x="2169" y="893"/>
                    </a:lnTo>
                    <a:lnTo>
                      <a:pt x="2197" y="774"/>
                    </a:lnTo>
                    <a:lnTo>
                      <a:pt x="2203" y="671"/>
                    </a:lnTo>
                    <a:lnTo>
                      <a:pt x="2203" y="513"/>
                    </a:lnTo>
                    <a:lnTo>
                      <a:pt x="2184" y="431"/>
                    </a:lnTo>
                    <a:lnTo>
                      <a:pt x="2169" y="346"/>
                    </a:lnTo>
                    <a:lnTo>
                      <a:pt x="2116" y="205"/>
                    </a:lnTo>
                    <a:lnTo>
                      <a:pt x="2062" y="118"/>
                    </a:lnTo>
                    <a:lnTo>
                      <a:pt x="1958" y="0"/>
                    </a:lnTo>
                    <a:lnTo>
                      <a:pt x="1798" y="0"/>
                    </a:lnTo>
                    <a:lnTo>
                      <a:pt x="1502" y="201"/>
                    </a:lnTo>
                    <a:lnTo>
                      <a:pt x="1342" y="393"/>
                    </a:lnTo>
                    <a:lnTo>
                      <a:pt x="1302" y="494"/>
                    </a:lnTo>
                    <a:lnTo>
                      <a:pt x="1294" y="561"/>
                    </a:lnTo>
                    <a:lnTo>
                      <a:pt x="1311" y="642"/>
                    </a:lnTo>
                    <a:lnTo>
                      <a:pt x="1357" y="798"/>
                    </a:lnTo>
                    <a:lnTo>
                      <a:pt x="1386" y="1007"/>
                    </a:lnTo>
                    <a:lnTo>
                      <a:pt x="1384" y="1028"/>
                    </a:lnTo>
                    <a:lnTo>
                      <a:pt x="1275" y="1047"/>
                    </a:lnTo>
                    <a:lnTo>
                      <a:pt x="1148" y="1030"/>
                    </a:lnTo>
                    <a:lnTo>
                      <a:pt x="0" y="1184"/>
                    </a:lnTo>
                    <a:lnTo>
                      <a:pt x="0" y="1224"/>
                    </a:lnTo>
                    <a:lnTo>
                      <a:pt x="878" y="1941"/>
                    </a:lnTo>
                    <a:lnTo>
                      <a:pt x="1606" y="1775"/>
                    </a:lnTo>
                    <a:lnTo>
                      <a:pt x="1711" y="1853"/>
                    </a:lnTo>
                    <a:lnTo>
                      <a:pt x="1808" y="1829"/>
                    </a:lnTo>
                    <a:lnTo>
                      <a:pt x="2070" y="1745"/>
                    </a:lnTo>
                    <a:lnTo>
                      <a:pt x="2110" y="1682"/>
                    </a:lnTo>
                    <a:lnTo>
                      <a:pt x="2133" y="1578"/>
                    </a:lnTo>
                    <a:lnTo>
                      <a:pt x="2131" y="1486"/>
                    </a:lnTo>
                    <a:lnTo>
                      <a:pt x="2081" y="1401"/>
                    </a:lnTo>
                    <a:lnTo>
                      <a:pt x="2019" y="1334"/>
                    </a:lnTo>
                    <a:lnTo>
                      <a:pt x="1992" y="1330"/>
                    </a:lnTo>
                    <a:lnTo>
                      <a:pt x="1992" y="1254"/>
                    </a:lnTo>
                    <a:lnTo>
                      <a:pt x="1654" y="1100"/>
                    </a:lnTo>
                    <a:lnTo>
                      <a:pt x="1659" y="990"/>
                    </a:lnTo>
                    <a:lnTo>
                      <a:pt x="1709" y="1009"/>
                    </a:lnTo>
                    <a:lnTo>
                      <a:pt x="1830" y="1023"/>
                    </a:lnTo>
                    <a:close/>
                  </a:path>
                </a:pathLst>
              </a:custGeom>
              <a:solidFill>
                <a:srgbClr val="cdc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9"/>
              <p:cNvSpPr/>
              <p:nvPr/>
            </p:nvSpPr>
            <p:spPr>
              <a:xfrm>
                <a:off x="1467720" y="5226480"/>
                <a:ext cx="264600" cy="46368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926" h="1637">
                    <a:moveTo>
                      <a:pt x="0" y="1228"/>
                    </a:moveTo>
                    <a:lnTo>
                      <a:pt x="306" y="1384"/>
                    </a:lnTo>
                    <a:lnTo>
                      <a:pt x="342" y="1541"/>
                    </a:lnTo>
                    <a:lnTo>
                      <a:pt x="447" y="1435"/>
                    </a:lnTo>
                    <a:lnTo>
                      <a:pt x="538" y="1477"/>
                    </a:lnTo>
                    <a:lnTo>
                      <a:pt x="586" y="1637"/>
                    </a:lnTo>
                    <a:lnTo>
                      <a:pt x="856" y="1578"/>
                    </a:lnTo>
                    <a:lnTo>
                      <a:pt x="856" y="1511"/>
                    </a:lnTo>
                    <a:lnTo>
                      <a:pt x="818" y="1370"/>
                    </a:lnTo>
                    <a:lnTo>
                      <a:pt x="757" y="1323"/>
                    </a:lnTo>
                    <a:lnTo>
                      <a:pt x="618" y="1369"/>
                    </a:lnTo>
                    <a:lnTo>
                      <a:pt x="555" y="1256"/>
                    </a:lnTo>
                    <a:lnTo>
                      <a:pt x="200" y="1317"/>
                    </a:lnTo>
                    <a:lnTo>
                      <a:pt x="122" y="1283"/>
                    </a:lnTo>
                    <a:lnTo>
                      <a:pt x="158" y="1192"/>
                    </a:lnTo>
                    <a:lnTo>
                      <a:pt x="114" y="764"/>
                    </a:lnTo>
                    <a:lnTo>
                      <a:pt x="61" y="530"/>
                    </a:lnTo>
                    <a:lnTo>
                      <a:pt x="209" y="414"/>
                    </a:lnTo>
                    <a:lnTo>
                      <a:pt x="382" y="190"/>
                    </a:lnTo>
                    <a:lnTo>
                      <a:pt x="517" y="198"/>
                    </a:lnTo>
                    <a:lnTo>
                      <a:pt x="614" y="270"/>
                    </a:lnTo>
                    <a:lnTo>
                      <a:pt x="709" y="515"/>
                    </a:lnTo>
                    <a:lnTo>
                      <a:pt x="926" y="559"/>
                    </a:lnTo>
                    <a:lnTo>
                      <a:pt x="846" y="192"/>
                    </a:lnTo>
                    <a:lnTo>
                      <a:pt x="717" y="46"/>
                    </a:lnTo>
                    <a:lnTo>
                      <a:pt x="618" y="9"/>
                    </a:lnTo>
                    <a:lnTo>
                      <a:pt x="521" y="0"/>
                    </a:lnTo>
                    <a:lnTo>
                      <a:pt x="299" y="154"/>
                    </a:lnTo>
                    <a:lnTo>
                      <a:pt x="50" y="431"/>
                    </a:lnTo>
                    <a:lnTo>
                      <a:pt x="10" y="540"/>
                    </a:lnTo>
                    <a:lnTo>
                      <a:pt x="17" y="587"/>
                    </a:lnTo>
                    <a:lnTo>
                      <a:pt x="72" y="768"/>
                    </a:lnTo>
                    <a:lnTo>
                      <a:pt x="114" y="1131"/>
                    </a:lnTo>
                    <a:lnTo>
                      <a:pt x="0" y="1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0"/>
              <p:cNvSpPr/>
              <p:nvPr/>
            </p:nvSpPr>
            <p:spPr>
              <a:xfrm>
                <a:off x="749520" y="4782600"/>
                <a:ext cx="849600" cy="72612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726120"/>
                  <a:gd name="textAreaBottom" fmla="*/ 726480 h 726120"/>
                </a:gdLst>
                <a:ahLst/>
                <a:rect l="textAreaLeft" t="textAreaTop" r="textAreaRight" b="textAreaBottom"/>
                <a:pathLst>
                  <a:path w="2973" h="2560">
                    <a:moveTo>
                      <a:pt x="928" y="212"/>
                    </a:moveTo>
                    <a:lnTo>
                      <a:pt x="743" y="615"/>
                    </a:lnTo>
                    <a:lnTo>
                      <a:pt x="947" y="515"/>
                    </a:lnTo>
                    <a:lnTo>
                      <a:pt x="979" y="522"/>
                    </a:lnTo>
                    <a:lnTo>
                      <a:pt x="1011" y="558"/>
                    </a:lnTo>
                    <a:lnTo>
                      <a:pt x="1122" y="505"/>
                    </a:lnTo>
                    <a:lnTo>
                      <a:pt x="1278" y="505"/>
                    </a:lnTo>
                    <a:lnTo>
                      <a:pt x="1382" y="420"/>
                    </a:lnTo>
                    <a:lnTo>
                      <a:pt x="2068" y="549"/>
                    </a:lnTo>
                    <a:lnTo>
                      <a:pt x="2251" y="661"/>
                    </a:lnTo>
                    <a:lnTo>
                      <a:pt x="2416" y="705"/>
                    </a:lnTo>
                    <a:lnTo>
                      <a:pt x="2565" y="805"/>
                    </a:lnTo>
                    <a:lnTo>
                      <a:pt x="2646" y="824"/>
                    </a:lnTo>
                    <a:lnTo>
                      <a:pt x="2738" y="901"/>
                    </a:lnTo>
                    <a:lnTo>
                      <a:pt x="2738" y="925"/>
                    </a:lnTo>
                    <a:lnTo>
                      <a:pt x="2770" y="952"/>
                    </a:lnTo>
                    <a:lnTo>
                      <a:pt x="2817" y="1053"/>
                    </a:lnTo>
                    <a:lnTo>
                      <a:pt x="2909" y="1165"/>
                    </a:lnTo>
                    <a:lnTo>
                      <a:pt x="2935" y="1300"/>
                    </a:lnTo>
                    <a:lnTo>
                      <a:pt x="2935" y="1404"/>
                    </a:lnTo>
                    <a:lnTo>
                      <a:pt x="2973" y="1465"/>
                    </a:lnTo>
                    <a:lnTo>
                      <a:pt x="2973" y="1526"/>
                    </a:lnTo>
                    <a:lnTo>
                      <a:pt x="2812" y="1718"/>
                    </a:lnTo>
                    <a:lnTo>
                      <a:pt x="2599" y="1933"/>
                    </a:lnTo>
                    <a:lnTo>
                      <a:pt x="2532" y="1910"/>
                    </a:lnTo>
                    <a:lnTo>
                      <a:pt x="2508" y="1781"/>
                    </a:lnTo>
                    <a:lnTo>
                      <a:pt x="2468" y="1729"/>
                    </a:lnTo>
                    <a:lnTo>
                      <a:pt x="2416" y="1900"/>
                    </a:lnTo>
                    <a:lnTo>
                      <a:pt x="2376" y="2370"/>
                    </a:lnTo>
                    <a:lnTo>
                      <a:pt x="2291" y="2560"/>
                    </a:lnTo>
                    <a:lnTo>
                      <a:pt x="738" y="2560"/>
                    </a:lnTo>
                    <a:lnTo>
                      <a:pt x="677" y="2391"/>
                    </a:lnTo>
                    <a:lnTo>
                      <a:pt x="764" y="2005"/>
                    </a:lnTo>
                    <a:lnTo>
                      <a:pt x="677" y="1260"/>
                    </a:lnTo>
                    <a:lnTo>
                      <a:pt x="460" y="1265"/>
                    </a:lnTo>
                    <a:lnTo>
                      <a:pt x="335" y="1353"/>
                    </a:lnTo>
                    <a:lnTo>
                      <a:pt x="184" y="1326"/>
                    </a:lnTo>
                    <a:lnTo>
                      <a:pt x="44" y="1265"/>
                    </a:lnTo>
                    <a:lnTo>
                      <a:pt x="0" y="1113"/>
                    </a:lnTo>
                    <a:lnTo>
                      <a:pt x="42" y="859"/>
                    </a:lnTo>
                    <a:lnTo>
                      <a:pt x="171" y="583"/>
                    </a:lnTo>
                    <a:lnTo>
                      <a:pt x="439" y="268"/>
                    </a:lnTo>
                    <a:lnTo>
                      <a:pt x="660" y="0"/>
                    </a:lnTo>
                    <a:lnTo>
                      <a:pt x="895" y="188"/>
                    </a:lnTo>
                    <a:lnTo>
                      <a:pt x="928" y="212"/>
                    </a:lnTo>
                    <a:close/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1"/>
              <p:cNvSpPr/>
              <p:nvPr/>
            </p:nvSpPr>
            <p:spPr>
              <a:xfrm>
                <a:off x="1107720" y="5127120"/>
                <a:ext cx="151920" cy="3819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530" h="1348">
                    <a:moveTo>
                      <a:pt x="530" y="42"/>
                    </a:moveTo>
                    <a:lnTo>
                      <a:pt x="498" y="93"/>
                    </a:lnTo>
                    <a:lnTo>
                      <a:pt x="452" y="148"/>
                    </a:lnTo>
                    <a:lnTo>
                      <a:pt x="469" y="270"/>
                    </a:lnTo>
                    <a:lnTo>
                      <a:pt x="391" y="646"/>
                    </a:lnTo>
                    <a:lnTo>
                      <a:pt x="292" y="903"/>
                    </a:lnTo>
                    <a:lnTo>
                      <a:pt x="218" y="1146"/>
                    </a:lnTo>
                    <a:lnTo>
                      <a:pt x="190" y="1276"/>
                    </a:lnTo>
                    <a:lnTo>
                      <a:pt x="173" y="1348"/>
                    </a:lnTo>
                    <a:lnTo>
                      <a:pt x="0" y="1348"/>
                    </a:lnTo>
                    <a:lnTo>
                      <a:pt x="95" y="987"/>
                    </a:lnTo>
                    <a:lnTo>
                      <a:pt x="241" y="603"/>
                    </a:lnTo>
                    <a:lnTo>
                      <a:pt x="367" y="186"/>
                    </a:lnTo>
                    <a:lnTo>
                      <a:pt x="424" y="143"/>
                    </a:lnTo>
                    <a:lnTo>
                      <a:pt x="407" y="78"/>
                    </a:lnTo>
                    <a:lnTo>
                      <a:pt x="405" y="0"/>
                    </a:lnTo>
                    <a:lnTo>
                      <a:pt x="479" y="8"/>
                    </a:lnTo>
                    <a:lnTo>
                      <a:pt x="511" y="25"/>
                    </a:lnTo>
                    <a:lnTo>
                      <a:pt x="530" y="42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2"/>
              <p:cNvSpPr/>
              <p:nvPr/>
            </p:nvSpPr>
            <p:spPr>
              <a:xfrm>
                <a:off x="1098720" y="5128920"/>
                <a:ext cx="140040" cy="38088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491" h="1344">
                    <a:moveTo>
                      <a:pt x="485" y="9"/>
                    </a:moveTo>
                    <a:lnTo>
                      <a:pt x="468" y="30"/>
                    </a:lnTo>
                    <a:lnTo>
                      <a:pt x="459" y="64"/>
                    </a:lnTo>
                    <a:lnTo>
                      <a:pt x="462" y="103"/>
                    </a:lnTo>
                    <a:lnTo>
                      <a:pt x="491" y="104"/>
                    </a:lnTo>
                    <a:lnTo>
                      <a:pt x="474" y="133"/>
                    </a:lnTo>
                    <a:lnTo>
                      <a:pt x="485" y="201"/>
                    </a:lnTo>
                    <a:lnTo>
                      <a:pt x="474" y="346"/>
                    </a:lnTo>
                    <a:lnTo>
                      <a:pt x="390" y="703"/>
                    </a:lnTo>
                    <a:lnTo>
                      <a:pt x="451" y="340"/>
                    </a:lnTo>
                    <a:lnTo>
                      <a:pt x="451" y="272"/>
                    </a:lnTo>
                    <a:lnTo>
                      <a:pt x="424" y="237"/>
                    </a:lnTo>
                    <a:lnTo>
                      <a:pt x="403" y="247"/>
                    </a:lnTo>
                    <a:lnTo>
                      <a:pt x="358" y="382"/>
                    </a:lnTo>
                    <a:lnTo>
                      <a:pt x="280" y="677"/>
                    </a:lnTo>
                    <a:lnTo>
                      <a:pt x="191" y="922"/>
                    </a:lnTo>
                    <a:lnTo>
                      <a:pt x="105" y="1211"/>
                    </a:lnTo>
                    <a:lnTo>
                      <a:pt x="75" y="1344"/>
                    </a:lnTo>
                    <a:lnTo>
                      <a:pt x="0" y="1344"/>
                    </a:lnTo>
                    <a:lnTo>
                      <a:pt x="71" y="1110"/>
                    </a:lnTo>
                    <a:lnTo>
                      <a:pt x="244" y="572"/>
                    </a:lnTo>
                    <a:lnTo>
                      <a:pt x="377" y="199"/>
                    </a:lnTo>
                    <a:lnTo>
                      <a:pt x="436" y="158"/>
                    </a:lnTo>
                    <a:lnTo>
                      <a:pt x="434" y="112"/>
                    </a:lnTo>
                    <a:lnTo>
                      <a:pt x="390" y="9"/>
                    </a:lnTo>
                    <a:lnTo>
                      <a:pt x="449" y="0"/>
                    </a:lnTo>
                    <a:lnTo>
                      <a:pt x="485" y="9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33"/>
              <p:cNvSpPr/>
              <p:nvPr/>
            </p:nvSpPr>
            <p:spPr>
              <a:xfrm>
                <a:off x="1143000" y="4579200"/>
                <a:ext cx="258120" cy="17244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903" h="606">
                    <a:moveTo>
                      <a:pt x="409" y="0"/>
                    </a:moveTo>
                    <a:lnTo>
                      <a:pt x="128" y="116"/>
                    </a:lnTo>
                    <a:lnTo>
                      <a:pt x="0" y="606"/>
                    </a:lnTo>
                    <a:lnTo>
                      <a:pt x="827" y="450"/>
                    </a:lnTo>
                    <a:lnTo>
                      <a:pt x="903" y="384"/>
                    </a:lnTo>
                    <a:lnTo>
                      <a:pt x="884" y="336"/>
                    </a:lnTo>
                    <a:lnTo>
                      <a:pt x="863" y="291"/>
                    </a:lnTo>
                    <a:lnTo>
                      <a:pt x="812" y="217"/>
                    </a:lnTo>
                    <a:lnTo>
                      <a:pt x="789" y="179"/>
                    </a:lnTo>
                    <a:lnTo>
                      <a:pt x="711" y="93"/>
                    </a:lnTo>
                    <a:lnTo>
                      <a:pt x="635" y="70"/>
                    </a:lnTo>
                    <a:lnTo>
                      <a:pt x="607" y="78"/>
                    </a:lnTo>
                    <a:lnTo>
                      <a:pt x="493" y="17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913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4"/>
              <p:cNvSpPr/>
              <p:nvPr/>
            </p:nvSpPr>
            <p:spPr>
              <a:xfrm>
                <a:off x="1564200" y="5195160"/>
                <a:ext cx="142920" cy="860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500" h="304">
                    <a:moveTo>
                      <a:pt x="0" y="228"/>
                    </a:moveTo>
                    <a:lnTo>
                      <a:pt x="91" y="180"/>
                    </a:lnTo>
                    <a:lnTo>
                      <a:pt x="178" y="131"/>
                    </a:lnTo>
                    <a:lnTo>
                      <a:pt x="245" y="114"/>
                    </a:lnTo>
                    <a:lnTo>
                      <a:pt x="300" y="121"/>
                    </a:lnTo>
                    <a:lnTo>
                      <a:pt x="367" y="157"/>
                    </a:lnTo>
                    <a:lnTo>
                      <a:pt x="443" y="230"/>
                    </a:lnTo>
                    <a:lnTo>
                      <a:pt x="488" y="304"/>
                    </a:lnTo>
                    <a:lnTo>
                      <a:pt x="500" y="233"/>
                    </a:lnTo>
                    <a:lnTo>
                      <a:pt x="492" y="157"/>
                    </a:lnTo>
                    <a:lnTo>
                      <a:pt x="460" y="125"/>
                    </a:lnTo>
                    <a:lnTo>
                      <a:pt x="418" y="102"/>
                    </a:lnTo>
                    <a:lnTo>
                      <a:pt x="408" y="78"/>
                    </a:lnTo>
                    <a:lnTo>
                      <a:pt x="401" y="40"/>
                    </a:lnTo>
                    <a:lnTo>
                      <a:pt x="376" y="17"/>
                    </a:lnTo>
                    <a:lnTo>
                      <a:pt x="332" y="0"/>
                    </a:lnTo>
                    <a:lnTo>
                      <a:pt x="119" y="68"/>
                    </a:lnTo>
                    <a:lnTo>
                      <a:pt x="83" y="110"/>
                    </a:lnTo>
                    <a:lnTo>
                      <a:pt x="19" y="150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5"/>
              <p:cNvSpPr/>
              <p:nvPr/>
            </p:nvSpPr>
            <p:spPr>
              <a:xfrm>
                <a:off x="1554480" y="5293800"/>
                <a:ext cx="108360" cy="1638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81" h="577">
                    <a:moveTo>
                      <a:pt x="16" y="399"/>
                    </a:moveTo>
                    <a:lnTo>
                      <a:pt x="80" y="344"/>
                    </a:lnTo>
                    <a:lnTo>
                      <a:pt x="137" y="188"/>
                    </a:lnTo>
                    <a:lnTo>
                      <a:pt x="101" y="169"/>
                    </a:lnTo>
                    <a:lnTo>
                      <a:pt x="82" y="136"/>
                    </a:lnTo>
                    <a:lnTo>
                      <a:pt x="0" y="115"/>
                    </a:lnTo>
                    <a:lnTo>
                      <a:pt x="4" y="70"/>
                    </a:lnTo>
                    <a:lnTo>
                      <a:pt x="29" y="47"/>
                    </a:lnTo>
                    <a:lnTo>
                      <a:pt x="190" y="0"/>
                    </a:lnTo>
                    <a:lnTo>
                      <a:pt x="280" y="0"/>
                    </a:lnTo>
                    <a:lnTo>
                      <a:pt x="312" y="55"/>
                    </a:lnTo>
                    <a:lnTo>
                      <a:pt x="354" y="159"/>
                    </a:lnTo>
                    <a:lnTo>
                      <a:pt x="369" y="256"/>
                    </a:lnTo>
                    <a:lnTo>
                      <a:pt x="381" y="313"/>
                    </a:lnTo>
                    <a:lnTo>
                      <a:pt x="381" y="366"/>
                    </a:lnTo>
                    <a:lnTo>
                      <a:pt x="367" y="401"/>
                    </a:lnTo>
                    <a:lnTo>
                      <a:pt x="67" y="577"/>
                    </a:lnTo>
                    <a:lnTo>
                      <a:pt x="16" y="399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6"/>
              <p:cNvSpPr/>
              <p:nvPr/>
            </p:nvSpPr>
            <p:spPr>
              <a:xfrm>
                <a:off x="1102680" y="4692960"/>
                <a:ext cx="277560" cy="41868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971" h="1477">
                    <a:moveTo>
                      <a:pt x="503" y="44"/>
                    </a:moveTo>
                    <a:lnTo>
                      <a:pt x="393" y="86"/>
                    </a:lnTo>
                    <a:lnTo>
                      <a:pt x="342" y="124"/>
                    </a:lnTo>
                    <a:lnTo>
                      <a:pt x="279" y="154"/>
                    </a:lnTo>
                    <a:lnTo>
                      <a:pt x="146" y="297"/>
                    </a:lnTo>
                    <a:lnTo>
                      <a:pt x="83" y="289"/>
                    </a:lnTo>
                    <a:lnTo>
                      <a:pt x="45" y="293"/>
                    </a:lnTo>
                    <a:lnTo>
                      <a:pt x="4" y="314"/>
                    </a:lnTo>
                    <a:lnTo>
                      <a:pt x="0" y="357"/>
                    </a:lnTo>
                    <a:lnTo>
                      <a:pt x="17" y="462"/>
                    </a:lnTo>
                    <a:lnTo>
                      <a:pt x="70" y="585"/>
                    </a:lnTo>
                    <a:lnTo>
                      <a:pt x="112" y="631"/>
                    </a:lnTo>
                    <a:lnTo>
                      <a:pt x="152" y="631"/>
                    </a:lnTo>
                    <a:lnTo>
                      <a:pt x="163" y="720"/>
                    </a:lnTo>
                    <a:lnTo>
                      <a:pt x="163" y="968"/>
                    </a:lnTo>
                    <a:lnTo>
                      <a:pt x="205" y="1118"/>
                    </a:lnTo>
                    <a:lnTo>
                      <a:pt x="348" y="1304"/>
                    </a:lnTo>
                    <a:lnTo>
                      <a:pt x="458" y="1435"/>
                    </a:lnTo>
                    <a:lnTo>
                      <a:pt x="464" y="1477"/>
                    </a:lnTo>
                    <a:lnTo>
                      <a:pt x="509" y="1336"/>
                    </a:lnTo>
                    <a:lnTo>
                      <a:pt x="637" y="1256"/>
                    </a:lnTo>
                    <a:lnTo>
                      <a:pt x="686" y="1241"/>
                    </a:lnTo>
                    <a:lnTo>
                      <a:pt x="720" y="1169"/>
                    </a:lnTo>
                    <a:lnTo>
                      <a:pt x="718" y="1135"/>
                    </a:lnTo>
                    <a:lnTo>
                      <a:pt x="718" y="1097"/>
                    </a:lnTo>
                    <a:lnTo>
                      <a:pt x="766" y="1040"/>
                    </a:lnTo>
                    <a:lnTo>
                      <a:pt x="827" y="943"/>
                    </a:lnTo>
                    <a:lnTo>
                      <a:pt x="857" y="859"/>
                    </a:lnTo>
                    <a:lnTo>
                      <a:pt x="901" y="739"/>
                    </a:lnTo>
                    <a:lnTo>
                      <a:pt x="935" y="610"/>
                    </a:lnTo>
                    <a:lnTo>
                      <a:pt x="954" y="511"/>
                    </a:lnTo>
                    <a:lnTo>
                      <a:pt x="954" y="431"/>
                    </a:lnTo>
                    <a:lnTo>
                      <a:pt x="954" y="289"/>
                    </a:lnTo>
                    <a:lnTo>
                      <a:pt x="971" y="34"/>
                    </a:lnTo>
                    <a:lnTo>
                      <a:pt x="937" y="0"/>
                    </a:lnTo>
                    <a:lnTo>
                      <a:pt x="549" y="108"/>
                    </a:lnTo>
                    <a:lnTo>
                      <a:pt x="475" y="108"/>
                    </a:lnTo>
                    <a:lnTo>
                      <a:pt x="503" y="4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7"/>
              <p:cNvSpPr/>
              <p:nvPr/>
            </p:nvSpPr>
            <p:spPr>
              <a:xfrm>
                <a:off x="826560" y="4927320"/>
                <a:ext cx="73080" cy="1036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57" h="365">
                    <a:moveTo>
                      <a:pt x="257" y="0"/>
                    </a:moveTo>
                    <a:lnTo>
                      <a:pt x="222" y="25"/>
                    </a:lnTo>
                    <a:lnTo>
                      <a:pt x="141" y="146"/>
                    </a:lnTo>
                    <a:lnTo>
                      <a:pt x="97" y="186"/>
                    </a:lnTo>
                    <a:lnTo>
                      <a:pt x="28" y="279"/>
                    </a:lnTo>
                    <a:lnTo>
                      <a:pt x="0" y="365"/>
                    </a:lnTo>
                    <a:lnTo>
                      <a:pt x="67" y="333"/>
                    </a:lnTo>
                    <a:lnTo>
                      <a:pt x="127" y="270"/>
                    </a:lnTo>
                    <a:lnTo>
                      <a:pt x="245" y="72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38"/>
              <p:cNvSpPr/>
              <p:nvPr/>
            </p:nvSpPr>
            <p:spPr>
              <a:xfrm>
                <a:off x="945000" y="4574520"/>
                <a:ext cx="326160" cy="28440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141" h="1003">
                    <a:moveTo>
                      <a:pt x="251" y="939"/>
                    </a:moveTo>
                    <a:lnTo>
                      <a:pt x="310" y="785"/>
                    </a:lnTo>
                    <a:lnTo>
                      <a:pt x="396" y="659"/>
                    </a:lnTo>
                    <a:lnTo>
                      <a:pt x="514" y="640"/>
                    </a:lnTo>
                    <a:lnTo>
                      <a:pt x="573" y="608"/>
                    </a:lnTo>
                    <a:lnTo>
                      <a:pt x="632" y="536"/>
                    </a:lnTo>
                    <a:lnTo>
                      <a:pt x="730" y="572"/>
                    </a:lnTo>
                    <a:lnTo>
                      <a:pt x="793" y="505"/>
                    </a:lnTo>
                    <a:lnTo>
                      <a:pt x="926" y="437"/>
                    </a:lnTo>
                    <a:lnTo>
                      <a:pt x="1012" y="306"/>
                    </a:lnTo>
                    <a:lnTo>
                      <a:pt x="1141" y="239"/>
                    </a:lnTo>
                    <a:lnTo>
                      <a:pt x="1103" y="129"/>
                    </a:lnTo>
                    <a:lnTo>
                      <a:pt x="934" y="0"/>
                    </a:lnTo>
                    <a:lnTo>
                      <a:pt x="881" y="0"/>
                    </a:lnTo>
                    <a:lnTo>
                      <a:pt x="803" y="15"/>
                    </a:lnTo>
                    <a:lnTo>
                      <a:pt x="668" y="66"/>
                    </a:lnTo>
                    <a:lnTo>
                      <a:pt x="645" y="83"/>
                    </a:lnTo>
                    <a:lnTo>
                      <a:pt x="622" y="120"/>
                    </a:lnTo>
                    <a:lnTo>
                      <a:pt x="466" y="308"/>
                    </a:lnTo>
                    <a:lnTo>
                      <a:pt x="367" y="389"/>
                    </a:lnTo>
                    <a:lnTo>
                      <a:pt x="215" y="488"/>
                    </a:lnTo>
                    <a:lnTo>
                      <a:pt x="164" y="549"/>
                    </a:lnTo>
                    <a:lnTo>
                      <a:pt x="0" y="777"/>
                    </a:lnTo>
                    <a:lnTo>
                      <a:pt x="73" y="996"/>
                    </a:lnTo>
                    <a:lnTo>
                      <a:pt x="164" y="1003"/>
                    </a:lnTo>
                    <a:lnTo>
                      <a:pt x="251" y="939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9"/>
              <p:cNvSpPr/>
              <p:nvPr/>
            </p:nvSpPr>
            <p:spPr>
              <a:xfrm>
                <a:off x="1218600" y="4817880"/>
                <a:ext cx="78120" cy="4752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73" h="167">
                    <a:moveTo>
                      <a:pt x="19" y="0"/>
                    </a:moveTo>
                    <a:lnTo>
                      <a:pt x="96" y="0"/>
                    </a:lnTo>
                    <a:lnTo>
                      <a:pt x="140" y="23"/>
                    </a:lnTo>
                    <a:lnTo>
                      <a:pt x="245" y="23"/>
                    </a:lnTo>
                    <a:lnTo>
                      <a:pt x="273" y="93"/>
                    </a:lnTo>
                    <a:lnTo>
                      <a:pt x="228" y="167"/>
                    </a:lnTo>
                    <a:lnTo>
                      <a:pt x="247" y="105"/>
                    </a:lnTo>
                    <a:lnTo>
                      <a:pt x="228" y="82"/>
                    </a:lnTo>
                    <a:lnTo>
                      <a:pt x="152" y="137"/>
                    </a:lnTo>
                    <a:lnTo>
                      <a:pt x="133" y="137"/>
                    </a:lnTo>
                    <a:lnTo>
                      <a:pt x="72" y="112"/>
                    </a:lnTo>
                    <a:lnTo>
                      <a:pt x="36" y="105"/>
                    </a:lnTo>
                    <a:lnTo>
                      <a:pt x="0" y="76"/>
                    </a:lnTo>
                    <a:lnTo>
                      <a:pt x="53" y="101"/>
                    </a:lnTo>
                    <a:lnTo>
                      <a:pt x="110" y="101"/>
                    </a:lnTo>
                    <a:lnTo>
                      <a:pt x="169" y="82"/>
                    </a:lnTo>
                    <a:lnTo>
                      <a:pt x="117" y="63"/>
                    </a:lnTo>
                    <a:lnTo>
                      <a:pt x="36" y="1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40"/>
              <p:cNvSpPr/>
              <p:nvPr/>
            </p:nvSpPr>
            <p:spPr>
              <a:xfrm>
                <a:off x="1205640" y="4824720"/>
                <a:ext cx="18720" cy="50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65" h="19">
                    <a:moveTo>
                      <a:pt x="65" y="0"/>
                    </a:moveTo>
                    <a:lnTo>
                      <a:pt x="36" y="19"/>
                    </a:lnTo>
                    <a:lnTo>
                      <a:pt x="0" y="19"/>
                    </a:lnTo>
                    <a:lnTo>
                      <a:pt x="2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41"/>
              <p:cNvSpPr/>
              <p:nvPr/>
            </p:nvSpPr>
            <p:spPr>
              <a:xfrm>
                <a:off x="1316880" y="4806000"/>
                <a:ext cx="52200" cy="43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82" h="156">
                    <a:moveTo>
                      <a:pt x="0" y="137"/>
                    </a:moveTo>
                    <a:lnTo>
                      <a:pt x="2" y="86"/>
                    </a:lnTo>
                    <a:lnTo>
                      <a:pt x="60" y="44"/>
                    </a:lnTo>
                    <a:lnTo>
                      <a:pt x="136" y="27"/>
                    </a:lnTo>
                    <a:lnTo>
                      <a:pt x="182" y="0"/>
                    </a:lnTo>
                    <a:lnTo>
                      <a:pt x="163" y="50"/>
                    </a:lnTo>
                    <a:lnTo>
                      <a:pt x="97" y="67"/>
                    </a:lnTo>
                    <a:lnTo>
                      <a:pt x="51" y="86"/>
                    </a:lnTo>
                    <a:lnTo>
                      <a:pt x="60" y="107"/>
                    </a:lnTo>
                    <a:lnTo>
                      <a:pt x="104" y="107"/>
                    </a:lnTo>
                    <a:lnTo>
                      <a:pt x="150" y="93"/>
                    </a:lnTo>
                    <a:lnTo>
                      <a:pt x="83" y="145"/>
                    </a:lnTo>
                    <a:lnTo>
                      <a:pt x="28" y="126"/>
                    </a:lnTo>
                    <a:lnTo>
                      <a:pt x="0" y="156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2"/>
              <p:cNvSpPr/>
              <p:nvPr/>
            </p:nvSpPr>
            <p:spPr>
              <a:xfrm>
                <a:off x="1234080" y="4892400"/>
                <a:ext cx="95400" cy="662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34" h="234">
                    <a:moveTo>
                      <a:pt x="45" y="181"/>
                    </a:moveTo>
                    <a:lnTo>
                      <a:pt x="91" y="168"/>
                    </a:lnTo>
                    <a:lnTo>
                      <a:pt x="140" y="168"/>
                    </a:lnTo>
                    <a:lnTo>
                      <a:pt x="220" y="192"/>
                    </a:lnTo>
                    <a:lnTo>
                      <a:pt x="262" y="192"/>
                    </a:lnTo>
                    <a:lnTo>
                      <a:pt x="313" y="185"/>
                    </a:lnTo>
                    <a:lnTo>
                      <a:pt x="334" y="181"/>
                    </a:lnTo>
                    <a:lnTo>
                      <a:pt x="334" y="202"/>
                    </a:lnTo>
                    <a:lnTo>
                      <a:pt x="313" y="200"/>
                    </a:lnTo>
                    <a:lnTo>
                      <a:pt x="264" y="211"/>
                    </a:lnTo>
                    <a:lnTo>
                      <a:pt x="211" y="211"/>
                    </a:lnTo>
                    <a:lnTo>
                      <a:pt x="142" y="185"/>
                    </a:lnTo>
                    <a:lnTo>
                      <a:pt x="99" y="185"/>
                    </a:lnTo>
                    <a:lnTo>
                      <a:pt x="51" y="211"/>
                    </a:lnTo>
                    <a:lnTo>
                      <a:pt x="45" y="234"/>
                    </a:lnTo>
                    <a:lnTo>
                      <a:pt x="11" y="225"/>
                    </a:lnTo>
                    <a:lnTo>
                      <a:pt x="0" y="158"/>
                    </a:lnTo>
                    <a:lnTo>
                      <a:pt x="36" y="56"/>
                    </a:lnTo>
                    <a:lnTo>
                      <a:pt x="114" y="0"/>
                    </a:lnTo>
                    <a:lnTo>
                      <a:pt x="62" y="61"/>
                    </a:lnTo>
                    <a:lnTo>
                      <a:pt x="43" y="118"/>
                    </a:lnTo>
                    <a:lnTo>
                      <a:pt x="11" y="160"/>
                    </a:lnTo>
                    <a:lnTo>
                      <a:pt x="45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3"/>
              <p:cNvSpPr/>
              <p:nvPr/>
            </p:nvSpPr>
            <p:spPr>
              <a:xfrm>
                <a:off x="1256760" y="4965840"/>
                <a:ext cx="60480" cy="19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3" h="68">
                    <a:moveTo>
                      <a:pt x="203" y="6"/>
                    </a:moveTo>
                    <a:lnTo>
                      <a:pt x="161" y="17"/>
                    </a:lnTo>
                    <a:lnTo>
                      <a:pt x="114" y="26"/>
                    </a:lnTo>
                    <a:lnTo>
                      <a:pt x="78" y="11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49" y="17"/>
                    </a:lnTo>
                    <a:lnTo>
                      <a:pt x="62" y="36"/>
                    </a:lnTo>
                    <a:lnTo>
                      <a:pt x="49" y="44"/>
                    </a:lnTo>
                    <a:lnTo>
                      <a:pt x="83" y="68"/>
                    </a:lnTo>
                    <a:lnTo>
                      <a:pt x="131" y="68"/>
                    </a:lnTo>
                    <a:lnTo>
                      <a:pt x="176" y="49"/>
                    </a:lnTo>
                    <a:lnTo>
                      <a:pt x="213" y="17"/>
                    </a:lnTo>
                    <a:lnTo>
                      <a:pt x="2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44"/>
              <p:cNvSpPr/>
              <p:nvPr/>
            </p:nvSpPr>
            <p:spPr>
              <a:xfrm>
                <a:off x="1267200" y="4851360"/>
                <a:ext cx="62640" cy="8136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220" h="287">
                    <a:moveTo>
                      <a:pt x="26" y="133"/>
                    </a:moveTo>
                    <a:lnTo>
                      <a:pt x="13" y="161"/>
                    </a:lnTo>
                    <a:lnTo>
                      <a:pt x="15" y="180"/>
                    </a:lnTo>
                    <a:lnTo>
                      <a:pt x="42" y="192"/>
                    </a:lnTo>
                    <a:lnTo>
                      <a:pt x="62" y="203"/>
                    </a:lnTo>
                    <a:lnTo>
                      <a:pt x="104" y="241"/>
                    </a:lnTo>
                    <a:lnTo>
                      <a:pt x="158" y="247"/>
                    </a:lnTo>
                    <a:lnTo>
                      <a:pt x="197" y="241"/>
                    </a:lnTo>
                    <a:lnTo>
                      <a:pt x="211" y="215"/>
                    </a:lnTo>
                    <a:lnTo>
                      <a:pt x="211" y="186"/>
                    </a:lnTo>
                    <a:lnTo>
                      <a:pt x="182" y="68"/>
                    </a:lnTo>
                    <a:lnTo>
                      <a:pt x="175" y="0"/>
                    </a:lnTo>
                    <a:lnTo>
                      <a:pt x="197" y="99"/>
                    </a:lnTo>
                    <a:lnTo>
                      <a:pt x="220" y="186"/>
                    </a:lnTo>
                    <a:lnTo>
                      <a:pt x="220" y="209"/>
                    </a:lnTo>
                    <a:lnTo>
                      <a:pt x="207" y="247"/>
                    </a:lnTo>
                    <a:lnTo>
                      <a:pt x="177" y="264"/>
                    </a:lnTo>
                    <a:lnTo>
                      <a:pt x="129" y="287"/>
                    </a:lnTo>
                    <a:lnTo>
                      <a:pt x="76" y="277"/>
                    </a:lnTo>
                    <a:lnTo>
                      <a:pt x="47" y="241"/>
                    </a:lnTo>
                    <a:lnTo>
                      <a:pt x="32" y="215"/>
                    </a:lnTo>
                    <a:lnTo>
                      <a:pt x="7" y="192"/>
                    </a:lnTo>
                    <a:lnTo>
                      <a:pt x="0" y="161"/>
                    </a:lnTo>
                    <a:lnTo>
                      <a:pt x="26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5"/>
              <p:cNvSpPr/>
              <p:nvPr/>
            </p:nvSpPr>
            <p:spPr>
              <a:xfrm>
                <a:off x="1186200" y="4572000"/>
                <a:ext cx="190800" cy="178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668" h="631">
                    <a:moveTo>
                      <a:pt x="651" y="455"/>
                    </a:moveTo>
                    <a:lnTo>
                      <a:pt x="588" y="534"/>
                    </a:lnTo>
                    <a:lnTo>
                      <a:pt x="405" y="631"/>
                    </a:lnTo>
                    <a:lnTo>
                      <a:pt x="343" y="631"/>
                    </a:lnTo>
                    <a:lnTo>
                      <a:pt x="424" y="569"/>
                    </a:lnTo>
                    <a:lnTo>
                      <a:pt x="326" y="569"/>
                    </a:lnTo>
                    <a:lnTo>
                      <a:pt x="464" y="498"/>
                    </a:lnTo>
                    <a:lnTo>
                      <a:pt x="259" y="542"/>
                    </a:lnTo>
                    <a:lnTo>
                      <a:pt x="183" y="536"/>
                    </a:lnTo>
                    <a:lnTo>
                      <a:pt x="204" y="493"/>
                    </a:lnTo>
                    <a:lnTo>
                      <a:pt x="196" y="529"/>
                    </a:lnTo>
                    <a:lnTo>
                      <a:pt x="248" y="529"/>
                    </a:lnTo>
                    <a:lnTo>
                      <a:pt x="487" y="462"/>
                    </a:lnTo>
                    <a:lnTo>
                      <a:pt x="339" y="445"/>
                    </a:lnTo>
                    <a:lnTo>
                      <a:pt x="457" y="413"/>
                    </a:lnTo>
                    <a:lnTo>
                      <a:pt x="588" y="413"/>
                    </a:lnTo>
                    <a:lnTo>
                      <a:pt x="413" y="363"/>
                    </a:lnTo>
                    <a:lnTo>
                      <a:pt x="578" y="369"/>
                    </a:lnTo>
                    <a:lnTo>
                      <a:pt x="546" y="329"/>
                    </a:lnTo>
                    <a:lnTo>
                      <a:pt x="445" y="282"/>
                    </a:lnTo>
                    <a:lnTo>
                      <a:pt x="419" y="221"/>
                    </a:lnTo>
                    <a:lnTo>
                      <a:pt x="519" y="257"/>
                    </a:lnTo>
                    <a:lnTo>
                      <a:pt x="451" y="173"/>
                    </a:lnTo>
                    <a:lnTo>
                      <a:pt x="343" y="139"/>
                    </a:lnTo>
                    <a:lnTo>
                      <a:pt x="426" y="118"/>
                    </a:lnTo>
                    <a:lnTo>
                      <a:pt x="350" y="61"/>
                    </a:lnTo>
                    <a:lnTo>
                      <a:pt x="276" y="55"/>
                    </a:lnTo>
                    <a:lnTo>
                      <a:pt x="225" y="78"/>
                    </a:lnTo>
                    <a:lnTo>
                      <a:pt x="379" y="253"/>
                    </a:lnTo>
                    <a:lnTo>
                      <a:pt x="310" y="221"/>
                    </a:lnTo>
                    <a:lnTo>
                      <a:pt x="350" y="308"/>
                    </a:lnTo>
                    <a:lnTo>
                      <a:pt x="301" y="301"/>
                    </a:lnTo>
                    <a:lnTo>
                      <a:pt x="360" y="369"/>
                    </a:lnTo>
                    <a:lnTo>
                      <a:pt x="240" y="379"/>
                    </a:lnTo>
                    <a:lnTo>
                      <a:pt x="130" y="418"/>
                    </a:lnTo>
                    <a:lnTo>
                      <a:pt x="151" y="257"/>
                    </a:lnTo>
                    <a:lnTo>
                      <a:pt x="130" y="217"/>
                    </a:lnTo>
                    <a:lnTo>
                      <a:pt x="0" y="162"/>
                    </a:lnTo>
                    <a:lnTo>
                      <a:pt x="96" y="154"/>
                    </a:lnTo>
                    <a:lnTo>
                      <a:pt x="251" y="246"/>
                    </a:lnTo>
                    <a:lnTo>
                      <a:pt x="293" y="246"/>
                    </a:lnTo>
                    <a:lnTo>
                      <a:pt x="263" y="147"/>
                    </a:lnTo>
                    <a:lnTo>
                      <a:pt x="101" y="17"/>
                    </a:lnTo>
                    <a:lnTo>
                      <a:pt x="35" y="17"/>
                    </a:lnTo>
                    <a:lnTo>
                      <a:pt x="111" y="0"/>
                    </a:lnTo>
                    <a:lnTo>
                      <a:pt x="371" y="29"/>
                    </a:lnTo>
                    <a:lnTo>
                      <a:pt x="478" y="107"/>
                    </a:lnTo>
                    <a:lnTo>
                      <a:pt x="470" y="147"/>
                    </a:lnTo>
                    <a:lnTo>
                      <a:pt x="578" y="206"/>
                    </a:lnTo>
                    <a:lnTo>
                      <a:pt x="546" y="227"/>
                    </a:lnTo>
                    <a:lnTo>
                      <a:pt x="595" y="232"/>
                    </a:lnTo>
                    <a:lnTo>
                      <a:pt x="569" y="246"/>
                    </a:lnTo>
                    <a:lnTo>
                      <a:pt x="622" y="282"/>
                    </a:lnTo>
                    <a:lnTo>
                      <a:pt x="588" y="289"/>
                    </a:lnTo>
                    <a:lnTo>
                      <a:pt x="635" y="335"/>
                    </a:lnTo>
                    <a:lnTo>
                      <a:pt x="630" y="369"/>
                    </a:lnTo>
                    <a:lnTo>
                      <a:pt x="595" y="379"/>
                    </a:lnTo>
                    <a:lnTo>
                      <a:pt x="611" y="411"/>
                    </a:lnTo>
                    <a:lnTo>
                      <a:pt x="668" y="428"/>
                    </a:lnTo>
                    <a:lnTo>
                      <a:pt x="651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46"/>
              <p:cNvSpPr/>
              <p:nvPr/>
            </p:nvSpPr>
            <p:spPr>
              <a:xfrm>
                <a:off x="1334520" y="4601880"/>
                <a:ext cx="69120" cy="196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244" h="692">
                    <a:moveTo>
                      <a:pt x="0" y="0"/>
                    </a:moveTo>
                    <a:lnTo>
                      <a:pt x="69" y="17"/>
                    </a:lnTo>
                    <a:lnTo>
                      <a:pt x="162" y="131"/>
                    </a:lnTo>
                    <a:lnTo>
                      <a:pt x="204" y="216"/>
                    </a:lnTo>
                    <a:lnTo>
                      <a:pt x="244" y="275"/>
                    </a:lnTo>
                    <a:lnTo>
                      <a:pt x="240" y="331"/>
                    </a:lnTo>
                    <a:lnTo>
                      <a:pt x="196" y="376"/>
                    </a:lnTo>
                    <a:lnTo>
                      <a:pt x="196" y="456"/>
                    </a:lnTo>
                    <a:lnTo>
                      <a:pt x="153" y="593"/>
                    </a:lnTo>
                    <a:lnTo>
                      <a:pt x="143" y="692"/>
                    </a:lnTo>
                    <a:lnTo>
                      <a:pt x="132" y="610"/>
                    </a:lnTo>
                    <a:lnTo>
                      <a:pt x="143" y="376"/>
                    </a:lnTo>
                    <a:lnTo>
                      <a:pt x="134" y="331"/>
                    </a:lnTo>
                    <a:lnTo>
                      <a:pt x="196" y="331"/>
                    </a:lnTo>
                    <a:lnTo>
                      <a:pt x="221" y="289"/>
                    </a:lnTo>
                    <a:lnTo>
                      <a:pt x="173" y="272"/>
                    </a:lnTo>
                    <a:lnTo>
                      <a:pt x="206" y="256"/>
                    </a:lnTo>
                    <a:lnTo>
                      <a:pt x="139" y="201"/>
                    </a:lnTo>
                    <a:lnTo>
                      <a:pt x="179" y="194"/>
                    </a:lnTo>
                    <a:lnTo>
                      <a:pt x="116" y="125"/>
                    </a:lnTo>
                    <a:lnTo>
                      <a:pt x="120" y="99"/>
                    </a:lnTo>
                    <a:lnTo>
                      <a:pt x="59" y="55"/>
                    </a:lnTo>
                    <a:lnTo>
                      <a:pt x="5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47"/>
              <p:cNvSpPr/>
              <p:nvPr/>
            </p:nvSpPr>
            <p:spPr>
              <a:xfrm>
                <a:off x="1153440" y="4656960"/>
                <a:ext cx="74880" cy="759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63" h="268">
                    <a:moveTo>
                      <a:pt x="263" y="0"/>
                    </a:moveTo>
                    <a:lnTo>
                      <a:pt x="192" y="144"/>
                    </a:lnTo>
                    <a:lnTo>
                      <a:pt x="141" y="178"/>
                    </a:lnTo>
                    <a:lnTo>
                      <a:pt x="48" y="222"/>
                    </a:lnTo>
                    <a:lnTo>
                      <a:pt x="0" y="268"/>
                    </a:lnTo>
                    <a:lnTo>
                      <a:pt x="63" y="233"/>
                    </a:lnTo>
                    <a:lnTo>
                      <a:pt x="160" y="209"/>
                    </a:lnTo>
                    <a:lnTo>
                      <a:pt x="215" y="161"/>
                    </a:lnTo>
                    <a:lnTo>
                      <a:pt x="246" y="11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48"/>
              <p:cNvSpPr/>
              <p:nvPr/>
            </p:nvSpPr>
            <p:spPr>
              <a:xfrm>
                <a:off x="1058040" y="4668120"/>
                <a:ext cx="126720" cy="135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45" h="475">
                    <a:moveTo>
                      <a:pt x="397" y="0"/>
                    </a:moveTo>
                    <a:lnTo>
                      <a:pt x="397" y="38"/>
                    </a:lnTo>
                    <a:lnTo>
                      <a:pt x="405" y="55"/>
                    </a:lnTo>
                    <a:lnTo>
                      <a:pt x="445" y="77"/>
                    </a:lnTo>
                    <a:lnTo>
                      <a:pt x="410" y="77"/>
                    </a:lnTo>
                    <a:lnTo>
                      <a:pt x="369" y="104"/>
                    </a:lnTo>
                    <a:lnTo>
                      <a:pt x="327" y="152"/>
                    </a:lnTo>
                    <a:lnTo>
                      <a:pt x="315" y="188"/>
                    </a:lnTo>
                    <a:lnTo>
                      <a:pt x="315" y="218"/>
                    </a:lnTo>
                    <a:lnTo>
                      <a:pt x="334" y="228"/>
                    </a:lnTo>
                    <a:lnTo>
                      <a:pt x="410" y="188"/>
                    </a:lnTo>
                    <a:lnTo>
                      <a:pt x="378" y="254"/>
                    </a:lnTo>
                    <a:lnTo>
                      <a:pt x="422" y="241"/>
                    </a:lnTo>
                    <a:lnTo>
                      <a:pt x="410" y="298"/>
                    </a:lnTo>
                    <a:lnTo>
                      <a:pt x="410" y="353"/>
                    </a:lnTo>
                    <a:lnTo>
                      <a:pt x="353" y="404"/>
                    </a:lnTo>
                    <a:lnTo>
                      <a:pt x="352" y="475"/>
                    </a:lnTo>
                    <a:lnTo>
                      <a:pt x="327" y="469"/>
                    </a:lnTo>
                    <a:lnTo>
                      <a:pt x="264" y="397"/>
                    </a:lnTo>
                    <a:lnTo>
                      <a:pt x="236" y="380"/>
                    </a:lnTo>
                    <a:lnTo>
                      <a:pt x="205" y="380"/>
                    </a:lnTo>
                    <a:lnTo>
                      <a:pt x="239" y="366"/>
                    </a:lnTo>
                    <a:lnTo>
                      <a:pt x="256" y="359"/>
                    </a:lnTo>
                    <a:lnTo>
                      <a:pt x="239" y="228"/>
                    </a:lnTo>
                    <a:lnTo>
                      <a:pt x="186" y="300"/>
                    </a:lnTo>
                    <a:lnTo>
                      <a:pt x="97" y="332"/>
                    </a:lnTo>
                    <a:lnTo>
                      <a:pt x="0" y="328"/>
                    </a:lnTo>
                    <a:lnTo>
                      <a:pt x="83" y="279"/>
                    </a:lnTo>
                    <a:lnTo>
                      <a:pt x="146" y="290"/>
                    </a:lnTo>
                    <a:lnTo>
                      <a:pt x="217" y="228"/>
                    </a:lnTo>
                    <a:lnTo>
                      <a:pt x="283" y="142"/>
                    </a:lnTo>
                    <a:lnTo>
                      <a:pt x="327" y="89"/>
                    </a:lnTo>
                    <a:lnTo>
                      <a:pt x="382" y="60"/>
                    </a:lnTo>
                    <a:lnTo>
                      <a:pt x="386" y="41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49"/>
              <p:cNvSpPr/>
              <p:nvPr/>
            </p:nvSpPr>
            <p:spPr>
              <a:xfrm>
                <a:off x="1176480" y="4637520"/>
                <a:ext cx="35280" cy="208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24" h="74">
                    <a:moveTo>
                      <a:pt x="95" y="74"/>
                    </a:moveTo>
                    <a:lnTo>
                      <a:pt x="124" y="42"/>
                    </a:lnTo>
                    <a:lnTo>
                      <a:pt x="86" y="42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95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0"/>
              <p:cNvSpPr/>
              <p:nvPr/>
            </p:nvSpPr>
            <p:spPr>
              <a:xfrm>
                <a:off x="1142640" y="4578120"/>
                <a:ext cx="42120" cy="158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9" h="57">
                    <a:moveTo>
                      <a:pt x="149" y="0"/>
                    </a:moveTo>
                    <a:lnTo>
                      <a:pt x="0" y="57"/>
                    </a:lnTo>
                    <a:lnTo>
                      <a:pt x="118" y="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51"/>
              <p:cNvSpPr/>
              <p:nvPr/>
            </p:nvSpPr>
            <p:spPr>
              <a:xfrm>
                <a:off x="947880" y="4598280"/>
                <a:ext cx="183240" cy="192240"/>
              </a:xfrm>
              <a:custGeom>
                <a:avLst/>
                <a:gdLst>
                  <a:gd name="textAreaLeft" fmla="*/ 0 w 183240"/>
                  <a:gd name="textAreaRight" fmla="*/ 183600 w 1832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42" h="679">
                    <a:moveTo>
                      <a:pt x="635" y="0"/>
                    </a:moveTo>
                    <a:lnTo>
                      <a:pt x="642" y="23"/>
                    </a:lnTo>
                    <a:lnTo>
                      <a:pt x="525" y="153"/>
                    </a:lnTo>
                    <a:lnTo>
                      <a:pt x="473" y="225"/>
                    </a:lnTo>
                    <a:lnTo>
                      <a:pt x="378" y="320"/>
                    </a:lnTo>
                    <a:lnTo>
                      <a:pt x="230" y="417"/>
                    </a:lnTo>
                    <a:lnTo>
                      <a:pt x="175" y="470"/>
                    </a:lnTo>
                    <a:lnTo>
                      <a:pt x="0" y="679"/>
                    </a:lnTo>
                    <a:lnTo>
                      <a:pt x="146" y="466"/>
                    </a:lnTo>
                    <a:lnTo>
                      <a:pt x="215" y="390"/>
                    </a:lnTo>
                    <a:lnTo>
                      <a:pt x="308" y="341"/>
                    </a:lnTo>
                    <a:lnTo>
                      <a:pt x="405" y="270"/>
                    </a:lnTo>
                    <a:lnTo>
                      <a:pt x="475" y="202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52"/>
              <p:cNvSpPr/>
              <p:nvPr/>
            </p:nvSpPr>
            <p:spPr>
              <a:xfrm>
                <a:off x="1166040" y="4798080"/>
                <a:ext cx="210960" cy="22428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738" h="790">
                    <a:moveTo>
                      <a:pt x="732" y="0"/>
                    </a:moveTo>
                    <a:lnTo>
                      <a:pt x="738" y="148"/>
                    </a:lnTo>
                    <a:lnTo>
                      <a:pt x="711" y="283"/>
                    </a:lnTo>
                    <a:lnTo>
                      <a:pt x="616" y="562"/>
                    </a:lnTo>
                    <a:lnTo>
                      <a:pt x="565" y="642"/>
                    </a:lnTo>
                    <a:lnTo>
                      <a:pt x="565" y="787"/>
                    </a:lnTo>
                    <a:lnTo>
                      <a:pt x="534" y="790"/>
                    </a:lnTo>
                    <a:lnTo>
                      <a:pt x="489" y="739"/>
                    </a:lnTo>
                    <a:lnTo>
                      <a:pt x="432" y="768"/>
                    </a:lnTo>
                    <a:lnTo>
                      <a:pt x="405" y="768"/>
                    </a:lnTo>
                    <a:lnTo>
                      <a:pt x="321" y="764"/>
                    </a:lnTo>
                    <a:lnTo>
                      <a:pt x="226" y="726"/>
                    </a:lnTo>
                    <a:lnTo>
                      <a:pt x="116" y="663"/>
                    </a:lnTo>
                    <a:lnTo>
                      <a:pt x="25" y="528"/>
                    </a:lnTo>
                    <a:lnTo>
                      <a:pt x="0" y="418"/>
                    </a:lnTo>
                    <a:lnTo>
                      <a:pt x="48" y="532"/>
                    </a:lnTo>
                    <a:lnTo>
                      <a:pt x="211" y="703"/>
                    </a:lnTo>
                    <a:lnTo>
                      <a:pt x="333" y="750"/>
                    </a:lnTo>
                    <a:lnTo>
                      <a:pt x="413" y="754"/>
                    </a:lnTo>
                    <a:lnTo>
                      <a:pt x="489" y="726"/>
                    </a:lnTo>
                    <a:lnTo>
                      <a:pt x="534" y="673"/>
                    </a:lnTo>
                    <a:lnTo>
                      <a:pt x="582" y="583"/>
                    </a:lnTo>
                    <a:lnTo>
                      <a:pt x="616" y="532"/>
                    </a:lnTo>
                    <a:lnTo>
                      <a:pt x="643" y="435"/>
                    </a:lnTo>
                    <a:lnTo>
                      <a:pt x="692" y="313"/>
                    </a:lnTo>
                    <a:lnTo>
                      <a:pt x="709" y="163"/>
                    </a:lnTo>
                    <a:lnTo>
                      <a:pt x="728" y="118"/>
                    </a:lnTo>
                    <a:lnTo>
                      <a:pt x="7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53"/>
              <p:cNvSpPr/>
              <p:nvPr/>
            </p:nvSpPr>
            <p:spPr>
              <a:xfrm>
                <a:off x="1102680" y="4792320"/>
                <a:ext cx="129960" cy="308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08880"/>
                  <a:gd name="textAreaBottom" fmla="*/ 309240 h 308880"/>
                </a:gdLst>
                <a:ahLst/>
                <a:rect l="textAreaLeft" t="textAreaTop" r="textAreaRight" b="textAreaBottom"/>
                <a:pathLst>
                  <a:path w="456" h="1091">
                    <a:moveTo>
                      <a:pt x="167" y="243"/>
                    </a:moveTo>
                    <a:lnTo>
                      <a:pt x="196" y="386"/>
                    </a:lnTo>
                    <a:lnTo>
                      <a:pt x="171" y="380"/>
                    </a:lnTo>
                    <a:lnTo>
                      <a:pt x="171" y="597"/>
                    </a:lnTo>
                    <a:lnTo>
                      <a:pt x="203" y="730"/>
                    </a:lnTo>
                    <a:lnTo>
                      <a:pt x="327" y="910"/>
                    </a:lnTo>
                    <a:lnTo>
                      <a:pt x="429" y="946"/>
                    </a:lnTo>
                    <a:lnTo>
                      <a:pt x="456" y="1091"/>
                    </a:lnTo>
                    <a:lnTo>
                      <a:pt x="344" y="986"/>
                    </a:lnTo>
                    <a:lnTo>
                      <a:pt x="196" y="775"/>
                    </a:lnTo>
                    <a:lnTo>
                      <a:pt x="150" y="606"/>
                    </a:lnTo>
                    <a:lnTo>
                      <a:pt x="159" y="363"/>
                    </a:lnTo>
                    <a:lnTo>
                      <a:pt x="142" y="291"/>
                    </a:lnTo>
                    <a:lnTo>
                      <a:pt x="108" y="291"/>
                    </a:lnTo>
                    <a:lnTo>
                      <a:pt x="64" y="237"/>
                    </a:lnTo>
                    <a:lnTo>
                      <a:pt x="13" y="123"/>
                    </a:lnTo>
                    <a:lnTo>
                      <a:pt x="0" y="0"/>
                    </a:lnTo>
                    <a:lnTo>
                      <a:pt x="13" y="106"/>
                    </a:lnTo>
                    <a:lnTo>
                      <a:pt x="76" y="237"/>
                    </a:lnTo>
                    <a:lnTo>
                      <a:pt x="116" y="281"/>
                    </a:lnTo>
                    <a:lnTo>
                      <a:pt x="142" y="281"/>
                    </a:lnTo>
                    <a:lnTo>
                      <a:pt x="167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54"/>
              <p:cNvSpPr/>
              <p:nvPr/>
            </p:nvSpPr>
            <p:spPr>
              <a:xfrm>
                <a:off x="1103760" y="4772520"/>
                <a:ext cx="26280" cy="108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93" h="38">
                    <a:moveTo>
                      <a:pt x="0" y="38"/>
                    </a:moveTo>
                    <a:lnTo>
                      <a:pt x="45" y="10"/>
                    </a:lnTo>
                    <a:lnTo>
                      <a:pt x="93" y="0"/>
                    </a:lnTo>
                    <a:lnTo>
                      <a:pt x="93" y="14"/>
                    </a:lnTo>
                    <a:lnTo>
                      <a:pt x="53" y="1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55"/>
              <p:cNvSpPr/>
              <p:nvPr/>
            </p:nvSpPr>
            <p:spPr>
              <a:xfrm>
                <a:off x="1112760" y="4790160"/>
                <a:ext cx="33120" cy="59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116" h="209">
                    <a:moveTo>
                      <a:pt x="116" y="209"/>
                    </a:moveTo>
                    <a:lnTo>
                      <a:pt x="57" y="162"/>
                    </a:lnTo>
                    <a:lnTo>
                      <a:pt x="57" y="124"/>
                    </a:lnTo>
                    <a:lnTo>
                      <a:pt x="85" y="70"/>
                    </a:lnTo>
                    <a:lnTo>
                      <a:pt x="85" y="51"/>
                    </a:lnTo>
                    <a:lnTo>
                      <a:pt x="44" y="15"/>
                    </a:lnTo>
                    <a:lnTo>
                      <a:pt x="21" y="15"/>
                    </a:lnTo>
                    <a:lnTo>
                      <a:pt x="6" y="82"/>
                    </a:lnTo>
                    <a:lnTo>
                      <a:pt x="28" y="166"/>
                    </a:lnTo>
                    <a:lnTo>
                      <a:pt x="0" y="95"/>
                    </a:lnTo>
                    <a:lnTo>
                      <a:pt x="0" y="65"/>
                    </a:lnTo>
                    <a:lnTo>
                      <a:pt x="11" y="2"/>
                    </a:lnTo>
                    <a:lnTo>
                      <a:pt x="32" y="0"/>
                    </a:lnTo>
                    <a:lnTo>
                      <a:pt x="93" y="46"/>
                    </a:lnTo>
                    <a:lnTo>
                      <a:pt x="106" y="88"/>
                    </a:lnTo>
                    <a:lnTo>
                      <a:pt x="97" y="141"/>
                    </a:lnTo>
                    <a:lnTo>
                      <a:pt x="97" y="171"/>
                    </a:lnTo>
                    <a:lnTo>
                      <a:pt x="116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56"/>
              <p:cNvSpPr/>
              <p:nvPr/>
            </p:nvSpPr>
            <p:spPr>
              <a:xfrm>
                <a:off x="1049400" y="4897440"/>
                <a:ext cx="99720" cy="18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350" h="658">
                    <a:moveTo>
                      <a:pt x="350" y="61"/>
                    </a:moveTo>
                    <a:lnTo>
                      <a:pt x="299" y="69"/>
                    </a:lnTo>
                    <a:lnTo>
                      <a:pt x="225" y="215"/>
                    </a:lnTo>
                    <a:lnTo>
                      <a:pt x="204" y="658"/>
                    </a:lnTo>
                    <a:lnTo>
                      <a:pt x="204" y="337"/>
                    </a:lnTo>
                    <a:lnTo>
                      <a:pt x="170" y="303"/>
                    </a:lnTo>
                    <a:lnTo>
                      <a:pt x="149" y="173"/>
                    </a:lnTo>
                    <a:lnTo>
                      <a:pt x="170" y="118"/>
                    </a:lnTo>
                    <a:lnTo>
                      <a:pt x="120" y="118"/>
                    </a:lnTo>
                    <a:lnTo>
                      <a:pt x="86" y="111"/>
                    </a:lnTo>
                    <a:lnTo>
                      <a:pt x="0" y="147"/>
                    </a:lnTo>
                    <a:lnTo>
                      <a:pt x="86" y="92"/>
                    </a:lnTo>
                    <a:lnTo>
                      <a:pt x="240" y="86"/>
                    </a:lnTo>
                    <a:lnTo>
                      <a:pt x="350" y="0"/>
                    </a:lnTo>
                    <a:lnTo>
                      <a:pt x="35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57"/>
              <p:cNvSpPr/>
              <p:nvPr/>
            </p:nvSpPr>
            <p:spPr>
              <a:xfrm>
                <a:off x="963720" y="4928400"/>
                <a:ext cx="135360" cy="116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475" h="410">
                    <a:moveTo>
                      <a:pt x="392" y="0"/>
                    </a:moveTo>
                    <a:lnTo>
                      <a:pt x="475" y="410"/>
                    </a:lnTo>
                    <a:lnTo>
                      <a:pt x="407" y="199"/>
                    </a:lnTo>
                    <a:lnTo>
                      <a:pt x="234" y="7"/>
                    </a:lnTo>
                    <a:lnTo>
                      <a:pt x="0" y="99"/>
                    </a:lnTo>
                    <a:lnTo>
                      <a:pt x="190" y="0"/>
                    </a:lnTo>
                    <a:lnTo>
                      <a:pt x="253" y="0"/>
                    </a:lnTo>
                    <a:lnTo>
                      <a:pt x="386" y="146"/>
                    </a:lnTo>
                    <a:lnTo>
                      <a:pt x="367" y="0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8"/>
              <p:cNvSpPr/>
              <p:nvPr/>
            </p:nvSpPr>
            <p:spPr>
              <a:xfrm>
                <a:off x="1115640" y="5039640"/>
                <a:ext cx="141120" cy="1756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495" h="620">
                    <a:moveTo>
                      <a:pt x="327" y="308"/>
                    </a:moveTo>
                    <a:lnTo>
                      <a:pt x="253" y="109"/>
                    </a:lnTo>
                    <a:lnTo>
                      <a:pt x="403" y="219"/>
                    </a:lnTo>
                    <a:lnTo>
                      <a:pt x="259" y="72"/>
                    </a:lnTo>
                    <a:lnTo>
                      <a:pt x="166" y="0"/>
                    </a:lnTo>
                    <a:lnTo>
                      <a:pt x="69" y="46"/>
                    </a:lnTo>
                    <a:lnTo>
                      <a:pt x="0" y="156"/>
                    </a:lnTo>
                    <a:lnTo>
                      <a:pt x="147" y="620"/>
                    </a:lnTo>
                    <a:lnTo>
                      <a:pt x="55" y="283"/>
                    </a:lnTo>
                    <a:lnTo>
                      <a:pt x="69" y="264"/>
                    </a:lnTo>
                    <a:lnTo>
                      <a:pt x="44" y="145"/>
                    </a:lnTo>
                    <a:lnTo>
                      <a:pt x="63" y="128"/>
                    </a:lnTo>
                    <a:lnTo>
                      <a:pt x="295" y="582"/>
                    </a:lnTo>
                    <a:lnTo>
                      <a:pt x="314" y="536"/>
                    </a:lnTo>
                    <a:lnTo>
                      <a:pt x="111" y="145"/>
                    </a:lnTo>
                    <a:lnTo>
                      <a:pt x="111" y="99"/>
                    </a:lnTo>
                    <a:lnTo>
                      <a:pt x="139" y="63"/>
                    </a:lnTo>
                    <a:lnTo>
                      <a:pt x="284" y="299"/>
                    </a:lnTo>
                    <a:lnTo>
                      <a:pt x="343" y="354"/>
                    </a:lnTo>
                    <a:lnTo>
                      <a:pt x="379" y="455"/>
                    </a:lnTo>
                    <a:lnTo>
                      <a:pt x="381" y="401"/>
                    </a:lnTo>
                    <a:lnTo>
                      <a:pt x="362" y="337"/>
                    </a:lnTo>
                    <a:lnTo>
                      <a:pt x="403" y="327"/>
                    </a:lnTo>
                    <a:lnTo>
                      <a:pt x="460" y="327"/>
                    </a:lnTo>
                    <a:lnTo>
                      <a:pt x="495" y="337"/>
                    </a:lnTo>
                    <a:lnTo>
                      <a:pt x="466" y="308"/>
                    </a:lnTo>
                    <a:lnTo>
                      <a:pt x="379" y="299"/>
                    </a:lnTo>
                    <a:lnTo>
                      <a:pt x="327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59"/>
              <p:cNvSpPr/>
              <p:nvPr/>
            </p:nvSpPr>
            <p:spPr>
              <a:xfrm>
                <a:off x="1234800" y="5006160"/>
                <a:ext cx="77400" cy="10512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72" h="373">
                    <a:moveTo>
                      <a:pt x="0" y="373"/>
                    </a:moveTo>
                    <a:lnTo>
                      <a:pt x="59" y="246"/>
                    </a:lnTo>
                    <a:lnTo>
                      <a:pt x="176" y="164"/>
                    </a:lnTo>
                    <a:lnTo>
                      <a:pt x="237" y="147"/>
                    </a:lnTo>
                    <a:lnTo>
                      <a:pt x="272" y="65"/>
                    </a:lnTo>
                    <a:lnTo>
                      <a:pt x="243" y="0"/>
                    </a:lnTo>
                    <a:lnTo>
                      <a:pt x="237" y="80"/>
                    </a:lnTo>
                    <a:lnTo>
                      <a:pt x="203" y="147"/>
                    </a:lnTo>
                    <a:lnTo>
                      <a:pt x="121" y="171"/>
                    </a:lnTo>
                    <a:lnTo>
                      <a:pt x="30" y="246"/>
                    </a:lnTo>
                    <a:lnTo>
                      <a:pt x="0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60"/>
              <p:cNvSpPr/>
              <p:nvPr/>
            </p:nvSpPr>
            <p:spPr>
              <a:xfrm>
                <a:off x="1234800" y="5068080"/>
                <a:ext cx="127080" cy="1029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46" h="365">
                    <a:moveTo>
                      <a:pt x="30" y="165"/>
                    </a:moveTo>
                    <a:lnTo>
                      <a:pt x="163" y="74"/>
                    </a:lnTo>
                    <a:lnTo>
                      <a:pt x="281" y="0"/>
                    </a:lnTo>
                    <a:lnTo>
                      <a:pt x="378" y="65"/>
                    </a:lnTo>
                    <a:lnTo>
                      <a:pt x="446" y="238"/>
                    </a:lnTo>
                    <a:lnTo>
                      <a:pt x="342" y="129"/>
                    </a:lnTo>
                    <a:lnTo>
                      <a:pt x="218" y="129"/>
                    </a:lnTo>
                    <a:lnTo>
                      <a:pt x="85" y="262"/>
                    </a:lnTo>
                    <a:lnTo>
                      <a:pt x="78" y="293"/>
                    </a:lnTo>
                    <a:lnTo>
                      <a:pt x="0" y="365"/>
                    </a:lnTo>
                    <a:lnTo>
                      <a:pt x="70" y="262"/>
                    </a:lnTo>
                    <a:lnTo>
                      <a:pt x="59" y="228"/>
                    </a:lnTo>
                    <a:lnTo>
                      <a:pt x="93" y="219"/>
                    </a:lnTo>
                    <a:lnTo>
                      <a:pt x="163" y="110"/>
                    </a:lnTo>
                    <a:lnTo>
                      <a:pt x="30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61"/>
              <p:cNvSpPr/>
              <p:nvPr/>
            </p:nvSpPr>
            <p:spPr>
              <a:xfrm>
                <a:off x="1251360" y="5177160"/>
                <a:ext cx="51120" cy="741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78" h="260">
                    <a:moveTo>
                      <a:pt x="0" y="0"/>
                    </a:moveTo>
                    <a:lnTo>
                      <a:pt x="110" y="143"/>
                    </a:lnTo>
                    <a:lnTo>
                      <a:pt x="178" y="260"/>
                    </a:lnTo>
                    <a:lnTo>
                      <a:pt x="104" y="1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2"/>
              <p:cNvSpPr/>
              <p:nvPr/>
            </p:nvSpPr>
            <p:spPr>
              <a:xfrm>
                <a:off x="1204920" y="5177160"/>
                <a:ext cx="46080" cy="174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64" h="616">
                    <a:moveTo>
                      <a:pt x="129" y="0"/>
                    </a:moveTo>
                    <a:lnTo>
                      <a:pt x="148" y="116"/>
                    </a:lnTo>
                    <a:lnTo>
                      <a:pt x="164" y="277"/>
                    </a:lnTo>
                    <a:lnTo>
                      <a:pt x="139" y="395"/>
                    </a:lnTo>
                    <a:lnTo>
                      <a:pt x="91" y="481"/>
                    </a:lnTo>
                    <a:lnTo>
                      <a:pt x="0" y="616"/>
                    </a:lnTo>
                    <a:lnTo>
                      <a:pt x="120" y="390"/>
                    </a:lnTo>
                    <a:lnTo>
                      <a:pt x="139" y="277"/>
                    </a:lnTo>
                    <a:lnTo>
                      <a:pt x="120" y="152"/>
                    </a:lnTo>
                    <a:lnTo>
                      <a:pt x="120" y="51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63"/>
              <p:cNvSpPr/>
              <p:nvPr/>
            </p:nvSpPr>
            <p:spPr>
              <a:xfrm>
                <a:off x="1157400" y="5168520"/>
                <a:ext cx="296280" cy="343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1038" h="1210">
                    <a:moveTo>
                      <a:pt x="285" y="0"/>
                    </a:moveTo>
                    <a:lnTo>
                      <a:pt x="294" y="64"/>
                    </a:lnTo>
                    <a:lnTo>
                      <a:pt x="285" y="220"/>
                    </a:lnTo>
                    <a:lnTo>
                      <a:pt x="243" y="408"/>
                    </a:lnTo>
                    <a:lnTo>
                      <a:pt x="234" y="465"/>
                    </a:lnTo>
                    <a:lnTo>
                      <a:pt x="332" y="528"/>
                    </a:lnTo>
                    <a:lnTo>
                      <a:pt x="473" y="747"/>
                    </a:lnTo>
                    <a:lnTo>
                      <a:pt x="551" y="802"/>
                    </a:lnTo>
                    <a:lnTo>
                      <a:pt x="656" y="847"/>
                    </a:lnTo>
                    <a:lnTo>
                      <a:pt x="684" y="811"/>
                    </a:lnTo>
                    <a:lnTo>
                      <a:pt x="669" y="682"/>
                    </a:lnTo>
                    <a:lnTo>
                      <a:pt x="612" y="570"/>
                    </a:lnTo>
                    <a:lnTo>
                      <a:pt x="559" y="355"/>
                    </a:lnTo>
                    <a:lnTo>
                      <a:pt x="635" y="553"/>
                    </a:lnTo>
                    <a:lnTo>
                      <a:pt x="695" y="600"/>
                    </a:lnTo>
                    <a:lnTo>
                      <a:pt x="753" y="600"/>
                    </a:lnTo>
                    <a:lnTo>
                      <a:pt x="823" y="566"/>
                    </a:lnTo>
                    <a:lnTo>
                      <a:pt x="842" y="492"/>
                    </a:lnTo>
                    <a:lnTo>
                      <a:pt x="827" y="581"/>
                    </a:lnTo>
                    <a:lnTo>
                      <a:pt x="768" y="646"/>
                    </a:lnTo>
                    <a:lnTo>
                      <a:pt x="724" y="682"/>
                    </a:lnTo>
                    <a:lnTo>
                      <a:pt x="709" y="756"/>
                    </a:lnTo>
                    <a:lnTo>
                      <a:pt x="730" y="802"/>
                    </a:lnTo>
                    <a:lnTo>
                      <a:pt x="773" y="802"/>
                    </a:lnTo>
                    <a:lnTo>
                      <a:pt x="851" y="764"/>
                    </a:lnTo>
                    <a:lnTo>
                      <a:pt x="935" y="646"/>
                    </a:lnTo>
                    <a:lnTo>
                      <a:pt x="990" y="492"/>
                    </a:lnTo>
                    <a:lnTo>
                      <a:pt x="1032" y="338"/>
                    </a:lnTo>
                    <a:lnTo>
                      <a:pt x="1032" y="528"/>
                    </a:lnTo>
                    <a:lnTo>
                      <a:pt x="1017" y="756"/>
                    </a:lnTo>
                    <a:lnTo>
                      <a:pt x="1038" y="927"/>
                    </a:lnTo>
                    <a:lnTo>
                      <a:pt x="1032" y="1066"/>
                    </a:lnTo>
                    <a:lnTo>
                      <a:pt x="998" y="1155"/>
                    </a:lnTo>
                    <a:lnTo>
                      <a:pt x="941" y="1201"/>
                    </a:lnTo>
                    <a:lnTo>
                      <a:pt x="914" y="1210"/>
                    </a:lnTo>
                    <a:lnTo>
                      <a:pt x="808" y="1210"/>
                    </a:lnTo>
                    <a:lnTo>
                      <a:pt x="724" y="1155"/>
                    </a:lnTo>
                    <a:lnTo>
                      <a:pt x="578" y="1129"/>
                    </a:lnTo>
                    <a:lnTo>
                      <a:pt x="479" y="1129"/>
                    </a:lnTo>
                    <a:lnTo>
                      <a:pt x="619" y="1121"/>
                    </a:lnTo>
                    <a:lnTo>
                      <a:pt x="739" y="1129"/>
                    </a:lnTo>
                    <a:lnTo>
                      <a:pt x="823" y="1112"/>
                    </a:lnTo>
                    <a:lnTo>
                      <a:pt x="865" y="1073"/>
                    </a:lnTo>
                    <a:lnTo>
                      <a:pt x="899" y="1003"/>
                    </a:lnTo>
                    <a:lnTo>
                      <a:pt x="899" y="910"/>
                    </a:lnTo>
                    <a:lnTo>
                      <a:pt x="870" y="847"/>
                    </a:lnTo>
                    <a:lnTo>
                      <a:pt x="836" y="819"/>
                    </a:lnTo>
                    <a:lnTo>
                      <a:pt x="739" y="874"/>
                    </a:lnTo>
                    <a:lnTo>
                      <a:pt x="836" y="961"/>
                    </a:lnTo>
                    <a:lnTo>
                      <a:pt x="836" y="1039"/>
                    </a:lnTo>
                    <a:lnTo>
                      <a:pt x="753" y="982"/>
                    </a:lnTo>
                    <a:lnTo>
                      <a:pt x="597" y="961"/>
                    </a:lnTo>
                    <a:lnTo>
                      <a:pt x="473" y="902"/>
                    </a:lnTo>
                    <a:lnTo>
                      <a:pt x="407" y="819"/>
                    </a:lnTo>
                    <a:lnTo>
                      <a:pt x="355" y="747"/>
                    </a:lnTo>
                    <a:lnTo>
                      <a:pt x="285" y="716"/>
                    </a:lnTo>
                    <a:lnTo>
                      <a:pt x="222" y="712"/>
                    </a:lnTo>
                    <a:lnTo>
                      <a:pt x="173" y="728"/>
                    </a:lnTo>
                    <a:lnTo>
                      <a:pt x="118" y="790"/>
                    </a:lnTo>
                    <a:lnTo>
                      <a:pt x="137" y="1032"/>
                    </a:lnTo>
                    <a:lnTo>
                      <a:pt x="196" y="1155"/>
                    </a:lnTo>
                    <a:lnTo>
                      <a:pt x="118" y="1018"/>
                    </a:lnTo>
                    <a:lnTo>
                      <a:pt x="83" y="885"/>
                    </a:lnTo>
                    <a:lnTo>
                      <a:pt x="0" y="1210"/>
                    </a:lnTo>
                    <a:lnTo>
                      <a:pt x="24" y="1039"/>
                    </a:lnTo>
                    <a:lnTo>
                      <a:pt x="106" y="756"/>
                    </a:lnTo>
                    <a:lnTo>
                      <a:pt x="201" y="528"/>
                    </a:lnTo>
                    <a:lnTo>
                      <a:pt x="243" y="364"/>
                    </a:lnTo>
                    <a:lnTo>
                      <a:pt x="279" y="193"/>
                    </a:lnTo>
                    <a:lnTo>
                      <a:pt x="285" y="64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64"/>
              <p:cNvSpPr/>
              <p:nvPr/>
            </p:nvSpPr>
            <p:spPr>
              <a:xfrm>
                <a:off x="1055520" y="5088960"/>
                <a:ext cx="182880" cy="42300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641" h="1492">
                    <a:moveTo>
                      <a:pt x="641" y="329"/>
                    </a:moveTo>
                    <a:lnTo>
                      <a:pt x="620" y="301"/>
                    </a:lnTo>
                    <a:lnTo>
                      <a:pt x="599" y="301"/>
                    </a:lnTo>
                    <a:lnTo>
                      <a:pt x="536" y="346"/>
                    </a:lnTo>
                    <a:lnTo>
                      <a:pt x="491" y="521"/>
                    </a:lnTo>
                    <a:lnTo>
                      <a:pt x="342" y="920"/>
                    </a:lnTo>
                    <a:lnTo>
                      <a:pt x="200" y="1365"/>
                    </a:lnTo>
                    <a:lnTo>
                      <a:pt x="168" y="1492"/>
                    </a:lnTo>
                    <a:lnTo>
                      <a:pt x="141" y="1492"/>
                    </a:lnTo>
                    <a:lnTo>
                      <a:pt x="168" y="1365"/>
                    </a:lnTo>
                    <a:lnTo>
                      <a:pt x="147" y="1038"/>
                    </a:lnTo>
                    <a:lnTo>
                      <a:pt x="152" y="783"/>
                    </a:lnTo>
                    <a:lnTo>
                      <a:pt x="141" y="589"/>
                    </a:lnTo>
                    <a:lnTo>
                      <a:pt x="84" y="274"/>
                    </a:lnTo>
                    <a:lnTo>
                      <a:pt x="0" y="0"/>
                    </a:lnTo>
                    <a:lnTo>
                      <a:pt x="91" y="188"/>
                    </a:lnTo>
                    <a:lnTo>
                      <a:pt x="116" y="329"/>
                    </a:lnTo>
                    <a:lnTo>
                      <a:pt x="173" y="683"/>
                    </a:lnTo>
                    <a:lnTo>
                      <a:pt x="244" y="911"/>
                    </a:lnTo>
                    <a:lnTo>
                      <a:pt x="278" y="1084"/>
                    </a:lnTo>
                    <a:lnTo>
                      <a:pt x="342" y="863"/>
                    </a:lnTo>
                    <a:lnTo>
                      <a:pt x="361" y="793"/>
                    </a:lnTo>
                    <a:lnTo>
                      <a:pt x="278" y="563"/>
                    </a:lnTo>
                    <a:lnTo>
                      <a:pt x="253" y="399"/>
                    </a:lnTo>
                    <a:lnTo>
                      <a:pt x="181" y="200"/>
                    </a:lnTo>
                    <a:lnTo>
                      <a:pt x="264" y="409"/>
                    </a:lnTo>
                    <a:lnTo>
                      <a:pt x="306" y="589"/>
                    </a:lnTo>
                    <a:lnTo>
                      <a:pt x="375" y="755"/>
                    </a:lnTo>
                    <a:lnTo>
                      <a:pt x="468" y="491"/>
                    </a:lnTo>
                    <a:lnTo>
                      <a:pt x="529" y="329"/>
                    </a:lnTo>
                    <a:lnTo>
                      <a:pt x="599" y="282"/>
                    </a:lnTo>
                    <a:lnTo>
                      <a:pt x="641" y="282"/>
                    </a:lnTo>
                    <a:lnTo>
                      <a:pt x="641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65"/>
              <p:cNvSpPr/>
              <p:nvPr/>
            </p:nvSpPr>
            <p:spPr>
              <a:xfrm>
                <a:off x="742680" y="4794840"/>
                <a:ext cx="330840" cy="71748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717480"/>
                  <a:gd name="textAreaBottom" fmla="*/ 717840 h 717480"/>
                </a:gdLst>
                <a:ahLst/>
                <a:rect l="textAreaLeft" t="textAreaTop" r="textAreaRight" b="textAreaBottom"/>
                <a:pathLst>
                  <a:path w="1160" h="2530">
                    <a:moveTo>
                      <a:pt x="753" y="801"/>
                    </a:moveTo>
                    <a:lnTo>
                      <a:pt x="797" y="918"/>
                    </a:lnTo>
                    <a:lnTo>
                      <a:pt x="812" y="1029"/>
                    </a:lnTo>
                    <a:lnTo>
                      <a:pt x="812" y="1109"/>
                    </a:lnTo>
                    <a:lnTo>
                      <a:pt x="753" y="1257"/>
                    </a:lnTo>
                    <a:lnTo>
                      <a:pt x="804" y="1226"/>
                    </a:lnTo>
                    <a:lnTo>
                      <a:pt x="867" y="1156"/>
                    </a:lnTo>
                    <a:lnTo>
                      <a:pt x="867" y="1283"/>
                    </a:lnTo>
                    <a:lnTo>
                      <a:pt x="844" y="1384"/>
                    </a:lnTo>
                    <a:lnTo>
                      <a:pt x="818" y="1546"/>
                    </a:lnTo>
                    <a:lnTo>
                      <a:pt x="905" y="1430"/>
                    </a:lnTo>
                    <a:lnTo>
                      <a:pt x="951" y="1312"/>
                    </a:lnTo>
                    <a:lnTo>
                      <a:pt x="951" y="1183"/>
                    </a:lnTo>
                    <a:lnTo>
                      <a:pt x="924" y="1065"/>
                    </a:lnTo>
                    <a:lnTo>
                      <a:pt x="1000" y="1226"/>
                    </a:lnTo>
                    <a:lnTo>
                      <a:pt x="1042" y="1420"/>
                    </a:lnTo>
                    <a:lnTo>
                      <a:pt x="1019" y="1593"/>
                    </a:lnTo>
                    <a:lnTo>
                      <a:pt x="1036" y="1740"/>
                    </a:lnTo>
                    <a:lnTo>
                      <a:pt x="1074" y="1977"/>
                    </a:lnTo>
                    <a:lnTo>
                      <a:pt x="1090" y="2183"/>
                    </a:lnTo>
                    <a:lnTo>
                      <a:pt x="1160" y="2521"/>
                    </a:lnTo>
                    <a:lnTo>
                      <a:pt x="1067" y="2230"/>
                    </a:lnTo>
                    <a:lnTo>
                      <a:pt x="1042" y="2036"/>
                    </a:lnTo>
                    <a:lnTo>
                      <a:pt x="964" y="1901"/>
                    </a:lnTo>
                    <a:lnTo>
                      <a:pt x="915" y="1757"/>
                    </a:lnTo>
                    <a:lnTo>
                      <a:pt x="896" y="1920"/>
                    </a:lnTo>
                    <a:lnTo>
                      <a:pt x="943" y="2177"/>
                    </a:lnTo>
                    <a:lnTo>
                      <a:pt x="958" y="2367"/>
                    </a:lnTo>
                    <a:lnTo>
                      <a:pt x="1000" y="2530"/>
                    </a:lnTo>
                    <a:lnTo>
                      <a:pt x="905" y="2530"/>
                    </a:lnTo>
                    <a:lnTo>
                      <a:pt x="747" y="2323"/>
                    </a:lnTo>
                    <a:lnTo>
                      <a:pt x="747" y="2367"/>
                    </a:lnTo>
                    <a:lnTo>
                      <a:pt x="818" y="2530"/>
                    </a:lnTo>
                    <a:lnTo>
                      <a:pt x="669" y="2530"/>
                    </a:lnTo>
                    <a:lnTo>
                      <a:pt x="641" y="2441"/>
                    </a:lnTo>
                    <a:lnTo>
                      <a:pt x="641" y="2352"/>
                    </a:lnTo>
                    <a:lnTo>
                      <a:pt x="692" y="2213"/>
                    </a:lnTo>
                    <a:lnTo>
                      <a:pt x="742" y="2076"/>
                    </a:lnTo>
                    <a:lnTo>
                      <a:pt x="753" y="1930"/>
                    </a:lnTo>
                    <a:lnTo>
                      <a:pt x="709" y="1802"/>
                    </a:lnTo>
                    <a:lnTo>
                      <a:pt x="704" y="1694"/>
                    </a:lnTo>
                    <a:lnTo>
                      <a:pt x="719" y="1559"/>
                    </a:lnTo>
                    <a:lnTo>
                      <a:pt x="700" y="1430"/>
                    </a:lnTo>
                    <a:lnTo>
                      <a:pt x="685" y="1302"/>
                    </a:lnTo>
                    <a:lnTo>
                      <a:pt x="685" y="1257"/>
                    </a:lnTo>
                    <a:lnTo>
                      <a:pt x="567" y="1274"/>
                    </a:lnTo>
                    <a:lnTo>
                      <a:pt x="455" y="1339"/>
                    </a:lnTo>
                    <a:lnTo>
                      <a:pt x="358" y="1356"/>
                    </a:lnTo>
                    <a:lnTo>
                      <a:pt x="244" y="1356"/>
                    </a:lnTo>
                    <a:lnTo>
                      <a:pt x="114" y="1302"/>
                    </a:lnTo>
                    <a:lnTo>
                      <a:pt x="31" y="1219"/>
                    </a:lnTo>
                    <a:lnTo>
                      <a:pt x="0" y="1065"/>
                    </a:lnTo>
                    <a:lnTo>
                      <a:pt x="16" y="928"/>
                    </a:lnTo>
                    <a:lnTo>
                      <a:pt x="59" y="793"/>
                    </a:lnTo>
                    <a:lnTo>
                      <a:pt x="114" y="673"/>
                    </a:lnTo>
                    <a:lnTo>
                      <a:pt x="232" y="502"/>
                    </a:lnTo>
                    <a:lnTo>
                      <a:pt x="470" y="228"/>
                    </a:lnTo>
                    <a:lnTo>
                      <a:pt x="588" y="90"/>
                    </a:lnTo>
                    <a:lnTo>
                      <a:pt x="666" y="0"/>
                    </a:lnTo>
                    <a:lnTo>
                      <a:pt x="582" y="118"/>
                    </a:lnTo>
                    <a:lnTo>
                      <a:pt x="504" y="211"/>
                    </a:lnTo>
                    <a:lnTo>
                      <a:pt x="483" y="344"/>
                    </a:lnTo>
                    <a:lnTo>
                      <a:pt x="483" y="246"/>
                    </a:lnTo>
                    <a:lnTo>
                      <a:pt x="470" y="246"/>
                    </a:lnTo>
                    <a:lnTo>
                      <a:pt x="316" y="428"/>
                    </a:lnTo>
                    <a:lnTo>
                      <a:pt x="215" y="555"/>
                    </a:lnTo>
                    <a:lnTo>
                      <a:pt x="168" y="656"/>
                    </a:lnTo>
                    <a:lnTo>
                      <a:pt x="156" y="747"/>
                    </a:lnTo>
                    <a:lnTo>
                      <a:pt x="156" y="865"/>
                    </a:lnTo>
                    <a:lnTo>
                      <a:pt x="177" y="1010"/>
                    </a:lnTo>
                    <a:lnTo>
                      <a:pt x="141" y="918"/>
                    </a:lnTo>
                    <a:lnTo>
                      <a:pt x="120" y="801"/>
                    </a:lnTo>
                    <a:lnTo>
                      <a:pt x="69" y="947"/>
                    </a:lnTo>
                    <a:lnTo>
                      <a:pt x="69" y="1093"/>
                    </a:lnTo>
                    <a:lnTo>
                      <a:pt x="107" y="1202"/>
                    </a:lnTo>
                    <a:lnTo>
                      <a:pt x="187" y="1257"/>
                    </a:lnTo>
                    <a:lnTo>
                      <a:pt x="295" y="1283"/>
                    </a:lnTo>
                    <a:lnTo>
                      <a:pt x="398" y="1266"/>
                    </a:lnTo>
                    <a:lnTo>
                      <a:pt x="447" y="1202"/>
                    </a:lnTo>
                    <a:lnTo>
                      <a:pt x="337" y="1226"/>
                    </a:lnTo>
                    <a:lnTo>
                      <a:pt x="476" y="1148"/>
                    </a:lnTo>
                    <a:lnTo>
                      <a:pt x="552" y="1057"/>
                    </a:lnTo>
                    <a:lnTo>
                      <a:pt x="666" y="865"/>
                    </a:lnTo>
                    <a:lnTo>
                      <a:pt x="588" y="1057"/>
                    </a:lnTo>
                    <a:lnTo>
                      <a:pt x="504" y="1164"/>
                    </a:lnTo>
                    <a:lnTo>
                      <a:pt x="607" y="1129"/>
                    </a:lnTo>
                    <a:lnTo>
                      <a:pt x="669" y="1156"/>
                    </a:lnTo>
                    <a:lnTo>
                      <a:pt x="763" y="1109"/>
                    </a:lnTo>
                    <a:lnTo>
                      <a:pt x="784" y="1021"/>
                    </a:lnTo>
                    <a:lnTo>
                      <a:pt x="784" y="918"/>
                    </a:lnTo>
                    <a:lnTo>
                      <a:pt x="753" y="8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6"/>
              <p:cNvSpPr/>
              <p:nvPr/>
            </p:nvSpPr>
            <p:spPr>
              <a:xfrm>
                <a:off x="870120" y="4761720"/>
                <a:ext cx="187920" cy="32940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658" h="1164">
                    <a:moveTo>
                      <a:pt x="257" y="71"/>
                    </a:moveTo>
                    <a:lnTo>
                      <a:pt x="342" y="297"/>
                    </a:lnTo>
                    <a:lnTo>
                      <a:pt x="357" y="335"/>
                    </a:lnTo>
                    <a:lnTo>
                      <a:pt x="424" y="335"/>
                    </a:lnTo>
                    <a:lnTo>
                      <a:pt x="496" y="289"/>
                    </a:lnTo>
                    <a:lnTo>
                      <a:pt x="572" y="107"/>
                    </a:lnTo>
                    <a:lnTo>
                      <a:pt x="658" y="0"/>
                    </a:lnTo>
                    <a:lnTo>
                      <a:pt x="580" y="152"/>
                    </a:lnTo>
                    <a:lnTo>
                      <a:pt x="523" y="305"/>
                    </a:lnTo>
                    <a:lnTo>
                      <a:pt x="371" y="626"/>
                    </a:lnTo>
                    <a:lnTo>
                      <a:pt x="319" y="736"/>
                    </a:lnTo>
                    <a:lnTo>
                      <a:pt x="365" y="806"/>
                    </a:lnTo>
                    <a:lnTo>
                      <a:pt x="420" y="953"/>
                    </a:lnTo>
                    <a:lnTo>
                      <a:pt x="350" y="806"/>
                    </a:lnTo>
                    <a:lnTo>
                      <a:pt x="316" y="772"/>
                    </a:lnTo>
                    <a:lnTo>
                      <a:pt x="245" y="934"/>
                    </a:lnTo>
                    <a:lnTo>
                      <a:pt x="177" y="1063"/>
                    </a:lnTo>
                    <a:lnTo>
                      <a:pt x="8" y="1164"/>
                    </a:lnTo>
                    <a:lnTo>
                      <a:pt x="190" y="981"/>
                    </a:lnTo>
                    <a:lnTo>
                      <a:pt x="287" y="789"/>
                    </a:lnTo>
                    <a:lnTo>
                      <a:pt x="327" y="652"/>
                    </a:lnTo>
                    <a:lnTo>
                      <a:pt x="439" y="417"/>
                    </a:lnTo>
                    <a:lnTo>
                      <a:pt x="458" y="327"/>
                    </a:lnTo>
                    <a:lnTo>
                      <a:pt x="420" y="352"/>
                    </a:lnTo>
                    <a:lnTo>
                      <a:pt x="357" y="352"/>
                    </a:lnTo>
                    <a:lnTo>
                      <a:pt x="316" y="472"/>
                    </a:lnTo>
                    <a:lnTo>
                      <a:pt x="238" y="533"/>
                    </a:lnTo>
                    <a:lnTo>
                      <a:pt x="86" y="618"/>
                    </a:lnTo>
                    <a:lnTo>
                      <a:pt x="0" y="736"/>
                    </a:lnTo>
                    <a:lnTo>
                      <a:pt x="91" y="590"/>
                    </a:lnTo>
                    <a:lnTo>
                      <a:pt x="257" y="498"/>
                    </a:lnTo>
                    <a:lnTo>
                      <a:pt x="319" y="407"/>
                    </a:lnTo>
                    <a:lnTo>
                      <a:pt x="319" y="335"/>
                    </a:lnTo>
                    <a:lnTo>
                      <a:pt x="257" y="124"/>
                    </a:lnTo>
                    <a:lnTo>
                      <a:pt x="25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67"/>
              <p:cNvSpPr/>
              <p:nvPr/>
            </p:nvSpPr>
            <p:spPr>
              <a:xfrm>
                <a:off x="813600" y="4920840"/>
                <a:ext cx="100800" cy="14508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354" h="511">
                    <a:moveTo>
                      <a:pt x="310" y="36"/>
                    </a:moveTo>
                    <a:lnTo>
                      <a:pt x="297" y="91"/>
                    </a:lnTo>
                    <a:lnTo>
                      <a:pt x="242" y="192"/>
                    </a:lnTo>
                    <a:lnTo>
                      <a:pt x="177" y="293"/>
                    </a:lnTo>
                    <a:lnTo>
                      <a:pt x="99" y="367"/>
                    </a:lnTo>
                    <a:lnTo>
                      <a:pt x="67" y="382"/>
                    </a:lnTo>
                    <a:lnTo>
                      <a:pt x="95" y="310"/>
                    </a:lnTo>
                    <a:lnTo>
                      <a:pt x="156" y="211"/>
                    </a:lnTo>
                    <a:lnTo>
                      <a:pt x="80" y="310"/>
                    </a:lnTo>
                    <a:lnTo>
                      <a:pt x="31" y="407"/>
                    </a:lnTo>
                    <a:lnTo>
                      <a:pt x="0" y="511"/>
                    </a:lnTo>
                    <a:lnTo>
                      <a:pt x="143" y="367"/>
                    </a:lnTo>
                    <a:lnTo>
                      <a:pt x="261" y="211"/>
                    </a:lnTo>
                    <a:lnTo>
                      <a:pt x="324" y="101"/>
                    </a:lnTo>
                    <a:lnTo>
                      <a:pt x="354" y="0"/>
                    </a:lnTo>
                    <a:lnTo>
                      <a:pt x="3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68"/>
              <p:cNvSpPr/>
              <p:nvPr/>
            </p:nvSpPr>
            <p:spPr>
              <a:xfrm>
                <a:off x="1358640" y="4948920"/>
                <a:ext cx="178560" cy="2120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27" h="747">
                    <a:moveTo>
                      <a:pt x="0" y="0"/>
                    </a:moveTo>
                    <a:lnTo>
                      <a:pt x="133" y="74"/>
                    </a:lnTo>
                    <a:lnTo>
                      <a:pt x="300" y="101"/>
                    </a:lnTo>
                    <a:lnTo>
                      <a:pt x="434" y="201"/>
                    </a:lnTo>
                    <a:lnTo>
                      <a:pt x="515" y="218"/>
                    </a:lnTo>
                    <a:lnTo>
                      <a:pt x="627" y="319"/>
                    </a:lnTo>
                    <a:lnTo>
                      <a:pt x="622" y="452"/>
                    </a:lnTo>
                    <a:lnTo>
                      <a:pt x="530" y="747"/>
                    </a:lnTo>
                    <a:lnTo>
                      <a:pt x="588" y="538"/>
                    </a:lnTo>
                    <a:lnTo>
                      <a:pt x="588" y="418"/>
                    </a:lnTo>
                    <a:lnTo>
                      <a:pt x="614" y="327"/>
                    </a:lnTo>
                    <a:lnTo>
                      <a:pt x="525" y="247"/>
                    </a:lnTo>
                    <a:lnTo>
                      <a:pt x="439" y="218"/>
                    </a:lnTo>
                    <a:lnTo>
                      <a:pt x="314" y="154"/>
                    </a:lnTo>
                    <a:lnTo>
                      <a:pt x="247" y="120"/>
                    </a:lnTo>
                    <a:lnTo>
                      <a:pt x="112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69"/>
              <p:cNvSpPr/>
              <p:nvPr/>
            </p:nvSpPr>
            <p:spPr>
              <a:xfrm>
                <a:off x="1210680" y="5467320"/>
                <a:ext cx="96840" cy="42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40" h="152">
                    <a:moveTo>
                      <a:pt x="160" y="152"/>
                    </a:moveTo>
                    <a:lnTo>
                      <a:pt x="118" y="108"/>
                    </a:lnTo>
                    <a:lnTo>
                      <a:pt x="63" y="64"/>
                    </a:lnTo>
                    <a:lnTo>
                      <a:pt x="0" y="0"/>
                    </a:lnTo>
                    <a:lnTo>
                      <a:pt x="76" y="7"/>
                    </a:lnTo>
                    <a:lnTo>
                      <a:pt x="167" y="47"/>
                    </a:lnTo>
                    <a:lnTo>
                      <a:pt x="253" y="91"/>
                    </a:lnTo>
                    <a:lnTo>
                      <a:pt x="340" y="152"/>
                    </a:lnTo>
                    <a:lnTo>
                      <a:pt x="16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70"/>
              <p:cNvSpPr/>
              <p:nvPr/>
            </p:nvSpPr>
            <p:spPr>
              <a:xfrm>
                <a:off x="1348200" y="5236560"/>
                <a:ext cx="17640" cy="69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1" h="243">
                    <a:moveTo>
                      <a:pt x="55" y="169"/>
                    </a:moveTo>
                    <a:lnTo>
                      <a:pt x="61" y="0"/>
                    </a:lnTo>
                    <a:lnTo>
                      <a:pt x="40" y="0"/>
                    </a:lnTo>
                    <a:lnTo>
                      <a:pt x="0" y="243"/>
                    </a:lnTo>
                    <a:lnTo>
                      <a:pt x="26" y="162"/>
                    </a:lnTo>
                    <a:lnTo>
                      <a:pt x="55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71"/>
              <p:cNvSpPr/>
              <p:nvPr/>
            </p:nvSpPr>
            <p:spPr>
              <a:xfrm>
                <a:off x="1440360" y="5073120"/>
                <a:ext cx="81720" cy="2682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285" h="947">
                    <a:moveTo>
                      <a:pt x="238" y="0"/>
                    </a:moveTo>
                    <a:lnTo>
                      <a:pt x="207" y="200"/>
                    </a:lnTo>
                    <a:lnTo>
                      <a:pt x="162" y="337"/>
                    </a:lnTo>
                    <a:lnTo>
                      <a:pt x="107" y="437"/>
                    </a:lnTo>
                    <a:lnTo>
                      <a:pt x="57" y="519"/>
                    </a:lnTo>
                    <a:lnTo>
                      <a:pt x="82" y="346"/>
                    </a:lnTo>
                    <a:lnTo>
                      <a:pt x="112" y="219"/>
                    </a:lnTo>
                    <a:lnTo>
                      <a:pt x="57" y="367"/>
                    </a:lnTo>
                    <a:lnTo>
                      <a:pt x="27" y="519"/>
                    </a:lnTo>
                    <a:lnTo>
                      <a:pt x="23" y="675"/>
                    </a:lnTo>
                    <a:lnTo>
                      <a:pt x="8" y="810"/>
                    </a:lnTo>
                    <a:lnTo>
                      <a:pt x="0" y="930"/>
                    </a:lnTo>
                    <a:lnTo>
                      <a:pt x="70" y="738"/>
                    </a:lnTo>
                    <a:lnTo>
                      <a:pt x="99" y="802"/>
                    </a:lnTo>
                    <a:lnTo>
                      <a:pt x="99" y="882"/>
                    </a:lnTo>
                    <a:lnTo>
                      <a:pt x="162" y="947"/>
                    </a:lnTo>
                    <a:lnTo>
                      <a:pt x="217" y="903"/>
                    </a:lnTo>
                    <a:lnTo>
                      <a:pt x="152" y="903"/>
                    </a:lnTo>
                    <a:lnTo>
                      <a:pt x="126" y="838"/>
                    </a:lnTo>
                    <a:lnTo>
                      <a:pt x="126" y="802"/>
                    </a:lnTo>
                    <a:lnTo>
                      <a:pt x="186" y="793"/>
                    </a:lnTo>
                    <a:lnTo>
                      <a:pt x="126" y="738"/>
                    </a:lnTo>
                    <a:lnTo>
                      <a:pt x="135" y="692"/>
                    </a:lnTo>
                    <a:lnTo>
                      <a:pt x="228" y="675"/>
                    </a:lnTo>
                    <a:lnTo>
                      <a:pt x="285" y="635"/>
                    </a:lnTo>
                    <a:lnTo>
                      <a:pt x="181" y="663"/>
                    </a:lnTo>
                    <a:lnTo>
                      <a:pt x="112" y="656"/>
                    </a:lnTo>
                    <a:lnTo>
                      <a:pt x="78" y="610"/>
                    </a:lnTo>
                    <a:lnTo>
                      <a:pt x="82" y="546"/>
                    </a:lnTo>
                    <a:lnTo>
                      <a:pt x="120" y="447"/>
                    </a:lnTo>
                    <a:lnTo>
                      <a:pt x="194" y="346"/>
                    </a:lnTo>
                    <a:lnTo>
                      <a:pt x="224" y="255"/>
                    </a:lnTo>
                    <a:lnTo>
                      <a:pt x="243" y="11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72"/>
              <p:cNvSpPr/>
              <p:nvPr/>
            </p:nvSpPr>
            <p:spPr>
              <a:xfrm>
                <a:off x="1526040" y="5052600"/>
                <a:ext cx="79920" cy="2242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279" h="792">
                    <a:moveTo>
                      <a:pt x="60" y="0"/>
                    </a:moveTo>
                    <a:lnTo>
                      <a:pt x="102" y="87"/>
                    </a:lnTo>
                    <a:lnTo>
                      <a:pt x="201" y="192"/>
                    </a:lnTo>
                    <a:lnTo>
                      <a:pt x="241" y="308"/>
                    </a:lnTo>
                    <a:lnTo>
                      <a:pt x="241" y="418"/>
                    </a:lnTo>
                    <a:lnTo>
                      <a:pt x="279" y="483"/>
                    </a:lnTo>
                    <a:lnTo>
                      <a:pt x="269" y="564"/>
                    </a:lnTo>
                    <a:lnTo>
                      <a:pt x="241" y="502"/>
                    </a:lnTo>
                    <a:lnTo>
                      <a:pt x="216" y="483"/>
                    </a:lnTo>
                    <a:lnTo>
                      <a:pt x="161" y="555"/>
                    </a:lnTo>
                    <a:lnTo>
                      <a:pt x="108" y="608"/>
                    </a:lnTo>
                    <a:lnTo>
                      <a:pt x="39" y="716"/>
                    </a:lnTo>
                    <a:lnTo>
                      <a:pt x="0" y="792"/>
                    </a:lnTo>
                    <a:lnTo>
                      <a:pt x="91" y="608"/>
                    </a:lnTo>
                    <a:lnTo>
                      <a:pt x="161" y="502"/>
                    </a:lnTo>
                    <a:lnTo>
                      <a:pt x="197" y="418"/>
                    </a:lnTo>
                    <a:lnTo>
                      <a:pt x="207" y="338"/>
                    </a:lnTo>
                    <a:lnTo>
                      <a:pt x="201" y="245"/>
                    </a:lnTo>
                    <a:lnTo>
                      <a:pt x="182" y="192"/>
                    </a:lnTo>
                    <a:lnTo>
                      <a:pt x="133" y="137"/>
                    </a:lnTo>
                    <a:lnTo>
                      <a:pt x="91" y="87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73"/>
              <p:cNvSpPr/>
              <p:nvPr/>
            </p:nvSpPr>
            <p:spPr>
              <a:xfrm>
                <a:off x="1565640" y="5194080"/>
                <a:ext cx="146520" cy="7344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516" h="260">
                    <a:moveTo>
                      <a:pt x="33" y="222"/>
                    </a:moveTo>
                    <a:lnTo>
                      <a:pt x="42" y="158"/>
                    </a:lnTo>
                    <a:lnTo>
                      <a:pt x="94" y="123"/>
                    </a:lnTo>
                    <a:lnTo>
                      <a:pt x="94" y="188"/>
                    </a:lnTo>
                    <a:lnTo>
                      <a:pt x="124" y="106"/>
                    </a:lnTo>
                    <a:lnTo>
                      <a:pt x="177" y="70"/>
                    </a:lnTo>
                    <a:lnTo>
                      <a:pt x="350" y="19"/>
                    </a:lnTo>
                    <a:lnTo>
                      <a:pt x="390" y="34"/>
                    </a:lnTo>
                    <a:lnTo>
                      <a:pt x="407" y="64"/>
                    </a:lnTo>
                    <a:lnTo>
                      <a:pt x="409" y="104"/>
                    </a:lnTo>
                    <a:lnTo>
                      <a:pt x="426" y="123"/>
                    </a:lnTo>
                    <a:lnTo>
                      <a:pt x="474" y="154"/>
                    </a:lnTo>
                    <a:lnTo>
                      <a:pt x="497" y="184"/>
                    </a:lnTo>
                    <a:lnTo>
                      <a:pt x="502" y="222"/>
                    </a:lnTo>
                    <a:lnTo>
                      <a:pt x="506" y="260"/>
                    </a:lnTo>
                    <a:lnTo>
                      <a:pt x="516" y="205"/>
                    </a:lnTo>
                    <a:lnTo>
                      <a:pt x="510" y="150"/>
                    </a:lnTo>
                    <a:lnTo>
                      <a:pt x="491" y="129"/>
                    </a:lnTo>
                    <a:lnTo>
                      <a:pt x="443" y="116"/>
                    </a:lnTo>
                    <a:lnTo>
                      <a:pt x="424" y="89"/>
                    </a:lnTo>
                    <a:lnTo>
                      <a:pt x="424" y="59"/>
                    </a:lnTo>
                    <a:lnTo>
                      <a:pt x="407" y="23"/>
                    </a:lnTo>
                    <a:lnTo>
                      <a:pt x="379" y="4"/>
                    </a:lnTo>
                    <a:lnTo>
                      <a:pt x="329" y="0"/>
                    </a:lnTo>
                    <a:lnTo>
                      <a:pt x="278" y="7"/>
                    </a:lnTo>
                    <a:lnTo>
                      <a:pt x="135" y="64"/>
                    </a:lnTo>
                    <a:lnTo>
                      <a:pt x="94" y="99"/>
                    </a:lnTo>
                    <a:lnTo>
                      <a:pt x="92" y="116"/>
                    </a:lnTo>
                    <a:lnTo>
                      <a:pt x="29" y="150"/>
                    </a:lnTo>
                    <a:lnTo>
                      <a:pt x="12" y="167"/>
                    </a:lnTo>
                    <a:lnTo>
                      <a:pt x="0" y="207"/>
                    </a:lnTo>
                    <a:lnTo>
                      <a:pt x="4" y="237"/>
                    </a:lnTo>
                    <a:lnTo>
                      <a:pt x="33" y="2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74"/>
              <p:cNvSpPr/>
              <p:nvPr/>
            </p:nvSpPr>
            <p:spPr>
              <a:xfrm>
                <a:off x="1572480" y="5473080"/>
                <a:ext cx="74520" cy="446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62" h="158">
                    <a:moveTo>
                      <a:pt x="27" y="0"/>
                    </a:moveTo>
                    <a:lnTo>
                      <a:pt x="42" y="58"/>
                    </a:lnTo>
                    <a:lnTo>
                      <a:pt x="69" y="107"/>
                    </a:lnTo>
                    <a:lnTo>
                      <a:pt x="262" y="158"/>
                    </a:lnTo>
                    <a:lnTo>
                      <a:pt x="63" y="158"/>
                    </a:lnTo>
                    <a:lnTo>
                      <a:pt x="17" y="135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75"/>
              <p:cNvSpPr/>
              <p:nvPr/>
            </p:nvSpPr>
            <p:spPr>
              <a:xfrm>
                <a:off x="1437480" y="5550480"/>
                <a:ext cx="182520" cy="525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38" h="187">
                    <a:moveTo>
                      <a:pt x="211" y="0"/>
                    </a:moveTo>
                    <a:lnTo>
                      <a:pt x="0" y="35"/>
                    </a:lnTo>
                    <a:lnTo>
                      <a:pt x="266" y="187"/>
                    </a:lnTo>
                    <a:lnTo>
                      <a:pt x="304" y="175"/>
                    </a:lnTo>
                    <a:lnTo>
                      <a:pt x="247" y="150"/>
                    </a:lnTo>
                    <a:lnTo>
                      <a:pt x="574" y="88"/>
                    </a:lnTo>
                    <a:lnTo>
                      <a:pt x="619" y="109"/>
                    </a:lnTo>
                    <a:lnTo>
                      <a:pt x="638" y="109"/>
                    </a:lnTo>
                    <a:lnTo>
                      <a:pt x="471" y="27"/>
                    </a:lnTo>
                    <a:lnTo>
                      <a:pt x="446" y="92"/>
                    </a:lnTo>
                    <a:lnTo>
                      <a:pt x="226" y="141"/>
                    </a:lnTo>
                    <a:lnTo>
                      <a:pt x="161" y="103"/>
                    </a:lnTo>
                    <a:lnTo>
                      <a:pt x="195" y="57"/>
                    </a:lnTo>
                    <a:lnTo>
                      <a:pt x="216" y="6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76"/>
              <p:cNvSpPr/>
              <p:nvPr/>
            </p:nvSpPr>
            <p:spPr>
              <a:xfrm>
                <a:off x="1532160" y="5664240"/>
                <a:ext cx="73440" cy="356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59" h="128">
                    <a:moveTo>
                      <a:pt x="251" y="107"/>
                    </a:moveTo>
                    <a:lnTo>
                      <a:pt x="259" y="48"/>
                    </a:lnTo>
                    <a:lnTo>
                      <a:pt x="240" y="35"/>
                    </a:lnTo>
                    <a:lnTo>
                      <a:pt x="33" y="0"/>
                    </a:lnTo>
                    <a:lnTo>
                      <a:pt x="0" y="14"/>
                    </a:lnTo>
                    <a:lnTo>
                      <a:pt x="10" y="99"/>
                    </a:lnTo>
                    <a:lnTo>
                      <a:pt x="210" y="128"/>
                    </a:lnTo>
                    <a:lnTo>
                      <a:pt x="251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7"/>
              <p:cNvSpPr/>
              <p:nvPr/>
            </p:nvSpPr>
            <p:spPr>
              <a:xfrm>
                <a:off x="1468440" y="5224680"/>
                <a:ext cx="264960" cy="35388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930" h="1247">
                    <a:moveTo>
                      <a:pt x="42" y="1247"/>
                    </a:moveTo>
                    <a:lnTo>
                      <a:pt x="105" y="1148"/>
                    </a:lnTo>
                    <a:lnTo>
                      <a:pt x="105" y="1034"/>
                    </a:lnTo>
                    <a:lnTo>
                      <a:pt x="70" y="774"/>
                    </a:lnTo>
                    <a:lnTo>
                      <a:pt x="0" y="578"/>
                    </a:lnTo>
                    <a:lnTo>
                      <a:pt x="13" y="481"/>
                    </a:lnTo>
                    <a:lnTo>
                      <a:pt x="63" y="399"/>
                    </a:lnTo>
                    <a:lnTo>
                      <a:pt x="268" y="160"/>
                    </a:lnTo>
                    <a:lnTo>
                      <a:pt x="365" y="101"/>
                    </a:lnTo>
                    <a:lnTo>
                      <a:pt x="519" y="6"/>
                    </a:lnTo>
                    <a:lnTo>
                      <a:pt x="622" y="0"/>
                    </a:lnTo>
                    <a:lnTo>
                      <a:pt x="715" y="52"/>
                    </a:lnTo>
                    <a:lnTo>
                      <a:pt x="844" y="198"/>
                    </a:lnTo>
                    <a:lnTo>
                      <a:pt x="930" y="489"/>
                    </a:lnTo>
                    <a:lnTo>
                      <a:pt x="930" y="810"/>
                    </a:lnTo>
                    <a:lnTo>
                      <a:pt x="894" y="928"/>
                    </a:lnTo>
                    <a:lnTo>
                      <a:pt x="764" y="1036"/>
                    </a:lnTo>
                    <a:lnTo>
                      <a:pt x="492" y="1029"/>
                    </a:lnTo>
                    <a:lnTo>
                      <a:pt x="612" y="962"/>
                    </a:lnTo>
                    <a:lnTo>
                      <a:pt x="704" y="719"/>
                    </a:lnTo>
                    <a:lnTo>
                      <a:pt x="662" y="477"/>
                    </a:lnTo>
                    <a:lnTo>
                      <a:pt x="597" y="274"/>
                    </a:lnTo>
                    <a:lnTo>
                      <a:pt x="519" y="167"/>
                    </a:lnTo>
                    <a:lnTo>
                      <a:pt x="622" y="263"/>
                    </a:lnTo>
                    <a:lnTo>
                      <a:pt x="673" y="409"/>
                    </a:lnTo>
                    <a:lnTo>
                      <a:pt x="723" y="607"/>
                    </a:lnTo>
                    <a:lnTo>
                      <a:pt x="736" y="783"/>
                    </a:lnTo>
                    <a:lnTo>
                      <a:pt x="673" y="901"/>
                    </a:lnTo>
                    <a:lnTo>
                      <a:pt x="814" y="962"/>
                    </a:lnTo>
                    <a:lnTo>
                      <a:pt x="890" y="899"/>
                    </a:lnTo>
                    <a:lnTo>
                      <a:pt x="905" y="671"/>
                    </a:lnTo>
                    <a:lnTo>
                      <a:pt x="897" y="470"/>
                    </a:lnTo>
                    <a:lnTo>
                      <a:pt x="825" y="200"/>
                    </a:lnTo>
                    <a:lnTo>
                      <a:pt x="683" y="52"/>
                    </a:lnTo>
                    <a:lnTo>
                      <a:pt x="582" y="10"/>
                    </a:lnTo>
                    <a:lnTo>
                      <a:pt x="390" y="112"/>
                    </a:lnTo>
                    <a:lnTo>
                      <a:pt x="304" y="171"/>
                    </a:lnTo>
                    <a:lnTo>
                      <a:pt x="143" y="359"/>
                    </a:lnTo>
                    <a:lnTo>
                      <a:pt x="65" y="434"/>
                    </a:lnTo>
                    <a:lnTo>
                      <a:pt x="29" y="523"/>
                    </a:lnTo>
                    <a:lnTo>
                      <a:pt x="29" y="607"/>
                    </a:lnTo>
                    <a:lnTo>
                      <a:pt x="93" y="797"/>
                    </a:lnTo>
                    <a:lnTo>
                      <a:pt x="126" y="1093"/>
                    </a:lnTo>
                    <a:lnTo>
                      <a:pt x="118" y="1169"/>
                    </a:lnTo>
                    <a:lnTo>
                      <a:pt x="42" y="12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78"/>
              <p:cNvSpPr/>
              <p:nvPr/>
            </p:nvSpPr>
            <p:spPr>
              <a:xfrm>
                <a:off x="1375920" y="5598360"/>
                <a:ext cx="191160" cy="651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669" h="230">
                    <a:moveTo>
                      <a:pt x="0" y="192"/>
                    </a:moveTo>
                    <a:lnTo>
                      <a:pt x="591" y="75"/>
                    </a:lnTo>
                    <a:lnTo>
                      <a:pt x="601" y="198"/>
                    </a:lnTo>
                    <a:lnTo>
                      <a:pt x="663" y="230"/>
                    </a:lnTo>
                    <a:lnTo>
                      <a:pt x="669" y="160"/>
                    </a:lnTo>
                    <a:lnTo>
                      <a:pt x="646" y="58"/>
                    </a:lnTo>
                    <a:lnTo>
                      <a:pt x="585" y="29"/>
                    </a:lnTo>
                    <a:lnTo>
                      <a:pt x="466" y="0"/>
                    </a:lnTo>
                    <a:lnTo>
                      <a:pt x="538" y="5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79"/>
              <p:cNvSpPr/>
              <p:nvPr/>
            </p:nvSpPr>
            <p:spPr>
              <a:xfrm>
                <a:off x="1556280" y="5578560"/>
                <a:ext cx="157680" cy="1425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551" h="506">
                    <a:moveTo>
                      <a:pt x="0" y="51"/>
                    </a:moveTo>
                    <a:lnTo>
                      <a:pt x="190" y="4"/>
                    </a:lnTo>
                    <a:lnTo>
                      <a:pt x="238" y="0"/>
                    </a:lnTo>
                    <a:lnTo>
                      <a:pt x="298" y="44"/>
                    </a:lnTo>
                    <a:lnTo>
                      <a:pt x="327" y="112"/>
                    </a:lnTo>
                    <a:lnTo>
                      <a:pt x="403" y="89"/>
                    </a:lnTo>
                    <a:lnTo>
                      <a:pt x="445" y="82"/>
                    </a:lnTo>
                    <a:lnTo>
                      <a:pt x="506" y="129"/>
                    </a:lnTo>
                    <a:lnTo>
                      <a:pt x="551" y="247"/>
                    </a:lnTo>
                    <a:lnTo>
                      <a:pt x="551" y="327"/>
                    </a:lnTo>
                    <a:lnTo>
                      <a:pt x="527" y="453"/>
                    </a:lnTo>
                    <a:lnTo>
                      <a:pt x="473" y="506"/>
                    </a:lnTo>
                    <a:lnTo>
                      <a:pt x="519" y="405"/>
                    </a:lnTo>
                    <a:lnTo>
                      <a:pt x="540" y="289"/>
                    </a:lnTo>
                    <a:lnTo>
                      <a:pt x="506" y="179"/>
                    </a:lnTo>
                    <a:lnTo>
                      <a:pt x="430" y="97"/>
                    </a:lnTo>
                    <a:lnTo>
                      <a:pt x="162" y="164"/>
                    </a:lnTo>
                    <a:lnTo>
                      <a:pt x="295" y="112"/>
                    </a:lnTo>
                    <a:lnTo>
                      <a:pt x="259" y="40"/>
                    </a:lnTo>
                    <a:lnTo>
                      <a:pt x="222" y="2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80"/>
              <p:cNvSpPr/>
              <p:nvPr/>
            </p:nvSpPr>
            <p:spPr>
              <a:xfrm>
                <a:off x="1096200" y="5516280"/>
                <a:ext cx="363240" cy="2577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1272" h="908">
                    <a:moveTo>
                      <a:pt x="1272" y="41"/>
                    </a:moveTo>
                    <a:lnTo>
                      <a:pt x="1171" y="0"/>
                    </a:lnTo>
                    <a:lnTo>
                      <a:pt x="7" y="144"/>
                    </a:lnTo>
                    <a:lnTo>
                      <a:pt x="0" y="193"/>
                    </a:lnTo>
                    <a:lnTo>
                      <a:pt x="872" y="908"/>
                    </a:lnTo>
                    <a:lnTo>
                      <a:pt x="895" y="501"/>
                    </a:lnTo>
                    <a:lnTo>
                      <a:pt x="441" y="186"/>
                    </a:lnTo>
                    <a:lnTo>
                      <a:pt x="319" y="275"/>
                    </a:lnTo>
                    <a:lnTo>
                      <a:pt x="55" y="161"/>
                    </a:lnTo>
                    <a:lnTo>
                      <a:pt x="1175" y="19"/>
                    </a:lnTo>
                    <a:lnTo>
                      <a:pt x="127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81"/>
              <p:cNvSpPr/>
              <p:nvPr/>
            </p:nvSpPr>
            <p:spPr>
              <a:xfrm>
                <a:off x="1220760" y="5518080"/>
                <a:ext cx="278640" cy="8676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75" h="306">
                    <a:moveTo>
                      <a:pt x="970" y="0"/>
                    </a:moveTo>
                    <a:lnTo>
                      <a:pt x="0" y="162"/>
                    </a:lnTo>
                    <a:lnTo>
                      <a:pt x="224" y="306"/>
                    </a:lnTo>
                    <a:lnTo>
                      <a:pt x="131" y="192"/>
                    </a:lnTo>
                    <a:lnTo>
                      <a:pt x="342" y="124"/>
                    </a:lnTo>
                    <a:lnTo>
                      <a:pt x="943" y="42"/>
                    </a:lnTo>
                    <a:lnTo>
                      <a:pt x="975" y="71"/>
                    </a:lnTo>
                    <a:lnTo>
                      <a:pt x="9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82"/>
              <p:cNvSpPr/>
              <p:nvPr/>
            </p:nvSpPr>
            <p:spPr>
              <a:xfrm>
                <a:off x="1573920" y="5535360"/>
                <a:ext cx="99720" cy="69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350" h="245">
                    <a:moveTo>
                      <a:pt x="0" y="57"/>
                    </a:moveTo>
                    <a:lnTo>
                      <a:pt x="68" y="68"/>
                    </a:lnTo>
                    <a:lnTo>
                      <a:pt x="327" y="171"/>
                    </a:lnTo>
                    <a:lnTo>
                      <a:pt x="270" y="192"/>
                    </a:lnTo>
                    <a:lnTo>
                      <a:pt x="331" y="194"/>
                    </a:lnTo>
                    <a:lnTo>
                      <a:pt x="342" y="245"/>
                    </a:lnTo>
                    <a:lnTo>
                      <a:pt x="350" y="167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83"/>
              <p:cNvSpPr/>
              <p:nvPr/>
            </p:nvSpPr>
            <p:spPr>
              <a:xfrm>
                <a:off x="1536480" y="5340960"/>
                <a:ext cx="57960" cy="565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03" h="199">
                    <a:moveTo>
                      <a:pt x="182" y="0"/>
                    </a:moveTo>
                    <a:lnTo>
                      <a:pt x="203" y="32"/>
                    </a:lnTo>
                    <a:lnTo>
                      <a:pt x="142" y="177"/>
                    </a:lnTo>
                    <a:lnTo>
                      <a:pt x="62" y="199"/>
                    </a:lnTo>
                    <a:lnTo>
                      <a:pt x="0" y="89"/>
                    </a:lnTo>
                    <a:lnTo>
                      <a:pt x="68" y="13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84"/>
              <p:cNvSpPr/>
              <p:nvPr/>
            </p:nvSpPr>
            <p:spPr>
              <a:xfrm>
                <a:off x="1572480" y="5625720"/>
                <a:ext cx="66600" cy="119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234" h="422">
                    <a:moveTo>
                      <a:pt x="0" y="124"/>
                    </a:moveTo>
                    <a:lnTo>
                      <a:pt x="15" y="59"/>
                    </a:lnTo>
                    <a:lnTo>
                      <a:pt x="65" y="0"/>
                    </a:lnTo>
                    <a:lnTo>
                      <a:pt x="141" y="4"/>
                    </a:lnTo>
                    <a:lnTo>
                      <a:pt x="194" y="61"/>
                    </a:lnTo>
                    <a:lnTo>
                      <a:pt x="224" y="133"/>
                    </a:lnTo>
                    <a:lnTo>
                      <a:pt x="234" y="267"/>
                    </a:lnTo>
                    <a:lnTo>
                      <a:pt x="190" y="381"/>
                    </a:lnTo>
                    <a:lnTo>
                      <a:pt x="127" y="422"/>
                    </a:lnTo>
                    <a:lnTo>
                      <a:pt x="177" y="335"/>
                    </a:lnTo>
                    <a:lnTo>
                      <a:pt x="205" y="253"/>
                    </a:lnTo>
                    <a:lnTo>
                      <a:pt x="190" y="152"/>
                    </a:lnTo>
                    <a:lnTo>
                      <a:pt x="158" y="94"/>
                    </a:lnTo>
                    <a:lnTo>
                      <a:pt x="124" y="59"/>
                    </a:lnTo>
                    <a:lnTo>
                      <a:pt x="69" y="5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85"/>
              <p:cNvSpPr/>
              <p:nvPr/>
            </p:nvSpPr>
            <p:spPr>
              <a:xfrm>
                <a:off x="1346040" y="5690880"/>
                <a:ext cx="353520" cy="100440"/>
              </a:xfrm>
              <a:custGeom>
                <a:avLst/>
                <a:gdLst>
                  <a:gd name="textAreaLeft" fmla="*/ 0 w 353520"/>
                  <a:gd name="textAreaRight" fmla="*/ 353880 w 3535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240" h="354">
                    <a:moveTo>
                      <a:pt x="0" y="293"/>
                    </a:moveTo>
                    <a:lnTo>
                      <a:pt x="755" y="84"/>
                    </a:lnTo>
                    <a:lnTo>
                      <a:pt x="780" y="0"/>
                    </a:lnTo>
                    <a:lnTo>
                      <a:pt x="793" y="101"/>
                    </a:lnTo>
                    <a:lnTo>
                      <a:pt x="848" y="156"/>
                    </a:lnTo>
                    <a:lnTo>
                      <a:pt x="898" y="185"/>
                    </a:lnTo>
                    <a:lnTo>
                      <a:pt x="970" y="156"/>
                    </a:lnTo>
                    <a:lnTo>
                      <a:pt x="1236" y="73"/>
                    </a:lnTo>
                    <a:lnTo>
                      <a:pt x="1211" y="109"/>
                    </a:lnTo>
                    <a:lnTo>
                      <a:pt x="1240" y="160"/>
                    </a:lnTo>
                    <a:lnTo>
                      <a:pt x="934" y="270"/>
                    </a:lnTo>
                    <a:lnTo>
                      <a:pt x="784" y="221"/>
                    </a:lnTo>
                    <a:lnTo>
                      <a:pt x="639" y="213"/>
                    </a:lnTo>
                    <a:lnTo>
                      <a:pt x="175" y="354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86"/>
              <p:cNvSpPr/>
              <p:nvPr/>
            </p:nvSpPr>
            <p:spPr>
              <a:xfrm>
                <a:off x="1547280" y="5316480"/>
                <a:ext cx="127800" cy="1778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446" h="630">
                    <a:moveTo>
                      <a:pt x="0" y="261"/>
                    </a:moveTo>
                    <a:lnTo>
                      <a:pt x="91" y="571"/>
                    </a:lnTo>
                    <a:lnTo>
                      <a:pt x="298" y="555"/>
                    </a:lnTo>
                    <a:lnTo>
                      <a:pt x="349" y="630"/>
                    </a:lnTo>
                    <a:lnTo>
                      <a:pt x="446" y="481"/>
                    </a:lnTo>
                    <a:lnTo>
                      <a:pt x="412" y="261"/>
                    </a:lnTo>
                    <a:lnTo>
                      <a:pt x="391" y="322"/>
                    </a:lnTo>
                    <a:lnTo>
                      <a:pt x="310" y="333"/>
                    </a:lnTo>
                    <a:lnTo>
                      <a:pt x="266" y="304"/>
                    </a:lnTo>
                    <a:lnTo>
                      <a:pt x="239" y="230"/>
                    </a:lnTo>
                    <a:lnTo>
                      <a:pt x="195" y="192"/>
                    </a:lnTo>
                    <a:lnTo>
                      <a:pt x="201" y="130"/>
                    </a:lnTo>
                    <a:lnTo>
                      <a:pt x="353" y="156"/>
                    </a:lnTo>
                    <a:lnTo>
                      <a:pt x="389" y="156"/>
                    </a:lnTo>
                    <a:lnTo>
                      <a:pt x="386" y="139"/>
                    </a:lnTo>
                    <a:lnTo>
                      <a:pt x="306" y="114"/>
                    </a:lnTo>
                    <a:lnTo>
                      <a:pt x="195" y="107"/>
                    </a:lnTo>
                    <a:lnTo>
                      <a:pt x="157" y="95"/>
                    </a:lnTo>
                    <a:lnTo>
                      <a:pt x="150" y="63"/>
                    </a:lnTo>
                    <a:lnTo>
                      <a:pt x="272" y="44"/>
                    </a:lnTo>
                    <a:lnTo>
                      <a:pt x="353" y="23"/>
                    </a:lnTo>
                    <a:lnTo>
                      <a:pt x="348" y="6"/>
                    </a:lnTo>
                    <a:lnTo>
                      <a:pt x="281" y="0"/>
                    </a:lnTo>
                    <a:lnTo>
                      <a:pt x="163" y="48"/>
                    </a:lnTo>
                    <a:lnTo>
                      <a:pt x="89" y="44"/>
                    </a:lnTo>
                    <a:lnTo>
                      <a:pt x="108" y="74"/>
                    </a:lnTo>
                    <a:lnTo>
                      <a:pt x="137" y="84"/>
                    </a:lnTo>
                    <a:lnTo>
                      <a:pt x="146" y="118"/>
                    </a:lnTo>
                    <a:lnTo>
                      <a:pt x="175" y="135"/>
                    </a:lnTo>
                    <a:lnTo>
                      <a:pt x="190" y="246"/>
                    </a:lnTo>
                    <a:lnTo>
                      <a:pt x="213" y="276"/>
                    </a:lnTo>
                    <a:lnTo>
                      <a:pt x="197" y="354"/>
                    </a:lnTo>
                    <a:lnTo>
                      <a:pt x="150" y="363"/>
                    </a:lnTo>
                    <a:lnTo>
                      <a:pt x="156" y="451"/>
                    </a:lnTo>
                    <a:lnTo>
                      <a:pt x="114" y="472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7"/>
              <p:cNvSpPr/>
              <p:nvPr/>
            </p:nvSpPr>
            <p:spPr>
              <a:xfrm>
                <a:off x="1485000" y="5263920"/>
                <a:ext cx="154080" cy="160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60920"/>
                  <a:gd name="textAreaBottom" fmla="*/ 160920 h 160920"/>
                </a:gdLst>
                <a:ahLst/>
                <a:rect l="textAreaLeft" t="textAreaTop" r="textAreaRight" b="textAreaBottom"/>
                <a:pathLst>
                  <a:path w="540" h="568">
                    <a:moveTo>
                      <a:pt x="394" y="310"/>
                    </a:moveTo>
                    <a:lnTo>
                      <a:pt x="363" y="363"/>
                    </a:lnTo>
                    <a:lnTo>
                      <a:pt x="335" y="466"/>
                    </a:lnTo>
                    <a:lnTo>
                      <a:pt x="274" y="489"/>
                    </a:lnTo>
                    <a:lnTo>
                      <a:pt x="274" y="568"/>
                    </a:lnTo>
                    <a:lnTo>
                      <a:pt x="238" y="513"/>
                    </a:lnTo>
                    <a:lnTo>
                      <a:pt x="0" y="399"/>
                    </a:lnTo>
                    <a:lnTo>
                      <a:pt x="30" y="314"/>
                    </a:lnTo>
                    <a:lnTo>
                      <a:pt x="264" y="63"/>
                    </a:lnTo>
                    <a:lnTo>
                      <a:pt x="363" y="0"/>
                    </a:lnTo>
                    <a:lnTo>
                      <a:pt x="460" y="30"/>
                    </a:lnTo>
                    <a:lnTo>
                      <a:pt x="540" y="126"/>
                    </a:lnTo>
                    <a:lnTo>
                      <a:pt x="475" y="116"/>
                    </a:lnTo>
                    <a:lnTo>
                      <a:pt x="293" y="164"/>
                    </a:lnTo>
                    <a:lnTo>
                      <a:pt x="251" y="196"/>
                    </a:lnTo>
                    <a:lnTo>
                      <a:pt x="257" y="228"/>
                    </a:lnTo>
                    <a:lnTo>
                      <a:pt x="323" y="236"/>
                    </a:lnTo>
                    <a:lnTo>
                      <a:pt x="363" y="274"/>
                    </a:lnTo>
                    <a:lnTo>
                      <a:pt x="262" y="295"/>
                    </a:lnTo>
                    <a:lnTo>
                      <a:pt x="202" y="375"/>
                    </a:lnTo>
                    <a:lnTo>
                      <a:pt x="240" y="468"/>
                    </a:lnTo>
                    <a:lnTo>
                      <a:pt x="299" y="414"/>
                    </a:lnTo>
                    <a:lnTo>
                      <a:pt x="327" y="430"/>
                    </a:lnTo>
                    <a:lnTo>
                      <a:pt x="357" y="321"/>
                    </a:lnTo>
                    <a:lnTo>
                      <a:pt x="382" y="299"/>
                    </a:lnTo>
                    <a:lnTo>
                      <a:pt x="394" y="321"/>
                    </a:lnTo>
                    <a:lnTo>
                      <a:pt x="394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8"/>
              <p:cNvSpPr/>
              <p:nvPr/>
            </p:nvSpPr>
            <p:spPr>
              <a:xfrm>
                <a:off x="738720" y="5506200"/>
                <a:ext cx="761400" cy="75240"/>
              </a:xfrm>
              <a:custGeom>
                <a:avLst/>
                <a:gdLst>
                  <a:gd name="textAreaLeft" fmla="*/ 0 w 761400"/>
                  <a:gd name="textAreaRight" fmla="*/ 761760 w 76140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2665" h="267">
                    <a:moveTo>
                      <a:pt x="150" y="0"/>
                    </a:moveTo>
                    <a:lnTo>
                      <a:pt x="0" y="114"/>
                    </a:lnTo>
                    <a:lnTo>
                      <a:pt x="310" y="267"/>
                    </a:lnTo>
                    <a:lnTo>
                      <a:pt x="759" y="261"/>
                    </a:lnTo>
                    <a:lnTo>
                      <a:pt x="1200" y="73"/>
                    </a:lnTo>
                    <a:lnTo>
                      <a:pt x="2078" y="86"/>
                    </a:lnTo>
                    <a:lnTo>
                      <a:pt x="2399" y="42"/>
                    </a:lnTo>
                    <a:lnTo>
                      <a:pt x="2515" y="75"/>
                    </a:lnTo>
                    <a:lnTo>
                      <a:pt x="2665" y="48"/>
                    </a:lnTo>
                    <a:lnTo>
                      <a:pt x="2660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89"/>
              <p:cNvSpPr/>
              <p:nvPr/>
            </p:nvSpPr>
            <p:spPr>
              <a:xfrm>
                <a:off x="1573920" y="5506200"/>
                <a:ext cx="185400" cy="3780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50" h="134">
                    <a:moveTo>
                      <a:pt x="42" y="134"/>
                    </a:moveTo>
                    <a:lnTo>
                      <a:pt x="201" y="118"/>
                    </a:lnTo>
                    <a:lnTo>
                      <a:pt x="357" y="25"/>
                    </a:lnTo>
                    <a:lnTo>
                      <a:pt x="650" y="0"/>
                    </a:lnTo>
                    <a:lnTo>
                      <a:pt x="230" y="0"/>
                    </a:lnTo>
                    <a:lnTo>
                      <a:pt x="205" y="29"/>
                    </a:lnTo>
                    <a:lnTo>
                      <a:pt x="110" y="33"/>
                    </a:lnTo>
                    <a:lnTo>
                      <a:pt x="2" y="0"/>
                    </a:lnTo>
                    <a:lnTo>
                      <a:pt x="0" y="105"/>
                    </a:lnTo>
                    <a:lnTo>
                      <a:pt x="42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90"/>
            <p:cNvSpPr/>
            <p:nvPr/>
          </p:nvSpPr>
          <p:spPr>
            <a:xfrm>
              <a:off x="1468080" y="2362320"/>
              <a:ext cx="61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sh Over and Shor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6"/>
          <p:cNvSpPr/>
          <p:nvPr/>
        </p:nvSpPr>
        <p:spPr>
          <a:xfrm>
            <a:off x="6324480" y="4197240"/>
            <a:ext cx="83844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 flipH="1" flipV="1">
            <a:off x="7149960" y="2734920"/>
            <a:ext cx="12960" cy="146196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581360" y="3882960"/>
            <a:ext cx="1976760" cy="6415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sh……………. $ 621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les..….……….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 (625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rtage.……....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$    (4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762120" y="1143000"/>
            <a:ext cx="72151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1066680" y="3352680"/>
            <a:ext cx="6608880" cy="5094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of Cash Pay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809880" y="5715000"/>
            <a:ext cx="129564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5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of Cash Pa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229600" cy="190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411840" indent="-411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xpenditures should be made by check or EFT.  The only exception is for small payments from petty c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authorization for check signing, or EFT approval, and recordkeeping du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 voucher system (also called a payment packet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bd07250_"/>
          <p:cNvPicPr/>
          <p:nvPr/>
        </p:nvPicPr>
        <p:blipFill>
          <a:blip r:embed="rId1"/>
          <a:stretch/>
        </p:blipFill>
        <p:spPr>
          <a:xfrm>
            <a:off x="6324480" y="3886200"/>
            <a:ext cx="2232000" cy="2590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uch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830592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oucher system establishes procedur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ing, approving, and recording obligations for eventual cash disburs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ing checks / EFT for payment of verified, approved, and recorded obl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BS00559_"/>
          <p:cNvPicPr/>
          <p:nvPr/>
        </p:nvPicPr>
        <p:blipFill>
          <a:blip r:embed="rId1"/>
          <a:stretch/>
        </p:blipFill>
        <p:spPr>
          <a:xfrm>
            <a:off x="3733920" y="5321160"/>
            <a:ext cx="2133360" cy="1209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7"/>
          <p:cNvSpPr/>
          <p:nvPr/>
        </p:nvSpPr>
        <p:spPr>
          <a:xfrm>
            <a:off x="152280" y="3049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uch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1165680" y="1609560"/>
            <a:ext cx="101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ash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761040" y="19908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c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838080" y="243828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eceiv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152280" y="2895480"/>
            <a:ext cx="22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pplier (Vend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762120" y="3352680"/>
            <a:ext cx="146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urch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838440" y="3895560"/>
            <a:ext cx="131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eques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9"/>
          <p:cNvSpPr/>
          <p:nvPr/>
        </p:nvSpPr>
        <p:spPr>
          <a:xfrm>
            <a:off x="2057400" y="1784520"/>
            <a:ext cx="13716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0"/>
          <p:cNvSpPr/>
          <p:nvPr/>
        </p:nvSpPr>
        <p:spPr>
          <a:xfrm>
            <a:off x="2133720" y="2165400"/>
            <a:ext cx="1143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1"/>
          <p:cNvSpPr/>
          <p:nvPr/>
        </p:nvSpPr>
        <p:spPr>
          <a:xfrm>
            <a:off x="2057400" y="2660760"/>
            <a:ext cx="10666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2"/>
          <p:cNvSpPr/>
          <p:nvPr/>
        </p:nvSpPr>
        <p:spPr>
          <a:xfrm>
            <a:off x="2209680" y="3079800"/>
            <a:ext cx="762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3"/>
          <p:cNvSpPr/>
          <p:nvPr/>
        </p:nvSpPr>
        <p:spPr>
          <a:xfrm>
            <a:off x="2133720" y="3537000"/>
            <a:ext cx="6858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4"/>
          <p:cNvSpPr/>
          <p:nvPr/>
        </p:nvSpPr>
        <p:spPr>
          <a:xfrm>
            <a:off x="2133720" y="40705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6324840" y="1981080"/>
            <a:ext cx="101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sh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6324480" y="2286000"/>
            <a:ext cx="2819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, Requestor,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amp; Purch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8"/>
          <p:cNvSpPr/>
          <p:nvPr/>
        </p:nvSpPr>
        <p:spPr>
          <a:xfrm>
            <a:off x="6399720" y="289548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6323040" y="1600200"/>
            <a:ext cx="21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pplier (Vend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0"/>
          <p:cNvSpPr/>
          <p:nvPr/>
        </p:nvSpPr>
        <p:spPr>
          <a:xfrm>
            <a:off x="6396480" y="3857760"/>
            <a:ext cx="189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urchasing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1"/>
          <p:cNvSpPr/>
          <p:nvPr/>
        </p:nvSpPr>
        <p:spPr>
          <a:xfrm flipH="1">
            <a:off x="5486400" y="1784520"/>
            <a:ext cx="91440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6248520" y="3276720"/>
            <a:ext cx="2958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pplier, Requestor,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ceiving &amp; Ac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8" descr=""/>
          <p:cNvPicPr/>
          <p:nvPr/>
        </p:nvPicPr>
        <p:blipFill>
          <a:blip r:embed="rId1"/>
          <a:stretch/>
        </p:blipFill>
        <p:spPr>
          <a:xfrm>
            <a:off x="533520" y="495288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9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3429000" y="1600200"/>
            <a:ext cx="2044800" cy="1784520"/>
          </a:xfrm>
          <a:prstGeom prst="rect">
            <a:avLst/>
          </a:prstGeom>
          <a:solidFill>
            <a:srgbClr val="f4f4a3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467160" y="1552680"/>
            <a:ext cx="201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ck/E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282840" y="1974960"/>
            <a:ext cx="2044800" cy="178416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306600" y="1984320"/>
            <a:ext cx="2016360" cy="30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Invoice Approv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3130560" y="2432160"/>
            <a:ext cx="2044800" cy="1784160"/>
          </a:xfrm>
          <a:prstGeom prst="rect">
            <a:avLst/>
          </a:prstGeom>
          <a:solidFill>
            <a:srgbClr val="f4f4a3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3154320" y="2416320"/>
            <a:ext cx="201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1"/>
          <p:cNvSpPr/>
          <p:nvPr/>
        </p:nvSpPr>
        <p:spPr>
          <a:xfrm>
            <a:off x="2978280" y="2889360"/>
            <a:ext cx="2044440" cy="178416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2"/>
          <p:cNvSpPr/>
          <p:nvPr/>
        </p:nvSpPr>
        <p:spPr>
          <a:xfrm>
            <a:off x="3002040" y="2898720"/>
            <a:ext cx="2016000" cy="30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Invo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4"/>
          <p:cNvSpPr/>
          <p:nvPr/>
        </p:nvSpPr>
        <p:spPr>
          <a:xfrm>
            <a:off x="2825640" y="3346560"/>
            <a:ext cx="2044800" cy="1784160"/>
          </a:xfrm>
          <a:prstGeom prst="rect">
            <a:avLst/>
          </a:prstGeom>
          <a:solidFill>
            <a:srgbClr val="f4f4a3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2849400" y="3330720"/>
            <a:ext cx="201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7"/>
          <p:cNvSpPr/>
          <p:nvPr/>
        </p:nvSpPr>
        <p:spPr>
          <a:xfrm>
            <a:off x="2666880" y="3809880"/>
            <a:ext cx="2044800" cy="1784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8"/>
          <p:cNvSpPr/>
          <p:nvPr/>
        </p:nvSpPr>
        <p:spPr>
          <a:xfrm>
            <a:off x="2743200" y="3886200"/>
            <a:ext cx="1916280" cy="28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00cc"/>
                </a:solidFill>
                <a:latin typeface="Arial"/>
              </a:rPr>
              <a:t>Purchase Requisi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9"/>
          <p:cNvGrpSpPr/>
          <p:nvPr/>
        </p:nvGrpSpPr>
        <p:grpSpPr>
          <a:xfrm>
            <a:off x="2286000" y="4191120"/>
            <a:ext cx="3276360" cy="2286000"/>
            <a:chOff x="2286000" y="4191120"/>
            <a:chExt cx="3276360" cy="2286000"/>
          </a:xfrm>
        </p:grpSpPr>
        <p:pic>
          <p:nvPicPr>
            <p:cNvPr id="423" name="Picture 50" descr=""/>
            <p:cNvPicPr/>
            <p:nvPr/>
          </p:nvPicPr>
          <p:blipFill>
            <a:blip r:embed="rId3"/>
            <a:stretch/>
          </p:blipFill>
          <p:spPr>
            <a:xfrm>
              <a:off x="2286000" y="4191120"/>
              <a:ext cx="3276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Rectangle 51"/>
            <p:cNvSpPr/>
            <p:nvPr/>
          </p:nvSpPr>
          <p:spPr>
            <a:xfrm>
              <a:off x="2767320" y="492480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</a:rPr>
                <a:t>Vouche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54"/>
          <p:cNvSpPr/>
          <p:nvPr/>
        </p:nvSpPr>
        <p:spPr>
          <a:xfrm>
            <a:off x="1219320" y="1219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5"/>
          <p:cNvSpPr/>
          <p:nvPr/>
        </p:nvSpPr>
        <p:spPr>
          <a:xfrm>
            <a:off x="6172200" y="1219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7"/>
          <p:cNvSpPr/>
          <p:nvPr/>
        </p:nvSpPr>
        <p:spPr>
          <a:xfrm flipH="1">
            <a:off x="4723920" y="4038480"/>
            <a:ext cx="16765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6"/>
          <p:cNvSpPr/>
          <p:nvPr/>
        </p:nvSpPr>
        <p:spPr>
          <a:xfrm flipH="1">
            <a:off x="4876560" y="3581280"/>
            <a:ext cx="152388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5"/>
          <p:cNvSpPr/>
          <p:nvPr/>
        </p:nvSpPr>
        <p:spPr>
          <a:xfrm flipH="1">
            <a:off x="5029200" y="3124080"/>
            <a:ext cx="137160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3"/>
          <p:cNvSpPr/>
          <p:nvPr/>
        </p:nvSpPr>
        <p:spPr>
          <a:xfrm flipH="1">
            <a:off x="5333760" y="2165400"/>
            <a:ext cx="106668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4"/>
          <p:cNvSpPr/>
          <p:nvPr/>
        </p:nvSpPr>
        <p:spPr>
          <a:xfrm flipH="1">
            <a:off x="5181120" y="2666880"/>
            <a:ext cx="12193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33520" y="609480"/>
            <a:ext cx="82296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523880" y="2438280"/>
            <a:ext cx="6019920" cy="266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914400" y="2590920"/>
            <a:ext cx="7162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676520" y="3200400"/>
            <a:ext cx="5410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Internal Control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Cash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Petty C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Banking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752480" y="838080"/>
            <a:ext cx="5486400" cy="762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1752480" y="2895480"/>
            <a:ext cx="556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uch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6019920" cy="46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5" name="Text Box 8"/>
          <p:cNvSpPr/>
          <p:nvPr/>
        </p:nvSpPr>
        <p:spPr>
          <a:xfrm>
            <a:off x="228600" y="1600200"/>
            <a:ext cx="22096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477120" y="2666880"/>
            <a:ext cx="2361960" cy="1465560"/>
          </a:xfrm>
          <a:prstGeom prst="rect">
            <a:avLst/>
          </a:prstGeom>
          <a:solidFill>
            <a:srgbClr val="99dd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yment voucher authorizes a check or EFT payment to be sent to the vend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4952880" y="2362320"/>
            <a:ext cx="762120" cy="380880"/>
          </a:xfrm>
          <a:prstGeom prst="rect">
            <a:avLst/>
          </a:prstGeom>
          <a:noFill/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09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2286000" y="91440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pic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20"/>
          <p:cNvSpPr/>
          <p:nvPr/>
        </p:nvSpPr>
        <p:spPr>
          <a:xfrm>
            <a:off x="1295280" y="2743200"/>
            <a:ext cx="6608880" cy="644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ty Ca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4038480" y="5715000"/>
            <a:ext cx="129564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5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2"/>
          <p:cNvGrpSpPr/>
          <p:nvPr/>
        </p:nvGrpSpPr>
        <p:grpSpPr>
          <a:xfrm>
            <a:off x="1828800" y="5562720"/>
            <a:ext cx="1219320" cy="609480"/>
            <a:chOff x="1828800" y="5562720"/>
            <a:chExt cx="1219320" cy="609480"/>
          </a:xfrm>
        </p:grpSpPr>
        <p:sp>
          <p:nvSpPr>
            <p:cNvPr id="458" name="Freeform 23"/>
            <p:cNvSpPr/>
            <p:nvPr/>
          </p:nvSpPr>
          <p:spPr>
            <a:xfrm>
              <a:off x="2657880" y="5669280"/>
              <a:ext cx="156960" cy="2739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742" h="1485">
                  <a:moveTo>
                    <a:pt x="0" y="106"/>
                  </a:moveTo>
                  <a:lnTo>
                    <a:pt x="113" y="0"/>
                  </a:lnTo>
                  <a:lnTo>
                    <a:pt x="742" y="1372"/>
                  </a:lnTo>
                  <a:lnTo>
                    <a:pt x="523" y="1485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"/>
            <p:cNvSpPr/>
            <p:nvPr/>
          </p:nvSpPr>
          <p:spPr>
            <a:xfrm>
              <a:off x="1830240" y="5665680"/>
              <a:ext cx="936360" cy="4939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4405" h="2675">
                  <a:moveTo>
                    <a:pt x="60" y="1965"/>
                  </a:moveTo>
                  <a:lnTo>
                    <a:pt x="0" y="1840"/>
                  </a:lnTo>
                  <a:lnTo>
                    <a:pt x="43" y="1724"/>
                  </a:lnTo>
                  <a:lnTo>
                    <a:pt x="148" y="1654"/>
                  </a:lnTo>
                  <a:lnTo>
                    <a:pt x="154" y="1570"/>
                  </a:lnTo>
                  <a:lnTo>
                    <a:pt x="275" y="1479"/>
                  </a:lnTo>
                  <a:lnTo>
                    <a:pt x="448" y="1460"/>
                  </a:lnTo>
                  <a:lnTo>
                    <a:pt x="714" y="1462"/>
                  </a:lnTo>
                  <a:lnTo>
                    <a:pt x="804" y="1511"/>
                  </a:lnTo>
                  <a:lnTo>
                    <a:pt x="863" y="1460"/>
                  </a:lnTo>
                  <a:lnTo>
                    <a:pt x="1207" y="1414"/>
                  </a:lnTo>
                  <a:lnTo>
                    <a:pt x="1355" y="1422"/>
                  </a:lnTo>
                  <a:lnTo>
                    <a:pt x="1473" y="1346"/>
                  </a:lnTo>
                  <a:lnTo>
                    <a:pt x="1901" y="1253"/>
                  </a:lnTo>
                  <a:lnTo>
                    <a:pt x="2313" y="1011"/>
                  </a:lnTo>
                  <a:lnTo>
                    <a:pt x="2224" y="969"/>
                  </a:lnTo>
                  <a:lnTo>
                    <a:pt x="1368" y="1232"/>
                  </a:lnTo>
                  <a:lnTo>
                    <a:pt x="1264" y="1142"/>
                  </a:lnTo>
                  <a:lnTo>
                    <a:pt x="1207" y="1080"/>
                  </a:lnTo>
                  <a:lnTo>
                    <a:pt x="1211" y="1009"/>
                  </a:lnTo>
                  <a:lnTo>
                    <a:pt x="1275" y="931"/>
                  </a:lnTo>
                  <a:lnTo>
                    <a:pt x="1745" y="585"/>
                  </a:lnTo>
                  <a:lnTo>
                    <a:pt x="1986" y="473"/>
                  </a:lnTo>
                  <a:lnTo>
                    <a:pt x="2332" y="302"/>
                  </a:lnTo>
                  <a:lnTo>
                    <a:pt x="2545" y="160"/>
                  </a:lnTo>
                  <a:lnTo>
                    <a:pt x="2705" y="129"/>
                  </a:lnTo>
                  <a:lnTo>
                    <a:pt x="3061" y="87"/>
                  </a:lnTo>
                  <a:lnTo>
                    <a:pt x="3317" y="8"/>
                  </a:lnTo>
                  <a:lnTo>
                    <a:pt x="3496" y="0"/>
                  </a:lnTo>
                  <a:lnTo>
                    <a:pt x="3701" y="53"/>
                  </a:lnTo>
                  <a:lnTo>
                    <a:pt x="3922" y="114"/>
                  </a:lnTo>
                  <a:lnTo>
                    <a:pt x="3988" y="350"/>
                  </a:lnTo>
                  <a:lnTo>
                    <a:pt x="4405" y="1388"/>
                  </a:lnTo>
                  <a:lnTo>
                    <a:pt x="2606" y="2543"/>
                  </a:lnTo>
                  <a:lnTo>
                    <a:pt x="1532" y="2675"/>
                  </a:lnTo>
                  <a:lnTo>
                    <a:pt x="1055" y="2545"/>
                  </a:lnTo>
                  <a:lnTo>
                    <a:pt x="321" y="1994"/>
                  </a:lnTo>
                  <a:lnTo>
                    <a:pt x="60" y="196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5"/>
            <p:cNvSpPr/>
            <p:nvPr/>
          </p:nvSpPr>
          <p:spPr>
            <a:xfrm>
              <a:off x="2012400" y="6003360"/>
              <a:ext cx="270360" cy="71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1272" h="388">
                  <a:moveTo>
                    <a:pt x="0" y="53"/>
                  </a:moveTo>
                  <a:lnTo>
                    <a:pt x="141" y="26"/>
                  </a:lnTo>
                  <a:lnTo>
                    <a:pt x="346" y="78"/>
                  </a:lnTo>
                  <a:lnTo>
                    <a:pt x="449" y="171"/>
                  </a:lnTo>
                  <a:lnTo>
                    <a:pt x="527" y="118"/>
                  </a:lnTo>
                  <a:lnTo>
                    <a:pt x="669" y="144"/>
                  </a:lnTo>
                  <a:lnTo>
                    <a:pt x="1015" y="78"/>
                  </a:lnTo>
                  <a:lnTo>
                    <a:pt x="1082" y="0"/>
                  </a:lnTo>
                  <a:lnTo>
                    <a:pt x="1093" y="104"/>
                  </a:lnTo>
                  <a:lnTo>
                    <a:pt x="1236" y="93"/>
                  </a:lnTo>
                  <a:lnTo>
                    <a:pt x="1272" y="243"/>
                  </a:lnTo>
                  <a:lnTo>
                    <a:pt x="1082" y="273"/>
                  </a:lnTo>
                  <a:lnTo>
                    <a:pt x="852" y="349"/>
                  </a:lnTo>
                  <a:lnTo>
                    <a:pt x="772" y="388"/>
                  </a:lnTo>
                  <a:lnTo>
                    <a:pt x="259" y="23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6"/>
            <p:cNvSpPr/>
            <p:nvPr/>
          </p:nvSpPr>
          <p:spPr>
            <a:xfrm>
              <a:off x="1926720" y="6043320"/>
              <a:ext cx="98640" cy="33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64" h="181">
                  <a:moveTo>
                    <a:pt x="27" y="16"/>
                  </a:moveTo>
                  <a:lnTo>
                    <a:pt x="114" y="40"/>
                  </a:lnTo>
                  <a:lnTo>
                    <a:pt x="243" y="29"/>
                  </a:lnTo>
                  <a:lnTo>
                    <a:pt x="346" y="0"/>
                  </a:lnTo>
                  <a:lnTo>
                    <a:pt x="464" y="76"/>
                  </a:lnTo>
                  <a:lnTo>
                    <a:pt x="413" y="181"/>
                  </a:lnTo>
                  <a:lnTo>
                    <a:pt x="105" y="118"/>
                  </a:lnTo>
                  <a:lnTo>
                    <a:pt x="0" y="52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7"/>
            <p:cNvSpPr/>
            <p:nvPr/>
          </p:nvSpPr>
          <p:spPr>
            <a:xfrm>
              <a:off x="1841760" y="5995800"/>
              <a:ext cx="120600" cy="288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66" h="156">
                  <a:moveTo>
                    <a:pt x="0" y="78"/>
                  </a:moveTo>
                  <a:lnTo>
                    <a:pt x="91" y="66"/>
                  </a:lnTo>
                  <a:lnTo>
                    <a:pt x="194" y="15"/>
                  </a:lnTo>
                  <a:lnTo>
                    <a:pt x="323" y="0"/>
                  </a:lnTo>
                  <a:lnTo>
                    <a:pt x="566" y="51"/>
                  </a:lnTo>
                  <a:lnTo>
                    <a:pt x="462" y="93"/>
                  </a:lnTo>
                  <a:lnTo>
                    <a:pt x="374" y="156"/>
                  </a:lnTo>
                  <a:lnTo>
                    <a:pt x="24" y="144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"/>
            <p:cNvSpPr/>
            <p:nvPr/>
          </p:nvSpPr>
          <p:spPr>
            <a:xfrm>
              <a:off x="1861200" y="5932080"/>
              <a:ext cx="254520" cy="6156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1198" h="334">
                  <a:moveTo>
                    <a:pt x="0" y="196"/>
                  </a:moveTo>
                  <a:lnTo>
                    <a:pt x="67" y="165"/>
                  </a:lnTo>
                  <a:lnTo>
                    <a:pt x="232" y="165"/>
                  </a:lnTo>
                  <a:lnTo>
                    <a:pt x="437" y="180"/>
                  </a:lnTo>
                  <a:lnTo>
                    <a:pt x="551" y="180"/>
                  </a:lnTo>
                  <a:lnTo>
                    <a:pt x="618" y="144"/>
                  </a:lnTo>
                  <a:lnTo>
                    <a:pt x="606" y="51"/>
                  </a:lnTo>
                  <a:lnTo>
                    <a:pt x="669" y="104"/>
                  </a:lnTo>
                  <a:lnTo>
                    <a:pt x="721" y="217"/>
                  </a:lnTo>
                  <a:lnTo>
                    <a:pt x="799" y="220"/>
                  </a:lnTo>
                  <a:lnTo>
                    <a:pt x="799" y="144"/>
                  </a:lnTo>
                  <a:lnTo>
                    <a:pt x="1082" y="129"/>
                  </a:lnTo>
                  <a:lnTo>
                    <a:pt x="1158" y="0"/>
                  </a:lnTo>
                  <a:lnTo>
                    <a:pt x="1146" y="140"/>
                  </a:lnTo>
                  <a:lnTo>
                    <a:pt x="1198" y="243"/>
                  </a:lnTo>
                  <a:lnTo>
                    <a:pt x="1158" y="334"/>
                  </a:lnTo>
                  <a:lnTo>
                    <a:pt x="489" y="298"/>
                  </a:lnTo>
                  <a:lnTo>
                    <a:pt x="221" y="22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9"/>
            <p:cNvSpPr/>
            <p:nvPr/>
          </p:nvSpPr>
          <p:spPr>
            <a:xfrm>
              <a:off x="2094840" y="5736240"/>
              <a:ext cx="257040" cy="15696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209" h="850">
                  <a:moveTo>
                    <a:pt x="0" y="732"/>
                  </a:moveTo>
                  <a:lnTo>
                    <a:pt x="78" y="747"/>
                  </a:lnTo>
                  <a:lnTo>
                    <a:pt x="181" y="736"/>
                  </a:lnTo>
                  <a:lnTo>
                    <a:pt x="298" y="709"/>
                  </a:lnTo>
                  <a:lnTo>
                    <a:pt x="412" y="633"/>
                  </a:lnTo>
                  <a:lnTo>
                    <a:pt x="479" y="540"/>
                  </a:lnTo>
                  <a:lnTo>
                    <a:pt x="504" y="413"/>
                  </a:lnTo>
                  <a:lnTo>
                    <a:pt x="555" y="359"/>
                  </a:lnTo>
                  <a:lnTo>
                    <a:pt x="658" y="426"/>
                  </a:lnTo>
                  <a:lnTo>
                    <a:pt x="633" y="272"/>
                  </a:lnTo>
                  <a:lnTo>
                    <a:pt x="720" y="386"/>
                  </a:lnTo>
                  <a:lnTo>
                    <a:pt x="814" y="426"/>
                  </a:lnTo>
                  <a:lnTo>
                    <a:pt x="814" y="323"/>
                  </a:lnTo>
                  <a:lnTo>
                    <a:pt x="968" y="205"/>
                  </a:lnTo>
                  <a:lnTo>
                    <a:pt x="1055" y="283"/>
                  </a:lnTo>
                  <a:lnTo>
                    <a:pt x="1097" y="308"/>
                  </a:lnTo>
                  <a:lnTo>
                    <a:pt x="1082" y="190"/>
                  </a:lnTo>
                  <a:lnTo>
                    <a:pt x="1122" y="51"/>
                  </a:lnTo>
                  <a:lnTo>
                    <a:pt x="1209" y="0"/>
                  </a:lnTo>
                  <a:lnTo>
                    <a:pt x="1148" y="272"/>
                  </a:lnTo>
                  <a:lnTo>
                    <a:pt x="1200" y="426"/>
                  </a:lnTo>
                  <a:lnTo>
                    <a:pt x="452" y="798"/>
                  </a:lnTo>
                  <a:lnTo>
                    <a:pt x="129" y="850"/>
                  </a:lnTo>
                  <a:lnTo>
                    <a:pt x="66" y="823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0"/>
            <p:cNvSpPr/>
            <p:nvPr/>
          </p:nvSpPr>
          <p:spPr>
            <a:xfrm>
              <a:off x="2116080" y="5770800"/>
              <a:ext cx="461520" cy="22068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220680"/>
                <a:gd name="textAreaBottom" fmla="*/ 220680 h 220680"/>
              </a:gdLst>
              <a:ahLst/>
              <a:rect l="textAreaLeft" t="textAreaTop" r="textAreaRight" b="textAreaBottom"/>
              <a:pathLst>
                <a:path w="2173" h="1198">
                  <a:moveTo>
                    <a:pt x="1232" y="90"/>
                  </a:moveTo>
                  <a:lnTo>
                    <a:pt x="1247" y="168"/>
                  </a:lnTo>
                  <a:lnTo>
                    <a:pt x="1196" y="244"/>
                  </a:lnTo>
                  <a:lnTo>
                    <a:pt x="1207" y="361"/>
                  </a:lnTo>
                  <a:lnTo>
                    <a:pt x="1118" y="398"/>
                  </a:lnTo>
                  <a:lnTo>
                    <a:pt x="1104" y="487"/>
                  </a:lnTo>
                  <a:lnTo>
                    <a:pt x="1211" y="502"/>
                  </a:lnTo>
                  <a:lnTo>
                    <a:pt x="1401" y="476"/>
                  </a:lnTo>
                  <a:lnTo>
                    <a:pt x="1633" y="361"/>
                  </a:lnTo>
                  <a:lnTo>
                    <a:pt x="1928" y="78"/>
                  </a:lnTo>
                  <a:lnTo>
                    <a:pt x="2173" y="0"/>
                  </a:lnTo>
                  <a:lnTo>
                    <a:pt x="2082" y="192"/>
                  </a:lnTo>
                  <a:lnTo>
                    <a:pt x="1876" y="464"/>
                  </a:lnTo>
                  <a:lnTo>
                    <a:pt x="1479" y="734"/>
                  </a:lnTo>
                  <a:lnTo>
                    <a:pt x="1566" y="821"/>
                  </a:lnTo>
                  <a:lnTo>
                    <a:pt x="1479" y="785"/>
                  </a:lnTo>
                  <a:lnTo>
                    <a:pt x="1298" y="683"/>
                  </a:lnTo>
                  <a:lnTo>
                    <a:pt x="1093" y="630"/>
                  </a:lnTo>
                  <a:lnTo>
                    <a:pt x="1093" y="671"/>
                  </a:lnTo>
                  <a:lnTo>
                    <a:pt x="1350" y="810"/>
                  </a:lnTo>
                  <a:lnTo>
                    <a:pt x="1196" y="966"/>
                  </a:lnTo>
                  <a:lnTo>
                    <a:pt x="1015" y="966"/>
                  </a:lnTo>
                  <a:lnTo>
                    <a:pt x="1118" y="877"/>
                  </a:lnTo>
                  <a:lnTo>
                    <a:pt x="1144" y="785"/>
                  </a:lnTo>
                  <a:lnTo>
                    <a:pt x="912" y="593"/>
                  </a:lnTo>
                  <a:lnTo>
                    <a:pt x="821" y="656"/>
                  </a:lnTo>
                  <a:lnTo>
                    <a:pt x="707" y="683"/>
                  </a:lnTo>
                  <a:lnTo>
                    <a:pt x="669" y="759"/>
                  </a:lnTo>
                  <a:lnTo>
                    <a:pt x="732" y="979"/>
                  </a:lnTo>
                  <a:lnTo>
                    <a:pt x="901" y="991"/>
                  </a:lnTo>
                  <a:lnTo>
                    <a:pt x="758" y="1084"/>
                  </a:lnTo>
                  <a:lnTo>
                    <a:pt x="692" y="1198"/>
                  </a:lnTo>
                  <a:lnTo>
                    <a:pt x="578" y="1171"/>
                  </a:lnTo>
                  <a:lnTo>
                    <a:pt x="294" y="1147"/>
                  </a:lnTo>
                  <a:lnTo>
                    <a:pt x="0" y="1183"/>
                  </a:lnTo>
                  <a:lnTo>
                    <a:pt x="63" y="966"/>
                  </a:lnTo>
                  <a:lnTo>
                    <a:pt x="114" y="1002"/>
                  </a:lnTo>
                  <a:lnTo>
                    <a:pt x="180" y="1006"/>
                  </a:lnTo>
                  <a:lnTo>
                    <a:pt x="448" y="955"/>
                  </a:lnTo>
                  <a:lnTo>
                    <a:pt x="526" y="861"/>
                  </a:lnTo>
                  <a:lnTo>
                    <a:pt x="500" y="734"/>
                  </a:lnTo>
                  <a:lnTo>
                    <a:pt x="743" y="567"/>
                  </a:lnTo>
                  <a:lnTo>
                    <a:pt x="979" y="424"/>
                  </a:lnTo>
                  <a:lnTo>
                    <a:pt x="1108" y="244"/>
                  </a:lnTo>
                  <a:lnTo>
                    <a:pt x="1232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1"/>
            <p:cNvSpPr/>
            <p:nvPr/>
          </p:nvSpPr>
          <p:spPr>
            <a:xfrm>
              <a:off x="2673720" y="5566680"/>
              <a:ext cx="374400" cy="3751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762" h="2032">
                  <a:moveTo>
                    <a:pt x="26" y="505"/>
                  </a:moveTo>
                  <a:lnTo>
                    <a:pt x="897" y="0"/>
                  </a:lnTo>
                  <a:lnTo>
                    <a:pt x="1762" y="1642"/>
                  </a:lnTo>
                  <a:lnTo>
                    <a:pt x="481" y="2032"/>
                  </a:lnTo>
                  <a:lnTo>
                    <a:pt x="505" y="1903"/>
                  </a:lnTo>
                  <a:lnTo>
                    <a:pt x="530" y="1772"/>
                  </a:lnTo>
                  <a:lnTo>
                    <a:pt x="0" y="593"/>
                  </a:lnTo>
                  <a:lnTo>
                    <a:pt x="26" y="50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2"/>
            <p:cNvSpPr/>
            <p:nvPr/>
          </p:nvSpPr>
          <p:spPr>
            <a:xfrm>
              <a:off x="2026440" y="6066000"/>
              <a:ext cx="369720" cy="846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739" h="460">
                  <a:moveTo>
                    <a:pt x="0" y="67"/>
                  </a:moveTo>
                  <a:lnTo>
                    <a:pt x="62" y="74"/>
                  </a:lnTo>
                  <a:lnTo>
                    <a:pt x="135" y="40"/>
                  </a:lnTo>
                  <a:lnTo>
                    <a:pt x="224" y="19"/>
                  </a:lnTo>
                  <a:lnTo>
                    <a:pt x="315" y="36"/>
                  </a:lnTo>
                  <a:lnTo>
                    <a:pt x="403" y="46"/>
                  </a:lnTo>
                  <a:lnTo>
                    <a:pt x="435" y="0"/>
                  </a:lnTo>
                  <a:lnTo>
                    <a:pt x="530" y="40"/>
                  </a:lnTo>
                  <a:lnTo>
                    <a:pt x="580" y="177"/>
                  </a:lnTo>
                  <a:lnTo>
                    <a:pt x="640" y="222"/>
                  </a:lnTo>
                  <a:lnTo>
                    <a:pt x="716" y="209"/>
                  </a:lnTo>
                  <a:lnTo>
                    <a:pt x="720" y="137"/>
                  </a:lnTo>
                  <a:lnTo>
                    <a:pt x="882" y="175"/>
                  </a:lnTo>
                  <a:lnTo>
                    <a:pt x="969" y="219"/>
                  </a:lnTo>
                  <a:lnTo>
                    <a:pt x="1000" y="253"/>
                  </a:lnTo>
                  <a:lnTo>
                    <a:pt x="1023" y="344"/>
                  </a:lnTo>
                  <a:lnTo>
                    <a:pt x="1085" y="196"/>
                  </a:lnTo>
                  <a:lnTo>
                    <a:pt x="1357" y="118"/>
                  </a:lnTo>
                  <a:lnTo>
                    <a:pt x="1435" y="143"/>
                  </a:lnTo>
                  <a:lnTo>
                    <a:pt x="1348" y="19"/>
                  </a:lnTo>
                  <a:lnTo>
                    <a:pt x="1469" y="8"/>
                  </a:lnTo>
                  <a:lnTo>
                    <a:pt x="1739" y="310"/>
                  </a:lnTo>
                  <a:lnTo>
                    <a:pt x="821" y="460"/>
                  </a:lnTo>
                  <a:lnTo>
                    <a:pt x="5" y="19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3"/>
            <p:cNvSpPr/>
            <p:nvPr/>
          </p:nvSpPr>
          <p:spPr>
            <a:xfrm>
              <a:off x="2346840" y="5809680"/>
              <a:ext cx="421200" cy="32508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983" h="1762">
                  <a:moveTo>
                    <a:pt x="0" y="1424"/>
                  </a:moveTo>
                  <a:lnTo>
                    <a:pt x="139" y="1466"/>
                  </a:lnTo>
                  <a:lnTo>
                    <a:pt x="200" y="1411"/>
                  </a:lnTo>
                  <a:lnTo>
                    <a:pt x="249" y="1327"/>
                  </a:lnTo>
                  <a:lnTo>
                    <a:pt x="331" y="1308"/>
                  </a:lnTo>
                  <a:lnTo>
                    <a:pt x="221" y="1147"/>
                  </a:lnTo>
                  <a:lnTo>
                    <a:pt x="143" y="972"/>
                  </a:lnTo>
                  <a:lnTo>
                    <a:pt x="8" y="850"/>
                  </a:lnTo>
                  <a:lnTo>
                    <a:pt x="173" y="856"/>
                  </a:lnTo>
                  <a:lnTo>
                    <a:pt x="402" y="1169"/>
                  </a:lnTo>
                  <a:lnTo>
                    <a:pt x="516" y="1266"/>
                  </a:lnTo>
                  <a:lnTo>
                    <a:pt x="691" y="1198"/>
                  </a:lnTo>
                  <a:lnTo>
                    <a:pt x="909" y="1048"/>
                  </a:lnTo>
                  <a:lnTo>
                    <a:pt x="1126" y="856"/>
                  </a:lnTo>
                  <a:lnTo>
                    <a:pt x="1345" y="569"/>
                  </a:lnTo>
                  <a:lnTo>
                    <a:pt x="1485" y="99"/>
                  </a:lnTo>
                  <a:lnTo>
                    <a:pt x="1624" y="0"/>
                  </a:lnTo>
                  <a:lnTo>
                    <a:pt x="1736" y="25"/>
                  </a:lnTo>
                  <a:lnTo>
                    <a:pt x="1883" y="341"/>
                  </a:lnTo>
                  <a:lnTo>
                    <a:pt x="1983" y="650"/>
                  </a:lnTo>
                  <a:lnTo>
                    <a:pt x="276" y="1762"/>
                  </a:lnTo>
                  <a:lnTo>
                    <a:pt x="0" y="14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4"/>
            <p:cNvSpPr/>
            <p:nvPr/>
          </p:nvSpPr>
          <p:spPr>
            <a:xfrm>
              <a:off x="2266920" y="5942160"/>
              <a:ext cx="111240" cy="205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523" h="110">
                  <a:moveTo>
                    <a:pt x="4" y="68"/>
                  </a:moveTo>
                  <a:lnTo>
                    <a:pt x="146" y="13"/>
                  </a:lnTo>
                  <a:lnTo>
                    <a:pt x="274" y="15"/>
                  </a:lnTo>
                  <a:lnTo>
                    <a:pt x="382" y="17"/>
                  </a:lnTo>
                  <a:lnTo>
                    <a:pt x="523" y="0"/>
                  </a:lnTo>
                  <a:lnTo>
                    <a:pt x="466" y="59"/>
                  </a:lnTo>
                  <a:lnTo>
                    <a:pt x="306" y="108"/>
                  </a:lnTo>
                  <a:lnTo>
                    <a:pt x="211" y="89"/>
                  </a:lnTo>
                  <a:lnTo>
                    <a:pt x="123" y="76"/>
                  </a:lnTo>
                  <a:lnTo>
                    <a:pt x="0" y="110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5"/>
            <p:cNvSpPr/>
            <p:nvPr/>
          </p:nvSpPr>
          <p:spPr>
            <a:xfrm>
              <a:off x="2350440" y="5964120"/>
              <a:ext cx="88200" cy="867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7" h="469">
                  <a:moveTo>
                    <a:pt x="0" y="17"/>
                  </a:moveTo>
                  <a:lnTo>
                    <a:pt x="94" y="62"/>
                  </a:lnTo>
                  <a:lnTo>
                    <a:pt x="160" y="135"/>
                  </a:lnTo>
                  <a:lnTo>
                    <a:pt x="246" y="311"/>
                  </a:lnTo>
                  <a:lnTo>
                    <a:pt x="417" y="469"/>
                  </a:lnTo>
                  <a:lnTo>
                    <a:pt x="352" y="334"/>
                  </a:lnTo>
                  <a:lnTo>
                    <a:pt x="270" y="209"/>
                  </a:lnTo>
                  <a:lnTo>
                    <a:pt x="192" y="70"/>
                  </a:lnTo>
                  <a:lnTo>
                    <a:pt x="11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6"/>
            <p:cNvSpPr/>
            <p:nvPr/>
          </p:nvSpPr>
          <p:spPr>
            <a:xfrm>
              <a:off x="2343960" y="5895720"/>
              <a:ext cx="182160" cy="601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58" h="327">
                  <a:moveTo>
                    <a:pt x="0" y="0"/>
                  </a:moveTo>
                  <a:lnTo>
                    <a:pt x="177" y="106"/>
                  </a:lnTo>
                  <a:lnTo>
                    <a:pt x="270" y="152"/>
                  </a:lnTo>
                  <a:lnTo>
                    <a:pt x="394" y="268"/>
                  </a:lnTo>
                  <a:lnTo>
                    <a:pt x="576" y="302"/>
                  </a:lnTo>
                  <a:lnTo>
                    <a:pt x="858" y="327"/>
                  </a:lnTo>
                  <a:lnTo>
                    <a:pt x="681" y="255"/>
                  </a:lnTo>
                  <a:lnTo>
                    <a:pt x="432" y="188"/>
                  </a:lnTo>
                  <a:lnTo>
                    <a:pt x="264" y="61"/>
                  </a:lnTo>
                  <a:lnTo>
                    <a:pt x="1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7"/>
            <p:cNvSpPr/>
            <p:nvPr/>
          </p:nvSpPr>
          <p:spPr>
            <a:xfrm>
              <a:off x="2355480" y="5790960"/>
              <a:ext cx="211320" cy="96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95" h="526">
                  <a:moveTo>
                    <a:pt x="0" y="477"/>
                  </a:moveTo>
                  <a:lnTo>
                    <a:pt x="192" y="526"/>
                  </a:lnTo>
                  <a:lnTo>
                    <a:pt x="516" y="454"/>
                  </a:lnTo>
                  <a:lnTo>
                    <a:pt x="995" y="41"/>
                  </a:lnTo>
                  <a:lnTo>
                    <a:pt x="846" y="110"/>
                  </a:lnTo>
                  <a:lnTo>
                    <a:pt x="913" y="0"/>
                  </a:lnTo>
                  <a:lnTo>
                    <a:pt x="856" y="20"/>
                  </a:lnTo>
                  <a:lnTo>
                    <a:pt x="590" y="277"/>
                  </a:lnTo>
                  <a:lnTo>
                    <a:pt x="382" y="406"/>
                  </a:lnTo>
                  <a:lnTo>
                    <a:pt x="217" y="463"/>
                  </a:lnTo>
                  <a:lnTo>
                    <a:pt x="105" y="477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8"/>
            <p:cNvSpPr/>
            <p:nvPr/>
          </p:nvSpPr>
          <p:spPr>
            <a:xfrm>
              <a:off x="2090880" y="5727600"/>
              <a:ext cx="286920" cy="1702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350" h="924">
                  <a:moveTo>
                    <a:pt x="0" y="763"/>
                  </a:moveTo>
                  <a:lnTo>
                    <a:pt x="68" y="822"/>
                  </a:lnTo>
                  <a:lnTo>
                    <a:pt x="131" y="846"/>
                  </a:lnTo>
                  <a:lnTo>
                    <a:pt x="224" y="844"/>
                  </a:lnTo>
                  <a:lnTo>
                    <a:pt x="331" y="805"/>
                  </a:lnTo>
                  <a:lnTo>
                    <a:pt x="433" y="736"/>
                  </a:lnTo>
                  <a:lnTo>
                    <a:pt x="508" y="664"/>
                  </a:lnTo>
                  <a:lnTo>
                    <a:pt x="566" y="689"/>
                  </a:lnTo>
                  <a:lnTo>
                    <a:pt x="644" y="696"/>
                  </a:lnTo>
                  <a:lnTo>
                    <a:pt x="662" y="656"/>
                  </a:lnTo>
                  <a:lnTo>
                    <a:pt x="616" y="575"/>
                  </a:lnTo>
                  <a:lnTo>
                    <a:pt x="599" y="447"/>
                  </a:lnTo>
                  <a:lnTo>
                    <a:pt x="646" y="499"/>
                  </a:lnTo>
                  <a:lnTo>
                    <a:pt x="751" y="685"/>
                  </a:lnTo>
                  <a:lnTo>
                    <a:pt x="736" y="605"/>
                  </a:lnTo>
                  <a:lnTo>
                    <a:pt x="637" y="426"/>
                  </a:lnTo>
                  <a:lnTo>
                    <a:pt x="587" y="276"/>
                  </a:lnTo>
                  <a:lnTo>
                    <a:pt x="656" y="297"/>
                  </a:lnTo>
                  <a:lnTo>
                    <a:pt x="701" y="428"/>
                  </a:lnTo>
                  <a:lnTo>
                    <a:pt x="819" y="571"/>
                  </a:lnTo>
                  <a:lnTo>
                    <a:pt x="867" y="590"/>
                  </a:lnTo>
                  <a:lnTo>
                    <a:pt x="884" y="554"/>
                  </a:lnTo>
                  <a:lnTo>
                    <a:pt x="871" y="462"/>
                  </a:lnTo>
                  <a:lnTo>
                    <a:pt x="947" y="499"/>
                  </a:lnTo>
                  <a:lnTo>
                    <a:pt x="1059" y="464"/>
                  </a:lnTo>
                  <a:lnTo>
                    <a:pt x="1006" y="289"/>
                  </a:lnTo>
                  <a:lnTo>
                    <a:pt x="1085" y="379"/>
                  </a:lnTo>
                  <a:lnTo>
                    <a:pt x="1139" y="419"/>
                  </a:lnTo>
                  <a:lnTo>
                    <a:pt x="1177" y="426"/>
                  </a:lnTo>
                  <a:lnTo>
                    <a:pt x="1133" y="331"/>
                  </a:lnTo>
                  <a:lnTo>
                    <a:pt x="1124" y="211"/>
                  </a:lnTo>
                  <a:lnTo>
                    <a:pt x="1171" y="96"/>
                  </a:lnTo>
                  <a:lnTo>
                    <a:pt x="1276" y="0"/>
                  </a:lnTo>
                  <a:lnTo>
                    <a:pt x="1224" y="124"/>
                  </a:lnTo>
                  <a:lnTo>
                    <a:pt x="1200" y="229"/>
                  </a:lnTo>
                  <a:lnTo>
                    <a:pt x="1194" y="289"/>
                  </a:lnTo>
                  <a:lnTo>
                    <a:pt x="1215" y="375"/>
                  </a:lnTo>
                  <a:lnTo>
                    <a:pt x="1268" y="335"/>
                  </a:lnTo>
                  <a:lnTo>
                    <a:pt x="1350" y="301"/>
                  </a:lnTo>
                  <a:lnTo>
                    <a:pt x="1346" y="343"/>
                  </a:lnTo>
                  <a:lnTo>
                    <a:pt x="1281" y="428"/>
                  </a:lnTo>
                  <a:lnTo>
                    <a:pt x="1276" y="550"/>
                  </a:lnTo>
                  <a:lnTo>
                    <a:pt x="1190" y="586"/>
                  </a:lnTo>
                  <a:lnTo>
                    <a:pt x="1152" y="666"/>
                  </a:lnTo>
                  <a:lnTo>
                    <a:pt x="1186" y="746"/>
                  </a:lnTo>
                  <a:lnTo>
                    <a:pt x="1228" y="801"/>
                  </a:lnTo>
                  <a:lnTo>
                    <a:pt x="1021" y="749"/>
                  </a:lnTo>
                  <a:lnTo>
                    <a:pt x="947" y="820"/>
                  </a:lnTo>
                  <a:lnTo>
                    <a:pt x="781" y="886"/>
                  </a:lnTo>
                  <a:lnTo>
                    <a:pt x="1087" y="664"/>
                  </a:lnTo>
                  <a:lnTo>
                    <a:pt x="979" y="637"/>
                  </a:lnTo>
                  <a:lnTo>
                    <a:pt x="610" y="833"/>
                  </a:lnTo>
                  <a:lnTo>
                    <a:pt x="222" y="924"/>
                  </a:lnTo>
                  <a:lnTo>
                    <a:pt x="70" y="871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9"/>
            <p:cNvSpPr/>
            <p:nvPr/>
          </p:nvSpPr>
          <p:spPr>
            <a:xfrm>
              <a:off x="2002320" y="6001200"/>
              <a:ext cx="329400" cy="6912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549" h="377">
                  <a:moveTo>
                    <a:pt x="0" y="48"/>
                  </a:moveTo>
                  <a:lnTo>
                    <a:pt x="95" y="59"/>
                  </a:lnTo>
                  <a:lnTo>
                    <a:pt x="192" y="141"/>
                  </a:lnTo>
                  <a:lnTo>
                    <a:pt x="300" y="194"/>
                  </a:lnTo>
                  <a:lnTo>
                    <a:pt x="496" y="257"/>
                  </a:lnTo>
                  <a:lnTo>
                    <a:pt x="471" y="158"/>
                  </a:lnTo>
                  <a:lnTo>
                    <a:pt x="500" y="107"/>
                  </a:lnTo>
                  <a:lnTo>
                    <a:pt x="555" y="147"/>
                  </a:lnTo>
                  <a:lnTo>
                    <a:pt x="617" y="295"/>
                  </a:lnTo>
                  <a:lnTo>
                    <a:pt x="718" y="283"/>
                  </a:lnTo>
                  <a:lnTo>
                    <a:pt x="878" y="236"/>
                  </a:lnTo>
                  <a:lnTo>
                    <a:pt x="1045" y="166"/>
                  </a:lnTo>
                  <a:lnTo>
                    <a:pt x="1129" y="86"/>
                  </a:lnTo>
                  <a:lnTo>
                    <a:pt x="1180" y="158"/>
                  </a:lnTo>
                  <a:lnTo>
                    <a:pt x="1287" y="190"/>
                  </a:lnTo>
                  <a:lnTo>
                    <a:pt x="1228" y="31"/>
                  </a:lnTo>
                  <a:lnTo>
                    <a:pt x="1328" y="110"/>
                  </a:lnTo>
                  <a:lnTo>
                    <a:pt x="1408" y="57"/>
                  </a:lnTo>
                  <a:lnTo>
                    <a:pt x="1549" y="0"/>
                  </a:lnTo>
                  <a:lnTo>
                    <a:pt x="1484" y="116"/>
                  </a:lnTo>
                  <a:lnTo>
                    <a:pt x="1424" y="181"/>
                  </a:lnTo>
                  <a:lnTo>
                    <a:pt x="1387" y="259"/>
                  </a:lnTo>
                  <a:lnTo>
                    <a:pt x="1484" y="369"/>
                  </a:lnTo>
                  <a:lnTo>
                    <a:pt x="1387" y="377"/>
                  </a:lnTo>
                  <a:lnTo>
                    <a:pt x="1315" y="261"/>
                  </a:lnTo>
                  <a:lnTo>
                    <a:pt x="1110" y="228"/>
                  </a:lnTo>
                  <a:lnTo>
                    <a:pt x="739" y="340"/>
                  </a:lnTo>
                  <a:lnTo>
                    <a:pt x="532" y="339"/>
                  </a:lnTo>
                  <a:lnTo>
                    <a:pt x="226" y="2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0"/>
            <p:cNvSpPr/>
            <p:nvPr/>
          </p:nvSpPr>
          <p:spPr>
            <a:xfrm>
              <a:off x="2179800" y="6063120"/>
              <a:ext cx="120240" cy="20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67" h="114">
                  <a:moveTo>
                    <a:pt x="0" y="76"/>
                  </a:moveTo>
                  <a:lnTo>
                    <a:pt x="95" y="114"/>
                  </a:lnTo>
                  <a:lnTo>
                    <a:pt x="453" y="51"/>
                  </a:lnTo>
                  <a:lnTo>
                    <a:pt x="567" y="42"/>
                  </a:lnTo>
                  <a:lnTo>
                    <a:pt x="542" y="0"/>
                  </a:lnTo>
                  <a:lnTo>
                    <a:pt x="344" y="11"/>
                  </a:lnTo>
                  <a:lnTo>
                    <a:pt x="154" y="6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"/>
            <p:cNvSpPr/>
            <p:nvPr/>
          </p:nvSpPr>
          <p:spPr>
            <a:xfrm>
              <a:off x="1862640" y="5897880"/>
              <a:ext cx="401760" cy="1026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890" h="557">
                  <a:moveTo>
                    <a:pt x="19" y="384"/>
                  </a:moveTo>
                  <a:lnTo>
                    <a:pt x="116" y="369"/>
                  </a:lnTo>
                  <a:lnTo>
                    <a:pt x="218" y="377"/>
                  </a:lnTo>
                  <a:lnTo>
                    <a:pt x="355" y="396"/>
                  </a:lnTo>
                  <a:lnTo>
                    <a:pt x="479" y="402"/>
                  </a:lnTo>
                  <a:lnTo>
                    <a:pt x="551" y="430"/>
                  </a:lnTo>
                  <a:lnTo>
                    <a:pt x="629" y="422"/>
                  </a:lnTo>
                  <a:lnTo>
                    <a:pt x="665" y="383"/>
                  </a:lnTo>
                  <a:lnTo>
                    <a:pt x="682" y="318"/>
                  </a:lnTo>
                  <a:lnTo>
                    <a:pt x="735" y="460"/>
                  </a:lnTo>
                  <a:lnTo>
                    <a:pt x="772" y="481"/>
                  </a:lnTo>
                  <a:lnTo>
                    <a:pt x="823" y="440"/>
                  </a:lnTo>
                  <a:lnTo>
                    <a:pt x="996" y="419"/>
                  </a:lnTo>
                  <a:lnTo>
                    <a:pt x="1076" y="421"/>
                  </a:lnTo>
                  <a:lnTo>
                    <a:pt x="1121" y="432"/>
                  </a:lnTo>
                  <a:lnTo>
                    <a:pt x="1142" y="398"/>
                  </a:lnTo>
                  <a:lnTo>
                    <a:pt x="1125" y="324"/>
                  </a:lnTo>
                  <a:lnTo>
                    <a:pt x="1129" y="234"/>
                  </a:lnTo>
                  <a:lnTo>
                    <a:pt x="1150" y="187"/>
                  </a:lnTo>
                  <a:lnTo>
                    <a:pt x="1156" y="293"/>
                  </a:lnTo>
                  <a:lnTo>
                    <a:pt x="1194" y="398"/>
                  </a:lnTo>
                  <a:lnTo>
                    <a:pt x="1215" y="365"/>
                  </a:lnTo>
                  <a:lnTo>
                    <a:pt x="1268" y="354"/>
                  </a:lnTo>
                  <a:lnTo>
                    <a:pt x="1296" y="421"/>
                  </a:lnTo>
                  <a:lnTo>
                    <a:pt x="1359" y="413"/>
                  </a:lnTo>
                  <a:lnTo>
                    <a:pt x="1488" y="360"/>
                  </a:lnTo>
                  <a:lnTo>
                    <a:pt x="1593" y="360"/>
                  </a:lnTo>
                  <a:lnTo>
                    <a:pt x="1663" y="375"/>
                  </a:lnTo>
                  <a:lnTo>
                    <a:pt x="1713" y="360"/>
                  </a:lnTo>
                  <a:lnTo>
                    <a:pt x="1699" y="305"/>
                  </a:lnTo>
                  <a:lnTo>
                    <a:pt x="1730" y="225"/>
                  </a:lnTo>
                  <a:lnTo>
                    <a:pt x="1739" y="158"/>
                  </a:lnTo>
                  <a:lnTo>
                    <a:pt x="1718" y="73"/>
                  </a:lnTo>
                  <a:lnTo>
                    <a:pt x="1669" y="46"/>
                  </a:lnTo>
                  <a:lnTo>
                    <a:pt x="1380" y="105"/>
                  </a:lnTo>
                  <a:lnTo>
                    <a:pt x="1293" y="118"/>
                  </a:lnTo>
                  <a:lnTo>
                    <a:pt x="1323" y="88"/>
                  </a:lnTo>
                  <a:lnTo>
                    <a:pt x="1775" y="0"/>
                  </a:lnTo>
                  <a:lnTo>
                    <a:pt x="1779" y="276"/>
                  </a:lnTo>
                  <a:lnTo>
                    <a:pt x="1798" y="324"/>
                  </a:lnTo>
                  <a:lnTo>
                    <a:pt x="1829" y="173"/>
                  </a:lnTo>
                  <a:lnTo>
                    <a:pt x="1878" y="333"/>
                  </a:lnTo>
                  <a:lnTo>
                    <a:pt x="1890" y="485"/>
                  </a:lnTo>
                  <a:lnTo>
                    <a:pt x="1783" y="531"/>
                  </a:lnTo>
                  <a:lnTo>
                    <a:pt x="1701" y="502"/>
                  </a:lnTo>
                  <a:lnTo>
                    <a:pt x="1485" y="455"/>
                  </a:lnTo>
                  <a:lnTo>
                    <a:pt x="1144" y="557"/>
                  </a:lnTo>
                  <a:lnTo>
                    <a:pt x="593" y="514"/>
                  </a:lnTo>
                  <a:lnTo>
                    <a:pt x="319" y="445"/>
                  </a:lnTo>
                  <a:lnTo>
                    <a:pt x="152" y="405"/>
                  </a:lnTo>
                  <a:lnTo>
                    <a:pt x="0" y="407"/>
                  </a:lnTo>
                  <a:lnTo>
                    <a:pt x="19" y="38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2"/>
            <p:cNvSpPr/>
            <p:nvPr/>
          </p:nvSpPr>
          <p:spPr>
            <a:xfrm>
              <a:off x="1830600" y="5982120"/>
              <a:ext cx="105840" cy="590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8" h="319">
                  <a:moveTo>
                    <a:pt x="81" y="0"/>
                  </a:moveTo>
                  <a:lnTo>
                    <a:pt x="57" y="64"/>
                  </a:lnTo>
                  <a:lnTo>
                    <a:pt x="45" y="125"/>
                  </a:lnTo>
                  <a:lnTo>
                    <a:pt x="77" y="182"/>
                  </a:lnTo>
                  <a:lnTo>
                    <a:pt x="136" y="192"/>
                  </a:lnTo>
                  <a:lnTo>
                    <a:pt x="220" y="167"/>
                  </a:lnTo>
                  <a:lnTo>
                    <a:pt x="298" y="142"/>
                  </a:lnTo>
                  <a:lnTo>
                    <a:pt x="368" y="150"/>
                  </a:lnTo>
                  <a:lnTo>
                    <a:pt x="498" y="176"/>
                  </a:lnTo>
                  <a:lnTo>
                    <a:pt x="404" y="319"/>
                  </a:lnTo>
                  <a:lnTo>
                    <a:pt x="51" y="252"/>
                  </a:lnTo>
                  <a:lnTo>
                    <a:pt x="0" y="137"/>
                  </a:lnTo>
                  <a:lnTo>
                    <a:pt x="32" y="4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3"/>
            <p:cNvSpPr/>
            <p:nvPr/>
          </p:nvSpPr>
          <p:spPr>
            <a:xfrm>
              <a:off x="1925280" y="6034680"/>
              <a:ext cx="98640" cy="608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64" h="329">
                  <a:moveTo>
                    <a:pt x="25" y="0"/>
                  </a:moveTo>
                  <a:lnTo>
                    <a:pt x="48" y="91"/>
                  </a:lnTo>
                  <a:lnTo>
                    <a:pt x="103" y="121"/>
                  </a:lnTo>
                  <a:lnTo>
                    <a:pt x="187" y="139"/>
                  </a:lnTo>
                  <a:lnTo>
                    <a:pt x="267" y="129"/>
                  </a:lnTo>
                  <a:lnTo>
                    <a:pt x="314" y="108"/>
                  </a:lnTo>
                  <a:lnTo>
                    <a:pt x="362" y="108"/>
                  </a:lnTo>
                  <a:lnTo>
                    <a:pt x="445" y="186"/>
                  </a:lnTo>
                  <a:lnTo>
                    <a:pt x="464" y="329"/>
                  </a:lnTo>
                  <a:lnTo>
                    <a:pt x="0" y="1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4"/>
            <p:cNvSpPr/>
            <p:nvPr/>
          </p:nvSpPr>
          <p:spPr>
            <a:xfrm>
              <a:off x="2017080" y="5859000"/>
              <a:ext cx="758520" cy="28980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569" h="1571">
                  <a:moveTo>
                    <a:pt x="9" y="1118"/>
                  </a:moveTo>
                  <a:lnTo>
                    <a:pt x="40" y="1190"/>
                  </a:lnTo>
                  <a:lnTo>
                    <a:pt x="74" y="1232"/>
                  </a:lnTo>
                  <a:lnTo>
                    <a:pt x="133" y="1251"/>
                  </a:lnTo>
                  <a:lnTo>
                    <a:pt x="219" y="1228"/>
                  </a:lnTo>
                  <a:lnTo>
                    <a:pt x="361" y="1240"/>
                  </a:lnTo>
                  <a:lnTo>
                    <a:pt x="540" y="1306"/>
                  </a:lnTo>
                  <a:lnTo>
                    <a:pt x="599" y="1297"/>
                  </a:lnTo>
                  <a:lnTo>
                    <a:pt x="667" y="1401"/>
                  </a:lnTo>
                  <a:lnTo>
                    <a:pt x="709" y="1392"/>
                  </a:lnTo>
                  <a:lnTo>
                    <a:pt x="802" y="1377"/>
                  </a:lnTo>
                  <a:lnTo>
                    <a:pt x="998" y="1403"/>
                  </a:lnTo>
                  <a:lnTo>
                    <a:pt x="1057" y="1437"/>
                  </a:lnTo>
                  <a:lnTo>
                    <a:pt x="1116" y="1394"/>
                  </a:lnTo>
                  <a:lnTo>
                    <a:pt x="1165" y="1352"/>
                  </a:lnTo>
                  <a:lnTo>
                    <a:pt x="1451" y="1320"/>
                  </a:lnTo>
                  <a:lnTo>
                    <a:pt x="1534" y="1335"/>
                  </a:lnTo>
                  <a:lnTo>
                    <a:pt x="1587" y="1386"/>
                  </a:lnTo>
                  <a:lnTo>
                    <a:pt x="1618" y="1354"/>
                  </a:lnTo>
                  <a:lnTo>
                    <a:pt x="1576" y="1257"/>
                  </a:lnTo>
                  <a:lnTo>
                    <a:pt x="1432" y="1150"/>
                  </a:lnTo>
                  <a:lnTo>
                    <a:pt x="1568" y="1114"/>
                  </a:lnTo>
                  <a:lnTo>
                    <a:pt x="1641" y="1198"/>
                  </a:lnTo>
                  <a:lnTo>
                    <a:pt x="1730" y="1249"/>
                  </a:lnTo>
                  <a:lnTo>
                    <a:pt x="1791" y="1230"/>
                  </a:lnTo>
                  <a:lnTo>
                    <a:pt x="1800" y="1164"/>
                  </a:lnTo>
                  <a:lnTo>
                    <a:pt x="1842" y="1126"/>
                  </a:lnTo>
                  <a:lnTo>
                    <a:pt x="1932" y="1177"/>
                  </a:lnTo>
                  <a:lnTo>
                    <a:pt x="2004" y="1152"/>
                  </a:lnTo>
                  <a:lnTo>
                    <a:pt x="1998" y="1038"/>
                  </a:lnTo>
                  <a:lnTo>
                    <a:pt x="2184" y="1059"/>
                  </a:lnTo>
                  <a:lnTo>
                    <a:pt x="2357" y="972"/>
                  </a:lnTo>
                  <a:lnTo>
                    <a:pt x="2618" y="867"/>
                  </a:lnTo>
                  <a:lnTo>
                    <a:pt x="2901" y="607"/>
                  </a:lnTo>
                  <a:lnTo>
                    <a:pt x="3074" y="434"/>
                  </a:lnTo>
                  <a:lnTo>
                    <a:pt x="3179" y="173"/>
                  </a:lnTo>
                  <a:lnTo>
                    <a:pt x="3223" y="0"/>
                  </a:lnTo>
                  <a:lnTo>
                    <a:pt x="3377" y="217"/>
                  </a:lnTo>
                  <a:lnTo>
                    <a:pt x="3394" y="19"/>
                  </a:lnTo>
                  <a:lnTo>
                    <a:pt x="3569" y="314"/>
                  </a:lnTo>
                  <a:lnTo>
                    <a:pt x="1907" y="1491"/>
                  </a:lnTo>
                  <a:lnTo>
                    <a:pt x="1262" y="1571"/>
                  </a:lnTo>
                  <a:lnTo>
                    <a:pt x="536" y="1521"/>
                  </a:lnTo>
                  <a:lnTo>
                    <a:pt x="0" y="1261"/>
                  </a:lnTo>
                  <a:lnTo>
                    <a:pt x="9" y="111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5"/>
            <p:cNvSpPr/>
            <p:nvPr/>
          </p:nvSpPr>
          <p:spPr>
            <a:xfrm>
              <a:off x="1857240" y="5782320"/>
              <a:ext cx="512280" cy="19476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2409" h="1057">
                  <a:moveTo>
                    <a:pt x="1091" y="475"/>
                  </a:moveTo>
                  <a:lnTo>
                    <a:pt x="1169" y="586"/>
                  </a:lnTo>
                  <a:lnTo>
                    <a:pt x="1285" y="648"/>
                  </a:lnTo>
                  <a:lnTo>
                    <a:pt x="1447" y="643"/>
                  </a:lnTo>
                  <a:lnTo>
                    <a:pt x="1679" y="580"/>
                  </a:lnTo>
                  <a:lnTo>
                    <a:pt x="1840" y="508"/>
                  </a:lnTo>
                  <a:lnTo>
                    <a:pt x="1926" y="483"/>
                  </a:lnTo>
                  <a:lnTo>
                    <a:pt x="2089" y="369"/>
                  </a:lnTo>
                  <a:lnTo>
                    <a:pt x="2150" y="376"/>
                  </a:lnTo>
                  <a:lnTo>
                    <a:pt x="2034" y="460"/>
                  </a:lnTo>
                  <a:lnTo>
                    <a:pt x="1861" y="542"/>
                  </a:lnTo>
                  <a:lnTo>
                    <a:pt x="1789" y="603"/>
                  </a:lnTo>
                  <a:lnTo>
                    <a:pt x="1616" y="658"/>
                  </a:lnTo>
                  <a:lnTo>
                    <a:pt x="1323" y="696"/>
                  </a:lnTo>
                  <a:lnTo>
                    <a:pt x="1198" y="781"/>
                  </a:lnTo>
                  <a:lnTo>
                    <a:pt x="1108" y="758"/>
                  </a:lnTo>
                  <a:lnTo>
                    <a:pt x="766" y="810"/>
                  </a:lnTo>
                  <a:lnTo>
                    <a:pt x="673" y="863"/>
                  </a:lnTo>
                  <a:lnTo>
                    <a:pt x="593" y="823"/>
                  </a:lnTo>
                  <a:lnTo>
                    <a:pt x="302" y="814"/>
                  </a:lnTo>
                  <a:lnTo>
                    <a:pt x="135" y="846"/>
                  </a:lnTo>
                  <a:lnTo>
                    <a:pt x="30" y="914"/>
                  </a:lnTo>
                  <a:lnTo>
                    <a:pt x="0" y="985"/>
                  </a:lnTo>
                  <a:lnTo>
                    <a:pt x="0" y="1057"/>
                  </a:lnTo>
                  <a:lnTo>
                    <a:pt x="78" y="1034"/>
                  </a:lnTo>
                  <a:lnTo>
                    <a:pt x="171" y="1034"/>
                  </a:lnTo>
                  <a:lnTo>
                    <a:pt x="268" y="1047"/>
                  </a:lnTo>
                  <a:lnTo>
                    <a:pt x="169" y="1017"/>
                  </a:lnTo>
                  <a:lnTo>
                    <a:pt x="78" y="1013"/>
                  </a:lnTo>
                  <a:lnTo>
                    <a:pt x="48" y="1017"/>
                  </a:lnTo>
                  <a:lnTo>
                    <a:pt x="44" y="968"/>
                  </a:lnTo>
                  <a:lnTo>
                    <a:pt x="99" y="907"/>
                  </a:lnTo>
                  <a:lnTo>
                    <a:pt x="175" y="861"/>
                  </a:lnTo>
                  <a:lnTo>
                    <a:pt x="314" y="838"/>
                  </a:lnTo>
                  <a:lnTo>
                    <a:pt x="527" y="835"/>
                  </a:lnTo>
                  <a:lnTo>
                    <a:pt x="622" y="857"/>
                  </a:lnTo>
                  <a:lnTo>
                    <a:pt x="671" y="895"/>
                  </a:lnTo>
                  <a:lnTo>
                    <a:pt x="707" y="960"/>
                  </a:lnTo>
                  <a:lnTo>
                    <a:pt x="696" y="869"/>
                  </a:lnTo>
                  <a:lnTo>
                    <a:pt x="762" y="835"/>
                  </a:lnTo>
                  <a:lnTo>
                    <a:pt x="1008" y="800"/>
                  </a:lnTo>
                  <a:lnTo>
                    <a:pt x="1110" y="791"/>
                  </a:lnTo>
                  <a:lnTo>
                    <a:pt x="1211" y="806"/>
                  </a:lnTo>
                  <a:lnTo>
                    <a:pt x="1331" y="736"/>
                  </a:lnTo>
                  <a:lnTo>
                    <a:pt x="1479" y="707"/>
                  </a:lnTo>
                  <a:lnTo>
                    <a:pt x="1730" y="652"/>
                  </a:lnTo>
                  <a:lnTo>
                    <a:pt x="1766" y="675"/>
                  </a:lnTo>
                  <a:lnTo>
                    <a:pt x="1800" y="846"/>
                  </a:lnTo>
                  <a:lnTo>
                    <a:pt x="1818" y="701"/>
                  </a:lnTo>
                  <a:lnTo>
                    <a:pt x="1850" y="648"/>
                  </a:lnTo>
                  <a:lnTo>
                    <a:pt x="1890" y="593"/>
                  </a:lnTo>
                  <a:lnTo>
                    <a:pt x="2030" y="513"/>
                  </a:lnTo>
                  <a:lnTo>
                    <a:pt x="2126" y="430"/>
                  </a:lnTo>
                  <a:lnTo>
                    <a:pt x="2268" y="466"/>
                  </a:lnTo>
                  <a:lnTo>
                    <a:pt x="2221" y="365"/>
                  </a:lnTo>
                  <a:lnTo>
                    <a:pt x="2272" y="272"/>
                  </a:lnTo>
                  <a:lnTo>
                    <a:pt x="2338" y="226"/>
                  </a:lnTo>
                  <a:lnTo>
                    <a:pt x="2344" y="148"/>
                  </a:lnTo>
                  <a:lnTo>
                    <a:pt x="2409" y="46"/>
                  </a:lnTo>
                  <a:lnTo>
                    <a:pt x="2356" y="76"/>
                  </a:lnTo>
                  <a:lnTo>
                    <a:pt x="2285" y="169"/>
                  </a:lnTo>
                  <a:lnTo>
                    <a:pt x="2232" y="167"/>
                  </a:lnTo>
                  <a:lnTo>
                    <a:pt x="2112" y="0"/>
                  </a:lnTo>
                  <a:lnTo>
                    <a:pt x="2200" y="196"/>
                  </a:lnTo>
                  <a:lnTo>
                    <a:pt x="2148" y="236"/>
                  </a:lnTo>
                  <a:lnTo>
                    <a:pt x="2074" y="266"/>
                  </a:lnTo>
                  <a:lnTo>
                    <a:pt x="1994" y="196"/>
                  </a:lnTo>
                  <a:lnTo>
                    <a:pt x="2029" y="270"/>
                  </a:lnTo>
                  <a:lnTo>
                    <a:pt x="2008" y="346"/>
                  </a:lnTo>
                  <a:lnTo>
                    <a:pt x="1932" y="340"/>
                  </a:lnTo>
                  <a:lnTo>
                    <a:pt x="1774" y="114"/>
                  </a:lnTo>
                  <a:lnTo>
                    <a:pt x="1749" y="11"/>
                  </a:lnTo>
                  <a:lnTo>
                    <a:pt x="1705" y="4"/>
                  </a:lnTo>
                  <a:lnTo>
                    <a:pt x="1736" y="59"/>
                  </a:lnTo>
                  <a:lnTo>
                    <a:pt x="1755" y="146"/>
                  </a:lnTo>
                  <a:lnTo>
                    <a:pt x="1829" y="255"/>
                  </a:lnTo>
                  <a:lnTo>
                    <a:pt x="1888" y="382"/>
                  </a:lnTo>
                  <a:lnTo>
                    <a:pt x="1854" y="432"/>
                  </a:lnTo>
                  <a:lnTo>
                    <a:pt x="1768" y="481"/>
                  </a:lnTo>
                  <a:lnTo>
                    <a:pt x="1645" y="464"/>
                  </a:lnTo>
                  <a:lnTo>
                    <a:pt x="1386" y="578"/>
                  </a:lnTo>
                  <a:lnTo>
                    <a:pt x="1260" y="593"/>
                  </a:lnTo>
                  <a:lnTo>
                    <a:pt x="1169" y="538"/>
                  </a:lnTo>
                  <a:lnTo>
                    <a:pt x="1114" y="492"/>
                  </a:lnTo>
                  <a:lnTo>
                    <a:pt x="1091" y="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6"/>
            <p:cNvSpPr/>
            <p:nvPr/>
          </p:nvSpPr>
          <p:spPr>
            <a:xfrm>
              <a:off x="2334600" y="5735880"/>
              <a:ext cx="19440" cy="727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92" h="396">
                  <a:moveTo>
                    <a:pt x="92" y="0"/>
                  </a:moveTo>
                  <a:lnTo>
                    <a:pt x="38" y="177"/>
                  </a:lnTo>
                  <a:lnTo>
                    <a:pt x="35" y="276"/>
                  </a:lnTo>
                  <a:lnTo>
                    <a:pt x="61" y="396"/>
                  </a:lnTo>
                  <a:lnTo>
                    <a:pt x="6" y="293"/>
                  </a:lnTo>
                  <a:lnTo>
                    <a:pt x="0" y="219"/>
                  </a:lnTo>
                  <a:lnTo>
                    <a:pt x="12" y="131"/>
                  </a:lnTo>
                  <a:lnTo>
                    <a:pt x="48" y="4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7"/>
            <p:cNvSpPr/>
            <p:nvPr/>
          </p:nvSpPr>
          <p:spPr>
            <a:xfrm>
              <a:off x="2228400" y="5822280"/>
              <a:ext cx="19800" cy="374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93" h="203">
                  <a:moveTo>
                    <a:pt x="2" y="74"/>
                  </a:moveTo>
                  <a:lnTo>
                    <a:pt x="50" y="163"/>
                  </a:lnTo>
                  <a:lnTo>
                    <a:pt x="93" y="203"/>
                  </a:lnTo>
                  <a:lnTo>
                    <a:pt x="48" y="100"/>
                  </a:lnTo>
                  <a:lnTo>
                    <a:pt x="0" y="0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8"/>
            <p:cNvSpPr/>
            <p:nvPr/>
          </p:nvSpPr>
          <p:spPr>
            <a:xfrm>
              <a:off x="2359800" y="5797440"/>
              <a:ext cx="202320" cy="92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53" h="500">
                  <a:moveTo>
                    <a:pt x="0" y="448"/>
                  </a:moveTo>
                  <a:lnTo>
                    <a:pt x="139" y="500"/>
                  </a:lnTo>
                  <a:lnTo>
                    <a:pt x="322" y="494"/>
                  </a:lnTo>
                  <a:lnTo>
                    <a:pt x="498" y="439"/>
                  </a:lnTo>
                  <a:lnTo>
                    <a:pt x="658" y="350"/>
                  </a:lnTo>
                  <a:lnTo>
                    <a:pt x="882" y="137"/>
                  </a:lnTo>
                  <a:lnTo>
                    <a:pt x="953" y="23"/>
                  </a:lnTo>
                  <a:lnTo>
                    <a:pt x="723" y="213"/>
                  </a:lnTo>
                  <a:lnTo>
                    <a:pt x="856" y="0"/>
                  </a:lnTo>
                  <a:lnTo>
                    <a:pt x="624" y="251"/>
                  </a:lnTo>
                  <a:lnTo>
                    <a:pt x="432" y="399"/>
                  </a:lnTo>
                  <a:lnTo>
                    <a:pt x="259" y="454"/>
                  </a:lnTo>
                  <a:lnTo>
                    <a:pt x="133" y="469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9"/>
            <p:cNvSpPr/>
            <p:nvPr/>
          </p:nvSpPr>
          <p:spPr>
            <a:xfrm>
              <a:off x="1925640" y="5936400"/>
              <a:ext cx="334440" cy="698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75" h="378">
                  <a:moveTo>
                    <a:pt x="0" y="226"/>
                  </a:moveTo>
                  <a:lnTo>
                    <a:pt x="149" y="269"/>
                  </a:lnTo>
                  <a:lnTo>
                    <a:pt x="232" y="311"/>
                  </a:lnTo>
                  <a:lnTo>
                    <a:pt x="278" y="359"/>
                  </a:lnTo>
                  <a:lnTo>
                    <a:pt x="289" y="319"/>
                  </a:lnTo>
                  <a:lnTo>
                    <a:pt x="711" y="351"/>
                  </a:lnTo>
                  <a:lnTo>
                    <a:pt x="871" y="378"/>
                  </a:lnTo>
                  <a:lnTo>
                    <a:pt x="960" y="340"/>
                  </a:lnTo>
                  <a:lnTo>
                    <a:pt x="1213" y="283"/>
                  </a:lnTo>
                  <a:lnTo>
                    <a:pt x="1377" y="287"/>
                  </a:lnTo>
                  <a:lnTo>
                    <a:pt x="1479" y="306"/>
                  </a:lnTo>
                  <a:lnTo>
                    <a:pt x="1575" y="273"/>
                  </a:lnTo>
                  <a:lnTo>
                    <a:pt x="1536" y="7"/>
                  </a:lnTo>
                  <a:lnTo>
                    <a:pt x="1516" y="169"/>
                  </a:lnTo>
                  <a:lnTo>
                    <a:pt x="1478" y="102"/>
                  </a:lnTo>
                  <a:lnTo>
                    <a:pt x="1453" y="0"/>
                  </a:lnTo>
                  <a:lnTo>
                    <a:pt x="1440" y="123"/>
                  </a:lnTo>
                  <a:lnTo>
                    <a:pt x="1464" y="173"/>
                  </a:lnTo>
                  <a:lnTo>
                    <a:pt x="1358" y="214"/>
                  </a:lnTo>
                  <a:lnTo>
                    <a:pt x="1259" y="184"/>
                  </a:lnTo>
                  <a:lnTo>
                    <a:pt x="1059" y="241"/>
                  </a:lnTo>
                  <a:lnTo>
                    <a:pt x="978" y="296"/>
                  </a:lnTo>
                  <a:lnTo>
                    <a:pt x="957" y="171"/>
                  </a:lnTo>
                  <a:lnTo>
                    <a:pt x="924" y="188"/>
                  </a:lnTo>
                  <a:lnTo>
                    <a:pt x="917" y="279"/>
                  </a:lnTo>
                  <a:lnTo>
                    <a:pt x="860" y="140"/>
                  </a:lnTo>
                  <a:lnTo>
                    <a:pt x="886" y="296"/>
                  </a:lnTo>
                  <a:lnTo>
                    <a:pt x="839" y="269"/>
                  </a:lnTo>
                  <a:lnTo>
                    <a:pt x="751" y="243"/>
                  </a:lnTo>
                  <a:lnTo>
                    <a:pt x="519" y="279"/>
                  </a:lnTo>
                  <a:lnTo>
                    <a:pt x="472" y="306"/>
                  </a:lnTo>
                  <a:lnTo>
                    <a:pt x="439" y="281"/>
                  </a:lnTo>
                  <a:lnTo>
                    <a:pt x="398" y="155"/>
                  </a:lnTo>
                  <a:lnTo>
                    <a:pt x="384" y="235"/>
                  </a:lnTo>
                  <a:lnTo>
                    <a:pt x="331" y="256"/>
                  </a:lnTo>
                  <a:lnTo>
                    <a:pt x="244" y="273"/>
                  </a:lnTo>
                  <a:lnTo>
                    <a:pt x="120" y="23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0"/>
            <p:cNvSpPr/>
            <p:nvPr/>
          </p:nvSpPr>
          <p:spPr>
            <a:xfrm>
              <a:off x="1991520" y="6009120"/>
              <a:ext cx="304560" cy="6912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34" h="376">
                  <a:moveTo>
                    <a:pt x="0" y="0"/>
                  </a:moveTo>
                  <a:lnTo>
                    <a:pt x="93" y="51"/>
                  </a:lnTo>
                  <a:lnTo>
                    <a:pt x="301" y="224"/>
                  </a:lnTo>
                  <a:lnTo>
                    <a:pt x="234" y="232"/>
                  </a:lnTo>
                  <a:lnTo>
                    <a:pt x="173" y="253"/>
                  </a:lnTo>
                  <a:lnTo>
                    <a:pt x="133" y="306"/>
                  </a:lnTo>
                  <a:lnTo>
                    <a:pt x="183" y="270"/>
                  </a:lnTo>
                  <a:lnTo>
                    <a:pt x="253" y="251"/>
                  </a:lnTo>
                  <a:lnTo>
                    <a:pt x="354" y="247"/>
                  </a:lnTo>
                  <a:lnTo>
                    <a:pt x="527" y="289"/>
                  </a:lnTo>
                  <a:lnTo>
                    <a:pt x="696" y="356"/>
                  </a:lnTo>
                  <a:lnTo>
                    <a:pt x="803" y="348"/>
                  </a:lnTo>
                  <a:lnTo>
                    <a:pt x="873" y="376"/>
                  </a:lnTo>
                  <a:lnTo>
                    <a:pt x="894" y="300"/>
                  </a:lnTo>
                  <a:lnTo>
                    <a:pt x="1101" y="255"/>
                  </a:lnTo>
                  <a:lnTo>
                    <a:pt x="1226" y="221"/>
                  </a:lnTo>
                  <a:lnTo>
                    <a:pt x="1384" y="249"/>
                  </a:lnTo>
                  <a:lnTo>
                    <a:pt x="1434" y="179"/>
                  </a:lnTo>
                  <a:lnTo>
                    <a:pt x="1390" y="139"/>
                  </a:lnTo>
                  <a:lnTo>
                    <a:pt x="1312" y="11"/>
                  </a:lnTo>
                  <a:lnTo>
                    <a:pt x="1346" y="108"/>
                  </a:lnTo>
                  <a:lnTo>
                    <a:pt x="1361" y="173"/>
                  </a:lnTo>
                  <a:lnTo>
                    <a:pt x="1308" y="152"/>
                  </a:lnTo>
                  <a:lnTo>
                    <a:pt x="1289" y="192"/>
                  </a:lnTo>
                  <a:lnTo>
                    <a:pt x="1221" y="158"/>
                  </a:lnTo>
                  <a:lnTo>
                    <a:pt x="1173" y="108"/>
                  </a:lnTo>
                  <a:lnTo>
                    <a:pt x="1088" y="179"/>
                  </a:lnTo>
                  <a:lnTo>
                    <a:pt x="958" y="232"/>
                  </a:lnTo>
                  <a:lnTo>
                    <a:pt x="776" y="270"/>
                  </a:lnTo>
                  <a:lnTo>
                    <a:pt x="656" y="281"/>
                  </a:lnTo>
                  <a:lnTo>
                    <a:pt x="626" y="257"/>
                  </a:lnTo>
                  <a:lnTo>
                    <a:pt x="616" y="188"/>
                  </a:lnTo>
                  <a:lnTo>
                    <a:pt x="559" y="179"/>
                  </a:lnTo>
                  <a:lnTo>
                    <a:pt x="590" y="264"/>
                  </a:lnTo>
                  <a:lnTo>
                    <a:pt x="527" y="247"/>
                  </a:lnTo>
                  <a:lnTo>
                    <a:pt x="449" y="217"/>
                  </a:lnTo>
                  <a:lnTo>
                    <a:pt x="306" y="179"/>
                  </a:lnTo>
                  <a:lnTo>
                    <a:pt x="164" y="87"/>
                  </a:lnTo>
                  <a:lnTo>
                    <a:pt x="88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1"/>
            <p:cNvSpPr/>
            <p:nvPr/>
          </p:nvSpPr>
          <p:spPr>
            <a:xfrm>
              <a:off x="1828800" y="5971680"/>
              <a:ext cx="253800" cy="170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194" h="923">
                  <a:moveTo>
                    <a:pt x="156" y="0"/>
                  </a:moveTo>
                  <a:lnTo>
                    <a:pt x="57" y="57"/>
                  </a:lnTo>
                  <a:lnTo>
                    <a:pt x="17" y="131"/>
                  </a:lnTo>
                  <a:lnTo>
                    <a:pt x="0" y="201"/>
                  </a:lnTo>
                  <a:lnTo>
                    <a:pt x="10" y="264"/>
                  </a:lnTo>
                  <a:lnTo>
                    <a:pt x="36" y="325"/>
                  </a:lnTo>
                  <a:lnTo>
                    <a:pt x="112" y="359"/>
                  </a:lnTo>
                  <a:lnTo>
                    <a:pt x="435" y="454"/>
                  </a:lnTo>
                  <a:lnTo>
                    <a:pt x="618" y="562"/>
                  </a:lnTo>
                  <a:lnTo>
                    <a:pt x="779" y="659"/>
                  </a:lnTo>
                  <a:lnTo>
                    <a:pt x="840" y="712"/>
                  </a:lnTo>
                  <a:lnTo>
                    <a:pt x="933" y="819"/>
                  </a:lnTo>
                  <a:lnTo>
                    <a:pt x="1063" y="887"/>
                  </a:lnTo>
                  <a:lnTo>
                    <a:pt x="1194" y="923"/>
                  </a:lnTo>
                  <a:lnTo>
                    <a:pt x="1032" y="758"/>
                  </a:lnTo>
                  <a:lnTo>
                    <a:pt x="857" y="612"/>
                  </a:lnTo>
                  <a:lnTo>
                    <a:pt x="753" y="518"/>
                  </a:lnTo>
                  <a:lnTo>
                    <a:pt x="643" y="505"/>
                  </a:lnTo>
                  <a:lnTo>
                    <a:pt x="549" y="480"/>
                  </a:lnTo>
                  <a:lnTo>
                    <a:pt x="500" y="450"/>
                  </a:lnTo>
                  <a:lnTo>
                    <a:pt x="485" y="397"/>
                  </a:lnTo>
                  <a:lnTo>
                    <a:pt x="498" y="287"/>
                  </a:lnTo>
                  <a:lnTo>
                    <a:pt x="538" y="230"/>
                  </a:lnTo>
                  <a:lnTo>
                    <a:pt x="591" y="192"/>
                  </a:lnTo>
                  <a:lnTo>
                    <a:pt x="667" y="182"/>
                  </a:lnTo>
                  <a:lnTo>
                    <a:pt x="745" y="190"/>
                  </a:lnTo>
                  <a:lnTo>
                    <a:pt x="667" y="167"/>
                  </a:lnTo>
                  <a:lnTo>
                    <a:pt x="572" y="186"/>
                  </a:lnTo>
                  <a:lnTo>
                    <a:pt x="513" y="216"/>
                  </a:lnTo>
                  <a:lnTo>
                    <a:pt x="443" y="290"/>
                  </a:lnTo>
                  <a:lnTo>
                    <a:pt x="302" y="260"/>
                  </a:lnTo>
                  <a:lnTo>
                    <a:pt x="173" y="290"/>
                  </a:lnTo>
                  <a:lnTo>
                    <a:pt x="86" y="294"/>
                  </a:lnTo>
                  <a:lnTo>
                    <a:pt x="46" y="239"/>
                  </a:lnTo>
                  <a:lnTo>
                    <a:pt x="29" y="180"/>
                  </a:lnTo>
                  <a:lnTo>
                    <a:pt x="55" y="96"/>
                  </a:lnTo>
                  <a:lnTo>
                    <a:pt x="116" y="43"/>
                  </a:lnTo>
                  <a:lnTo>
                    <a:pt x="190" y="1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2"/>
            <p:cNvSpPr/>
            <p:nvPr/>
          </p:nvSpPr>
          <p:spPr>
            <a:xfrm>
              <a:off x="2674080" y="5562720"/>
              <a:ext cx="374040" cy="38772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761" h="2101">
                  <a:moveTo>
                    <a:pt x="0" y="567"/>
                  </a:moveTo>
                  <a:lnTo>
                    <a:pt x="352" y="1277"/>
                  </a:lnTo>
                  <a:lnTo>
                    <a:pt x="645" y="1768"/>
                  </a:lnTo>
                  <a:lnTo>
                    <a:pt x="685" y="1876"/>
                  </a:lnTo>
                  <a:lnTo>
                    <a:pt x="548" y="1975"/>
                  </a:lnTo>
                  <a:lnTo>
                    <a:pt x="527" y="2059"/>
                  </a:lnTo>
                  <a:lnTo>
                    <a:pt x="592" y="2101"/>
                  </a:lnTo>
                  <a:lnTo>
                    <a:pt x="748" y="1987"/>
                  </a:lnTo>
                  <a:lnTo>
                    <a:pt x="816" y="2026"/>
                  </a:lnTo>
                  <a:lnTo>
                    <a:pt x="1761" y="1665"/>
                  </a:lnTo>
                  <a:lnTo>
                    <a:pt x="1573" y="1306"/>
                  </a:lnTo>
                  <a:lnTo>
                    <a:pt x="685" y="1618"/>
                  </a:lnTo>
                  <a:lnTo>
                    <a:pt x="1546" y="1247"/>
                  </a:lnTo>
                  <a:lnTo>
                    <a:pt x="660" y="1536"/>
                  </a:lnTo>
                  <a:lnTo>
                    <a:pt x="1400" y="1217"/>
                  </a:lnTo>
                  <a:lnTo>
                    <a:pt x="626" y="1477"/>
                  </a:lnTo>
                  <a:lnTo>
                    <a:pt x="801" y="1357"/>
                  </a:lnTo>
                  <a:lnTo>
                    <a:pt x="552" y="1418"/>
                  </a:lnTo>
                  <a:lnTo>
                    <a:pt x="246" y="956"/>
                  </a:lnTo>
                  <a:lnTo>
                    <a:pt x="101" y="612"/>
                  </a:lnTo>
                  <a:lnTo>
                    <a:pt x="111" y="506"/>
                  </a:lnTo>
                  <a:lnTo>
                    <a:pt x="303" y="420"/>
                  </a:lnTo>
                  <a:lnTo>
                    <a:pt x="917" y="55"/>
                  </a:lnTo>
                  <a:lnTo>
                    <a:pt x="885" y="0"/>
                  </a:lnTo>
                  <a:lnTo>
                    <a:pt x="236" y="386"/>
                  </a:lnTo>
                  <a:lnTo>
                    <a:pt x="33" y="500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3"/>
            <p:cNvSpPr/>
            <p:nvPr/>
          </p:nvSpPr>
          <p:spPr>
            <a:xfrm>
              <a:off x="2275560" y="5947920"/>
              <a:ext cx="96120" cy="86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50" h="50">
                  <a:moveTo>
                    <a:pt x="0" y="50"/>
                  </a:moveTo>
                  <a:lnTo>
                    <a:pt x="129" y="29"/>
                  </a:lnTo>
                  <a:lnTo>
                    <a:pt x="226" y="50"/>
                  </a:lnTo>
                  <a:lnTo>
                    <a:pt x="355" y="38"/>
                  </a:lnTo>
                  <a:lnTo>
                    <a:pt x="450" y="0"/>
                  </a:lnTo>
                  <a:lnTo>
                    <a:pt x="287" y="29"/>
                  </a:lnTo>
                  <a:lnTo>
                    <a:pt x="177" y="2"/>
                  </a:lnTo>
                  <a:lnTo>
                    <a:pt x="106" y="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54"/>
            <p:cNvSpPr/>
            <p:nvPr/>
          </p:nvSpPr>
          <p:spPr>
            <a:xfrm>
              <a:off x="2367360" y="5905080"/>
              <a:ext cx="135000" cy="460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35" h="251">
                  <a:moveTo>
                    <a:pt x="0" y="0"/>
                  </a:moveTo>
                  <a:lnTo>
                    <a:pt x="166" y="84"/>
                  </a:lnTo>
                  <a:lnTo>
                    <a:pt x="299" y="191"/>
                  </a:lnTo>
                  <a:lnTo>
                    <a:pt x="390" y="227"/>
                  </a:lnTo>
                  <a:lnTo>
                    <a:pt x="635" y="251"/>
                  </a:lnTo>
                  <a:lnTo>
                    <a:pt x="451" y="206"/>
                  </a:lnTo>
                  <a:lnTo>
                    <a:pt x="312" y="154"/>
                  </a:lnTo>
                  <a:lnTo>
                    <a:pt x="17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5"/>
            <p:cNvSpPr/>
            <p:nvPr/>
          </p:nvSpPr>
          <p:spPr>
            <a:xfrm>
              <a:off x="2286720" y="6007320"/>
              <a:ext cx="38880" cy="352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84" h="192">
                  <a:moveTo>
                    <a:pt x="0" y="188"/>
                  </a:moveTo>
                  <a:lnTo>
                    <a:pt x="32" y="98"/>
                  </a:lnTo>
                  <a:lnTo>
                    <a:pt x="95" y="38"/>
                  </a:lnTo>
                  <a:lnTo>
                    <a:pt x="184" y="0"/>
                  </a:lnTo>
                  <a:lnTo>
                    <a:pt x="150" y="43"/>
                  </a:lnTo>
                  <a:lnTo>
                    <a:pt x="72" y="123"/>
                  </a:lnTo>
                  <a:lnTo>
                    <a:pt x="40" y="192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6"/>
            <p:cNvSpPr/>
            <p:nvPr/>
          </p:nvSpPr>
          <p:spPr>
            <a:xfrm>
              <a:off x="2365200" y="5969160"/>
              <a:ext cx="68400" cy="73800"/>
            </a:xfrm>
            <a:custGeom>
              <a:avLst/>
              <a:gdLst>
                <a:gd name="textAreaLeft" fmla="*/ 0 w 68400"/>
                <a:gd name="textAreaRight" fmla="*/ 68400 w 684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321" h="401">
                  <a:moveTo>
                    <a:pt x="0" y="0"/>
                  </a:moveTo>
                  <a:lnTo>
                    <a:pt x="78" y="59"/>
                  </a:lnTo>
                  <a:lnTo>
                    <a:pt x="158" y="175"/>
                  </a:lnTo>
                  <a:lnTo>
                    <a:pt x="201" y="255"/>
                  </a:lnTo>
                  <a:lnTo>
                    <a:pt x="321" y="401"/>
                  </a:lnTo>
                  <a:lnTo>
                    <a:pt x="230" y="265"/>
                  </a:lnTo>
                  <a:lnTo>
                    <a:pt x="182" y="177"/>
                  </a:lnTo>
                  <a:lnTo>
                    <a:pt x="123" y="73"/>
                  </a:lnTo>
                  <a:lnTo>
                    <a:pt x="6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7"/>
            <p:cNvSpPr/>
            <p:nvPr/>
          </p:nvSpPr>
          <p:spPr>
            <a:xfrm>
              <a:off x="2662560" y="5672520"/>
              <a:ext cx="17640" cy="11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84" h="65">
                  <a:moveTo>
                    <a:pt x="0" y="36"/>
                  </a:moveTo>
                  <a:lnTo>
                    <a:pt x="74" y="0"/>
                  </a:lnTo>
                  <a:lnTo>
                    <a:pt x="84" y="19"/>
                  </a:lnTo>
                  <a:lnTo>
                    <a:pt x="4" y="6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8"/>
            <p:cNvSpPr/>
            <p:nvPr/>
          </p:nvSpPr>
          <p:spPr>
            <a:xfrm>
              <a:off x="2355840" y="5686560"/>
              <a:ext cx="232920" cy="1602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097" h="869">
                  <a:moveTo>
                    <a:pt x="392" y="135"/>
                  </a:moveTo>
                  <a:lnTo>
                    <a:pt x="266" y="105"/>
                  </a:lnTo>
                  <a:lnTo>
                    <a:pt x="129" y="148"/>
                  </a:lnTo>
                  <a:lnTo>
                    <a:pt x="50" y="260"/>
                  </a:lnTo>
                  <a:lnTo>
                    <a:pt x="6" y="418"/>
                  </a:lnTo>
                  <a:lnTo>
                    <a:pt x="0" y="523"/>
                  </a:lnTo>
                  <a:lnTo>
                    <a:pt x="190" y="316"/>
                  </a:lnTo>
                  <a:lnTo>
                    <a:pt x="103" y="500"/>
                  </a:lnTo>
                  <a:lnTo>
                    <a:pt x="302" y="287"/>
                  </a:lnTo>
                  <a:lnTo>
                    <a:pt x="411" y="274"/>
                  </a:lnTo>
                  <a:lnTo>
                    <a:pt x="333" y="452"/>
                  </a:lnTo>
                  <a:lnTo>
                    <a:pt x="223" y="601"/>
                  </a:lnTo>
                  <a:lnTo>
                    <a:pt x="118" y="726"/>
                  </a:lnTo>
                  <a:lnTo>
                    <a:pt x="261" y="612"/>
                  </a:lnTo>
                  <a:lnTo>
                    <a:pt x="428" y="418"/>
                  </a:lnTo>
                  <a:lnTo>
                    <a:pt x="348" y="597"/>
                  </a:lnTo>
                  <a:lnTo>
                    <a:pt x="118" y="814"/>
                  </a:lnTo>
                  <a:lnTo>
                    <a:pt x="323" y="698"/>
                  </a:lnTo>
                  <a:lnTo>
                    <a:pt x="464" y="517"/>
                  </a:lnTo>
                  <a:lnTo>
                    <a:pt x="386" y="696"/>
                  </a:lnTo>
                  <a:lnTo>
                    <a:pt x="198" y="869"/>
                  </a:lnTo>
                  <a:lnTo>
                    <a:pt x="420" y="726"/>
                  </a:lnTo>
                  <a:lnTo>
                    <a:pt x="557" y="534"/>
                  </a:lnTo>
                  <a:lnTo>
                    <a:pt x="479" y="741"/>
                  </a:lnTo>
                  <a:lnTo>
                    <a:pt x="696" y="470"/>
                  </a:lnTo>
                  <a:lnTo>
                    <a:pt x="877" y="451"/>
                  </a:lnTo>
                  <a:lnTo>
                    <a:pt x="1034" y="299"/>
                  </a:lnTo>
                  <a:lnTo>
                    <a:pt x="1097" y="158"/>
                  </a:lnTo>
                  <a:lnTo>
                    <a:pt x="1010" y="59"/>
                  </a:lnTo>
                  <a:lnTo>
                    <a:pt x="848" y="0"/>
                  </a:lnTo>
                  <a:lnTo>
                    <a:pt x="688" y="23"/>
                  </a:lnTo>
                  <a:lnTo>
                    <a:pt x="544" y="84"/>
                  </a:lnTo>
                  <a:lnTo>
                    <a:pt x="392" y="13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9"/>
            <p:cNvSpPr/>
            <p:nvPr/>
          </p:nvSpPr>
          <p:spPr>
            <a:xfrm>
              <a:off x="2457720" y="5761080"/>
              <a:ext cx="202680" cy="2037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955" h="1104">
                  <a:moveTo>
                    <a:pt x="805" y="0"/>
                  </a:moveTo>
                  <a:lnTo>
                    <a:pt x="679" y="66"/>
                  </a:lnTo>
                  <a:lnTo>
                    <a:pt x="586" y="186"/>
                  </a:lnTo>
                  <a:lnTo>
                    <a:pt x="495" y="338"/>
                  </a:lnTo>
                  <a:lnTo>
                    <a:pt x="272" y="578"/>
                  </a:lnTo>
                  <a:lnTo>
                    <a:pt x="33" y="747"/>
                  </a:lnTo>
                  <a:lnTo>
                    <a:pt x="109" y="770"/>
                  </a:lnTo>
                  <a:lnTo>
                    <a:pt x="390" y="618"/>
                  </a:lnTo>
                  <a:lnTo>
                    <a:pt x="542" y="513"/>
                  </a:lnTo>
                  <a:lnTo>
                    <a:pt x="426" y="732"/>
                  </a:lnTo>
                  <a:lnTo>
                    <a:pt x="320" y="850"/>
                  </a:lnTo>
                  <a:lnTo>
                    <a:pt x="126" y="874"/>
                  </a:lnTo>
                  <a:lnTo>
                    <a:pt x="0" y="886"/>
                  </a:lnTo>
                  <a:lnTo>
                    <a:pt x="219" y="964"/>
                  </a:lnTo>
                  <a:lnTo>
                    <a:pt x="371" y="1032"/>
                  </a:lnTo>
                  <a:lnTo>
                    <a:pt x="424" y="1104"/>
                  </a:lnTo>
                  <a:lnTo>
                    <a:pt x="711" y="743"/>
                  </a:lnTo>
                  <a:lnTo>
                    <a:pt x="862" y="412"/>
                  </a:lnTo>
                  <a:lnTo>
                    <a:pt x="930" y="257"/>
                  </a:lnTo>
                  <a:lnTo>
                    <a:pt x="955" y="131"/>
                  </a:lnTo>
                  <a:lnTo>
                    <a:pt x="80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0"/>
            <p:cNvSpPr/>
            <p:nvPr/>
          </p:nvSpPr>
          <p:spPr>
            <a:xfrm>
              <a:off x="2413080" y="5957280"/>
              <a:ext cx="109440" cy="673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17" h="365">
                  <a:moveTo>
                    <a:pt x="80" y="0"/>
                  </a:moveTo>
                  <a:lnTo>
                    <a:pt x="316" y="19"/>
                  </a:lnTo>
                  <a:lnTo>
                    <a:pt x="517" y="93"/>
                  </a:lnTo>
                  <a:lnTo>
                    <a:pt x="441" y="188"/>
                  </a:lnTo>
                  <a:lnTo>
                    <a:pt x="312" y="241"/>
                  </a:lnTo>
                  <a:lnTo>
                    <a:pt x="217" y="361"/>
                  </a:lnTo>
                  <a:lnTo>
                    <a:pt x="124" y="365"/>
                  </a:lnTo>
                  <a:lnTo>
                    <a:pt x="14" y="226"/>
                  </a:lnTo>
                  <a:lnTo>
                    <a:pt x="0" y="1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1"/>
            <p:cNvSpPr/>
            <p:nvPr/>
          </p:nvSpPr>
          <p:spPr>
            <a:xfrm>
              <a:off x="2322000" y="5996160"/>
              <a:ext cx="60120" cy="47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86" h="260">
                  <a:moveTo>
                    <a:pt x="221" y="0"/>
                  </a:moveTo>
                  <a:lnTo>
                    <a:pt x="94" y="57"/>
                  </a:lnTo>
                  <a:lnTo>
                    <a:pt x="16" y="148"/>
                  </a:lnTo>
                  <a:lnTo>
                    <a:pt x="0" y="211"/>
                  </a:lnTo>
                  <a:lnTo>
                    <a:pt x="92" y="260"/>
                  </a:lnTo>
                  <a:lnTo>
                    <a:pt x="194" y="203"/>
                  </a:lnTo>
                  <a:lnTo>
                    <a:pt x="286" y="138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2"/>
            <p:cNvSpPr/>
            <p:nvPr/>
          </p:nvSpPr>
          <p:spPr>
            <a:xfrm>
              <a:off x="2363040" y="6035760"/>
              <a:ext cx="41760" cy="3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98" h="190">
                  <a:moveTo>
                    <a:pt x="97" y="0"/>
                  </a:moveTo>
                  <a:lnTo>
                    <a:pt x="4" y="53"/>
                  </a:lnTo>
                  <a:lnTo>
                    <a:pt x="0" y="136"/>
                  </a:lnTo>
                  <a:lnTo>
                    <a:pt x="61" y="190"/>
                  </a:lnTo>
                  <a:lnTo>
                    <a:pt x="147" y="87"/>
                  </a:lnTo>
                  <a:lnTo>
                    <a:pt x="198" y="64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3"/>
            <p:cNvSpPr/>
            <p:nvPr/>
          </p:nvSpPr>
          <p:spPr>
            <a:xfrm>
              <a:off x="2271960" y="5967360"/>
              <a:ext cx="73800" cy="396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48" h="217">
                  <a:moveTo>
                    <a:pt x="21" y="217"/>
                  </a:moveTo>
                  <a:lnTo>
                    <a:pt x="0" y="112"/>
                  </a:lnTo>
                  <a:lnTo>
                    <a:pt x="89" y="44"/>
                  </a:lnTo>
                  <a:lnTo>
                    <a:pt x="252" y="0"/>
                  </a:lnTo>
                  <a:lnTo>
                    <a:pt x="348" y="47"/>
                  </a:lnTo>
                  <a:lnTo>
                    <a:pt x="283" y="137"/>
                  </a:lnTo>
                  <a:lnTo>
                    <a:pt x="146" y="146"/>
                  </a:lnTo>
                  <a:lnTo>
                    <a:pt x="21" y="2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4"/>
            <p:cNvSpPr/>
            <p:nvPr/>
          </p:nvSpPr>
          <p:spPr>
            <a:xfrm>
              <a:off x="2216880" y="5716080"/>
              <a:ext cx="124920" cy="896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590" h="484">
                  <a:moveTo>
                    <a:pt x="590" y="0"/>
                  </a:moveTo>
                  <a:lnTo>
                    <a:pt x="384" y="146"/>
                  </a:lnTo>
                  <a:lnTo>
                    <a:pt x="166" y="243"/>
                  </a:lnTo>
                  <a:lnTo>
                    <a:pt x="67" y="273"/>
                  </a:lnTo>
                  <a:lnTo>
                    <a:pt x="0" y="311"/>
                  </a:lnTo>
                  <a:lnTo>
                    <a:pt x="107" y="332"/>
                  </a:lnTo>
                  <a:lnTo>
                    <a:pt x="112" y="401"/>
                  </a:lnTo>
                  <a:lnTo>
                    <a:pt x="188" y="484"/>
                  </a:lnTo>
                  <a:lnTo>
                    <a:pt x="196" y="408"/>
                  </a:lnTo>
                  <a:lnTo>
                    <a:pt x="251" y="311"/>
                  </a:lnTo>
                  <a:lnTo>
                    <a:pt x="379" y="243"/>
                  </a:lnTo>
                  <a:lnTo>
                    <a:pt x="445" y="325"/>
                  </a:lnTo>
                  <a:lnTo>
                    <a:pt x="498" y="370"/>
                  </a:lnTo>
                  <a:lnTo>
                    <a:pt x="468" y="243"/>
                  </a:lnTo>
                  <a:lnTo>
                    <a:pt x="534" y="106"/>
                  </a:lnTo>
                  <a:lnTo>
                    <a:pt x="590" y="60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5"/>
            <p:cNvSpPr/>
            <p:nvPr/>
          </p:nvSpPr>
          <p:spPr>
            <a:xfrm>
              <a:off x="2099880" y="5779440"/>
              <a:ext cx="119880" cy="820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564" h="445">
                  <a:moveTo>
                    <a:pt x="511" y="0"/>
                  </a:moveTo>
                  <a:lnTo>
                    <a:pt x="450" y="21"/>
                  </a:lnTo>
                  <a:lnTo>
                    <a:pt x="359" y="127"/>
                  </a:lnTo>
                  <a:lnTo>
                    <a:pt x="104" y="277"/>
                  </a:lnTo>
                  <a:lnTo>
                    <a:pt x="13" y="348"/>
                  </a:lnTo>
                  <a:lnTo>
                    <a:pt x="0" y="414"/>
                  </a:lnTo>
                  <a:lnTo>
                    <a:pt x="89" y="445"/>
                  </a:lnTo>
                  <a:lnTo>
                    <a:pt x="209" y="420"/>
                  </a:lnTo>
                  <a:lnTo>
                    <a:pt x="323" y="353"/>
                  </a:lnTo>
                  <a:lnTo>
                    <a:pt x="389" y="262"/>
                  </a:lnTo>
                  <a:lnTo>
                    <a:pt x="443" y="121"/>
                  </a:lnTo>
                  <a:lnTo>
                    <a:pt x="519" y="82"/>
                  </a:lnTo>
                  <a:lnTo>
                    <a:pt x="564" y="118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6"/>
            <p:cNvSpPr/>
            <p:nvPr/>
          </p:nvSpPr>
          <p:spPr>
            <a:xfrm>
              <a:off x="1886040" y="5941800"/>
              <a:ext cx="94320" cy="201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45" h="108">
                  <a:moveTo>
                    <a:pt x="0" y="59"/>
                  </a:moveTo>
                  <a:lnTo>
                    <a:pt x="97" y="11"/>
                  </a:lnTo>
                  <a:lnTo>
                    <a:pt x="217" y="0"/>
                  </a:lnTo>
                  <a:lnTo>
                    <a:pt x="352" y="0"/>
                  </a:lnTo>
                  <a:lnTo>
                    <a:pt x="424" y="21"/>
                  </a:lnTo>
                  <a:lnTo>
                    <a:pt x="445" y="59"/>
                  </a:lnTo>
                  <a:lnTo>
                    <a:pt x="399" y="108"/>
                  </a:lnTo>
                  <a:lnTo>
                    <a:pt x="207" y="97"/>
                  </a:lnTo>
                  <a:lnTo>
                    <a:pt x="49" y="8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"/>
            <p:cNvSpPr/>
            <p:nvPr/>
          </p:nvSpPr>
          <p:spPr>
            <a:xfrm>
              <a:off x="2111760" y="5910840"/>
              <a:ext cx="104760" cy="48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492" h="262">
                  <a:moveTo>
                    <a:pt x="0" y="131"/>
                  </a:moveTo>
                  <a:lnTo>
                    <a:pt x="13" y="228"/>
                  </a:lnTo>
                  <a:lnTo>
                    <a:pt x="34" y="262"/>
                  </a:lnTo>
                  <a:lnTo>
                    <a:pt x="72" y="180"/>
                  </a:lnTo>
                  <a:lnTo>
                    <a:pt x="120" y="142"/>
                  </a:lnTo>
                  <a:lnTo>
                    <a:pt x="192" y="180"/>
                  </a:lnTo>
                  <a:lnTo>
                    <a:pt x="323" y="180"/>
                  </a:lnTo>
                  <a:lnTo>
                    <a:pt x="443" y="131"/>
                  </a:lnTo>
                  <a:lnTo>
                    <a:pt x="492" y="49"/>
                  </a:lnTo>
                  <a:lnTo>
                    <a:pt x="458" y="0"/>
                  </a:lnTo>
                  <a:lnTo>
                    <a:pt x="239" y="59"/>
                  </a:lnTo>
                  <a:lnTo>
                    <a:pt x="120" y="83"/>
                  </a:lnTo>
                  <a:lnTo>
                    <a:pt x="36" y="15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8"/>
            <p:cNvSpPr/>
            <p:nvPr/>
          </p:nvSpPr>
          <p:spPr>
            <a:xfrm>
              <a:off x="2124000" y="5993280"/>
              <a:ext cx="102240" cy="28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83" h="154">
                  <a:moveTo>
                    <a:pt x="0" y="96"/>
                  </a:moveTo>
                  <a:lnTo>
                    <a:pt x="49" y="61"/>
                  </a:lnTo>
                  <a:lnTo>
                    <a:pt x="304" y="0"/>
                  </a:lnTo>
                  <a:lnTo>
                    <a:pt x="448" y="10"/>
                  </a:lnTo>
                  <a:lnTo>
                    <a:pt x="483" y="58"/>
                  </a:lnTo>
                  <a:lnTo>
                    <a:pt x="424" y="111"/>
                  </a:lnTo>
                  <a:lnTo>
                    <a:pt x="97" y="15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9"/>
            <p:cNvSpPr/>
            <p:nvPr/>
          </p:nvSpPr>
          <p:spPr>
            <a:xfrm>
              <a:off x="2273760" y="5897520"/>
              <a:ext cx="68760" cy="399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25" h="218">
                  <a:moveTo>
                    <a:pt x="34" y="214"/>
                  </a:moveTo>
                  <a:lnTo>
                    <a:pt x="0" y="108"/>
                  </a:lnTo>
                  <a:lnTo>
                    <a:pt x="46" y="49"/>
                  </a:lnTo>
                  <a:lnTo>
                    <a:pt x="166" y="24"/>
                  </a:lnTo>
                  <a:lnTo>
                    <a:pt x="215" y="0"/>
                  </a:lnTo>
                  <a:lnTo>
                    <a:pt x="325" y="93"/>
                  </a:lnTo>
                  <a:lnTo>
                    <a:pt x="301" y="165"/>
                  </a:lnTo>
                  <a:lnTo>
                    <a:pt x="204" y="218"/>
                  </a:lnTo>
                  <a:lnTo>
                    <a:pt x="34" y="2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0"/>
            <p:cNvSpPr/>
            <p:nvPr/>
          </p:nvSpPr>
          <p:spPr>
            <a:xfrm>
              <a:off x="1848240" y="5977440"/>
              <a:ext cx="115200" cy="262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42" h="145">
                  <a:moveTo>
                    <a:pt x="0" y="135"/>
                  </a:moveTo>
                  <a:lnTo>
                    <a:pt x="0" y="72"/>
                  </a:lnTo>
                  <a:lnTo>
                    <a:pt x="44" y="29"/>
                  </a:lnTo>
                  <a:lnTo>
                    <a:pt x="131" y="0"/>
                  </a:lnTo>
                  <a:lnTo>
                    <a:pt x="228" y="0"/>
                  </a:lnTo>
                  <a:lnTo>
                    <a:pt x="396" y="38"/>
                  </a:lnTo>
                  <a:lnTo>
                    <a:pt x="483" y="63"/>
                  </a:lnTo>
                  <a:lnTo>
                    <a:pt x="542" y="110"/>
                  </a:lnTo>
                  <a:lnTo>
                    <a:pt x="470" y="101"/>
                  </a:lnTo>
                  <a:lnTo>
                    <a:pt x="238" y="76"/>
                  </a:lnTo>
                  <a:lnTo>
                    <a:pt x="141" y="97"/>
                  </a:lnTo>
                  <a:lnTo>
                    <a:pt x="48" y="14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1"/>
            <p:cNvSpPr/>
            <p:nvPr/>
          </p:nvSpPr>
          <p:spPr>
            <a:xfrm>
              <a:off x="1937520" y="6009120"/>
              <a:ext cx="71640" cy="32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39" h="179">
                  <a:moveTo>
                    <a:pt x="0" y="141"/>
                  </a:moveTo>
                  <a:lnTo>
                    <a:pt x="25" y="72"/>
                  </a:lnTo>
                  <a:lnTo>
                    <a:pt x="73" y="21"/>
                  </a:lnTo>
                  <a:lnTo>
                    <a:pt x="156" y="0"/>
                  </a:lnTo>
                  <a:lnTo>
                    <a:pt x="251" y="21"/>
                  </a:lnTo>
                  <a:lnTo>
                    <a:pt x="326" y="82"/>
                  </a:lnTo>
                  <a:lnTo>
                    <a:pt x="339" y="156"/>
                  </a:lnTo>
                  <a:lnTo>
                    <a:pt x="208" y="179"/>
                  </a:lnTo>
                  <a:lnTo>
                    <a:pt x="86" y="179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2"/>
            <p:cNvSpPr/>
            <p:nvPr/>
          </p:nvSpPr>
          <p:spPr>
            <a:xfrm>
              <a:off x="2012400" y="5934960"/>
              <a:ext cx="78840" cy="3420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73" h="184">
                  <a:moveTo>
                    <a:pt x="59" y="15"/>
                  </a:moveTo>
                  <a:lnTo>
                    <a:pt x="0" y="49"/>
                  </a:lnTo>
                  <a:lnTo>
                    <a:pt x="34" y="184"/>
                  </a:lnTo>
                  <a:lnTo>
                    <a:pt x="59" y="184"/>
                  </a:lnTo>
                  <a:lnTo>
                    <a:pt x="59" y="72"/>
                  </a:lnTo>
                  <a:lnTo>
                    <a:pt x="169" y="84"/>
                  </a:lnTo>
                  <a:lnTo>
                    <a:pt x="339" y="59"/>
                  </a:lnTo>
                  <a:lnTo>
                    <a:pt x="373" y="0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3"/>
            <p:cNvSpPr/>
            <p:nvPr/>
          </p:nvSpPr>
          <p:spPr>
            <a:xfrm>
              <a:off x="2143800" y="6076440"/>
              <a:ext cx="30960" cy="259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44" h="143">
                  <a:moveTo>
                    <a:pt x="0" y="6"/>
                  </a:moveTo>
                  <a:lnTo>
                    <a:pt x="78" y="0"/>
                  </a:lnTo>
                  <a:lnTo>
                    <a:pt x="144" y="82"/>
                  </a:lnTo>
                  <a:lnTo>
                    <a:pt x="124" y="143"/>
                  </a:lnTo>
                  <a:lnTo>
                    <a:pt x="61" y="135"/>
                  </a:lnTo>
                  <a:lnTo>
                    <a:pt x="30" y="5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4"/>
            <p:cNvSpPr/>
            <p:nvPr/>
          </p:nvSpPr>
          <p:spPr>
            <a:xfrm>
              <a:off x="2230920" y="6076440"/>
              <a:ext cx="78120" cy="31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9" h="173">
                  <a:moveTo>
                    <a:pt x="0" y="61"/>
                  </a:moveTo>
                  <a:lnTo>
                    <a:pt x="43" y="31"/>
                  </a:lnTo>
                  <a:lnTo>
                    <a:pt x="302" y="0"/>
                  </a:lnTo>
                  <a:lnTo>
                    <a:pt x="369" y="31"/>
                  </a:lnTo>
                  <a:lnTo>
                    <a:pt x="197" y="61"/>
                  </a:lnTo>
                  <a:lnTo>
                    <a:pt x="104" y="97"/>
                  </a:lnTo>
                  <a:lnTo>
                    <a:pt x="68" y="173"/>
                  </a:lnTo>
                  <a:lnTo>
                    <a:pt x="53" y="99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75"/>
            <p:cNvSpPr/>
            <p:nvPr/>
          </p:nvSpPr>
          <p:spPr>
            <a:xfrm>
              <a:off x="2352960" y="5663880"/>
              <a:ext cx="344520" cy="118800"/>
            </a:xfrm>
            <a:custGeom>
              <a:avLst/>
              <a:gdLst>
                <a:gd name="textAreaLeft" fmla="*/ 0 w 344520"/>
                <a:gd name="textAreaRight" fmla="*/ 344520 w 344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22" h="645">
                  <a:moveTo>
                    <a:pt x="0" y="225"/>
                  </a:moveTo>
                  <a:lnTo>
                    <a:pt x="127" y="192"/>
                  </a:lnTo>
                  <a:lnTo>
                    <a:pt x="289" y="172"/>
                  </a:lnTo>
                  <a:lnTo>
                    <a:pt x="487" y="162"/>
                  </a:lnTo>
                  <a:lnTo>
                    <a:pt x="804" y="86"/>
                  </a:lnTo>
                  <a:lnTo>
                    <a:pt x="966" y="65"/>
                  </a:lnTo>
                  <a:lnTo>
                    <a:pt x="1146" y="86"/>
                  </a:lnTo>
                  <a:lnTo>
                    <a:pt x="1283" y="200"/>
                  </a:lnTo>
                  <a:lnTo>
                    <a:pt x="1335" y="307"/>
                  </a:lnTo>
                  <a:lnTo>
                    <a:pt x="1452" y="417"/>
                  </a:lnTo>
                  <a:lnTo>
                    <a:pt x="1622" y="645"/>
                  </a:lnTo>
                  <a:lnTo>
                    <a:pt x="1462" y="116"/>
                  </a:lnTo>
                  <a:lnTo>
                    <a:pt x="1295" y="97"/>
                  </a:lnTo>
                  <a:lnTo>
                    <a:pt x="1114" y="23"/>
                  </a:lnTo>
                  <a:lnTo>
                    <a:pt x="901" y="0"/>
                  </a:lnTo>
                  <a:lnTo>
                    <a:pt x="584" y="86"/>
                  </a:lnTo>
                  <a:lnTo>
                    <a:pt x="363" y="128"/>
                  </a:lnTo>
                  <a:lnTo>
                    <a:pt x="161" y="151"/>
                  </a:lnTo>
                  <a:lnTo>
                    <a:pt x="65" y="183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6"/>
            <p:cNvSpPr/>
            <p:nvPr/>
          </p:nvSpPr>
          <p:spPr>
            <a:xfrm>
              <a:off x="2086560" y="5659920"/>
              <a:ext cx="580680" cy="22104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21040"/>
                <a:gd name="textAreaBottom" fmla="*/ 221040 h 221040"/>
              </a:gdLst>
              <a:ahLst/>
              <a:rect l="textAreaLeft" t="textAreaTop" r="textAreaRight" b="textAreaBottom"/>
              <a:pathLst>
                <a:path w="2730" h="1198">
                  <a:moveTo>
                    <a:pt x="66" y="1198"/>
                  </a:moveTo>
                  <a:lnTo>
                    <a:pt x="6" y="1133"/>
                  </a:lnTo>
                  <a:lnTo>
                    <a:pt x="0" y="1050"/>
                  </a:lnTo>
                  <a:lnTo>
                    <a:pt x="38" y="981"/>
                  </a:lnTo>
                  <a:lnTo>
                    <a:pt x="118" y="913"/>
                  </a:lnTo>
                  <a:lnTo>
                    <a:pt x="490" y="641"/>
                  </a:lnTo>
                  <a:lnTo>
                    <a:pt x="686" y="525"/>
                  </a:lnTo>
                  <a:lnTo>
                    <a:pt x="857" y="461"/>
                  </a:lnTo>
                  <a:lnTo>
                    <a:pt x="1095" y="341"/>
                  </a:lnTo>
                  <a:lnTo>
                    <a:pt x="1264" y="225"/>
                  </a:lnTo>
                  <a:lnTo>
                    <a:pt x="1393" y="156"/>
                  </a:lnTo>
                  <a:lnTo>
                    <a:pt x="1635" y="132"/>
                  </a:lnTo>
                  <a:lnTo>
                    <a:pt x="1907" y="84"/>
                  </a:lnTo>
                  <a:lnTo>
                    <a:pt x="2108" y="23"/>
                  </a:lnTo>
                  <a:lnTo>
                    <a:pt x="2264" y="0"/>
                  </a:lnTo>
                  <a:lnTo>
                    <a:pt x="2395" y="21"/>
                  </a:lnTo>
                  <a:lnTo>
                    <a:pt x="2599" y="115"/>
                  </a:lnTo>
                  <a:lnTo>
                    <a:pt x="2658" y="122"/>
                  </a:lnTo>
                  <a:lnTo>
                    <a:pt x="2722" y="115"/>
                  </a:lnTo>
                  <a:lnTo>
                    <a:pt x="2730" y="177"/>
                  </a:lnTo>
                  <a:lnTo>
                    <a:pt x="2690" y="149"/>
                  </a:lnTo>
                  <a:lnTo>
                    <a:pt x="2570" y="143"/>
                  </a:lnTo>
                  <a:lnTo>
                    <a:pt x="2426" y="77"/>
                  </a:lnTo>
                  <a:lnTo>
                    <a:pt x="2297" y="42"/>
                  </a:lnTo>
                  <a:lnTo>
                    <a:pt x="2148" y="48"/>
                  </a:lnTo>
                  <a:lnTo>
                    <a:pt x="2002" y="86"/>
                  </a:lnTo>
                  <a:lnTo>
                    <a:pt x="1842" y="132"/>
                  </a:lnTo>
                  <a:lnTo>
                    <a:pt x="1688" y="154"/>
                  </a:lnTo>
                  <a:lnTo>
                    <a:pt x="1527" y="168"/>
                  </a:lnTo>
                  <a:lnTo>
                    <a:pt x="1386" y="183"/>
                  </a:lnTo>
                  <a:lnTo>
                    <a:pt x="1300" y="225"/>
                  </a:lnTo>
                  <a:lnTo>
                    <a:pt x="1175" y="303"/>
                  </a:lnTo>
                  <a:lnTo>
                    <a:pt x="1061" y="383"/>
                  </a:lnTo>
                  <a:lnTo>
                    <a:pt x="928" y="459"/>
                  </a:lnTo>
                  <a:lnTo>
                    <a:pt x="777" y="525"/>
                  </a:lnTo>
                  <a:lnTo>
                    <a:pt x="663" y="563"/>
                  </a:lnTo>
                  <a:lnTo>
                    <a:pt x="530" y="628"/>
                  </a:lnTo>
                  <a:lnTo>
                    <a:pt x="393" y="751"/>
                  </a:lnTo>
                  <a:lnTo>
                    <a:pt x="148" y="913"/>
                  </a:lnTo>
                  <a:lnTo>
                    <a:pt x="46" y="987"/>
                  </a:lnTo>
                  <a:lnTo>
                    <a:pt x="11" y="1059"/>
                  </a:lnTo>
                  <a:lnTo>
                    <a:pt x="21" y="1109"/>
                  </a:lnTo>
                  <a:lnTo>
                    <a:pt x="66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77"/>
            <p:cNvSpPr/>
            <p:nvPr/>
          </p:nvSpPr>
          <p:spPr>
            <a:xfrm>
              <a:off x="2014560" y="5679720"/>
              <a:ext cx="777240" cy="49248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3656" h="2667">
                  <a:moveTo>
                    <a:pt x="26" y="2076"/>
                  </a:moveTo>
                  <a:lnTo>
                    <a:pt x="0" y="2156"/>
                  </a:lnTo>
                  <a:lnTo>
                    <a:pt x="15" y="2232"/>
                  </a:lnTo>
                  <a:lnTo>
                    <a:pt x="26" y="2291"/>
                  </a:lnTo>
                  <a:lnTo>
                    <a:pt x="262" y="2405"/>
                  </a:lnTo>
                  <a:lnTo>
                    <a:pt x="365" y="2498"/>
                  </a:lnTo>
                  <a:lnTo>
                    <a:pt x="454" y="2547"/>
                  </a:lnTo>
                  <a:lnTo>
                    <a:pt x="920" y="2667"/>
                  </a:lnTo>
                  <a:lnTo>
                    <a:pt x="1568" y="2549"/>
                  </a:lnTo>
                  <a:lnTo>
                    <a:pt x="1825" y="2566"/>
                  </a:lnTo>
                  <a:lnTo>
                    <a:pt x="1996" y="2517"/>
                  </a:lnTo>
                  <a:lnTo>
                    <a:pt x="2235" y="2323"/>
                  </a:lnTo>
                  <a:lnTo>
                    <a:pt x="2572" y="2182"/>
                  </a:lnTo>
                  <a:lnTo>
                    <a:pt x="2899" y="1988"/>
                  </a:lnTo>
                  <a:lnTo>
                    <a:pt x="3235" y="1762"/>
                  </a:lnTo>
                  <a:lnTo>
                    <a:pt x="3532" y="1483"/>
                  </a:lnTo>
                  <a:lnTo>
                    <a:pt x="3656" y="1414"/>
                  </a:lnTo>
                  <a:lnTo>
                    <a:pt x="3469" y="1061"/>
                  </a:lnTo>
                  <a:lnTo>
                    <a:pt x="3266" y="629"/>
                  </a:lnTo>
                  <a:lnTo>
                    <a:pt x="3135" y="266"/>
                  </a:lnTo>
                  <a:lnTo>
                    <a:pt x="3051" y="0"/>
                  </a:lnTo>
                  <a:lnTo>
                    <a:pt x="3091" y="203"/>
                  </a:lnTo>
                  <a:lnTo>
                    <a:pt x="3150" y="435"/>
                  </a:lnTo>
                  <a:lnTo>
                    <a:pt x="3258" y="724"/>
                  </a:lnTo>
                  <a:lnTo>
                    <a:pt x="3346" y="935"/>
                  </a:lnTo>
                  <a:lnTo>
                    <a:pt x="3401" y="1053"/>
                  </a:lnTo>
                  <a:lnTo>
                    <a:pt x="3429" y="1177"/>
                  </a:lnTo>
                  <a:lnTo>
                    <a:pt x="3403" y="1236"/>
                  </a:lnTo>
                  <a:lnTo>
                    <a:pt x="3266" y="1072"/>
                  </a:lnTo>
                  <a:lnTo>
                    <a:pt x="3220" y="1293"/>
                  </a:lnTo>
                  <a:lnTo>
                    <a:pt x="3043" y="1576"/>
                  </a:lnTo>
                  <a:lnTo>
                    <a:pt x="2678" y="1899"/>
                  </a:lnTo>
                  <a:lnTo>
                    <a:pt x="2201" y="2099"/>
                  </a:lnTo>
                  <a:lnTo>
                    <a:pt x="2049" y="2045"/>
                  </a:lnTo>
                  <a:lnTo>
                    <a:pt x="2070" y="2140"/>
                  </a:lnTo>
                  <a:lnTo>
                    <a:pt x="2028" y="2247"/>
                  </a:lnTo>
                  <a:lnTo>
                    <a:pt x="1943" y="2209"/>
                  </a:lnTo>
                  <a:lnTo>
                    <a:pt x="1899" y="2272"/>
                  </a:lnTo>
                  <a:lnTo>
                    <a:pt x="1751" y="2247"/>
                  </a:lnTo>
                  <a:lnTo>
                    <a:pt x="1675" y="2224"/>
                  </a:lnTo>
                  <a:lnTo>
                    <a:pt x="1581" y="2139"/>
                  </a:lnTo>
                  <a:lnTo>
                    <a:pt x="1578" y="2099"/>
                  </a:lnTo>
                  <a:lnTo>
                    <a:pt x="1616" y="1986"/>
                  </a:lnTo>
                  <a:lnTo>
                    <a:pt x="1526" y="2074"/>
                  </a:lnTo>
                  <a:lnTo>
                    <a:pt x="1475" y="2061"/>
                  </a:lnTo>
                  <a:lnTo>
                    <a:pt x="1359" y="1979"/>
                  </a:lnTo>
                  <a:lnTo>
                    <a:pt x="1460" y="2085"/>
                  </a:lnTo>
                  <a:lnTo>
                    <a:pt x="1338" y="2095"/>
                  </a:lnTo>
                  <a:lnTo>
                    <a:pt x="1264" y="2023"/>
                  </a:lnTo>
                  <a:lnTo>
                    <a:pt x="1302" y="2102"/>
                  </a:lnTo>
                  <a:lnTo>
                    <a:pt x="1184" y="2110"/>
                  </a:lnTo>
                  <a:lnTo>
                    <a:pt x="975" y="2156"/>
                  </a:lnTo>
                  <a:lnTo>
                    <a:pt x="830" y="2173"/>
                  </a:lnTo>
                  <a:lnTo>
                    <a:pt x="948" y="2216"/>
                  </a:lnTo>
                  <a:lnTo>
                    <a:pt x="1024" y="2287"/>
                  </a:lnTo>
                  <a:lnTo>
                    <a:pt x="1070" y="2388"/>
                  </a:lnTo>
                  <a:lnTo>
                    <a:pt x="1055" y="2268"/>
                  </a:lnTo>
                  <a:lnTo>
                    <a:pt x="1005" y="2203"/>
                  </a:lnTo>
                  <a:lnTo>
                    <a:pt x="1040" y="2177"/>
                  </a:lnTo>
                  <a:lnTo>
                    <a:pt x="1121" y="2154"/>
                  </a:lnTo>
                  <a:lnTo>
                    <a:pt x="1349" y="2125"/>
                  </a:lnTo>
                  <a:lnTo>
                    <a:pt x="1412" y="2144"/>
                  </a:lnTo>
                  <a:lnTo>
                    <a:pt x="1475" y="2203"/>
                  </a:lnTo>
                  <a:lnTo>
                    <a:pt x="1443" y="2127"/>
                  </a:lnTo>
                  <a:lnTo>
                    <a:pt x="1519" y="2137"/>
                  </a:lnTo>
                  <a:lnTo>
                    <a:pt x="1564" y="2158"/>
                  </a:lnTo>
                  <a:lnTo>
                    <a:pt x="1646" y="2247"/>
                  </a:lnTo>
                  <a:lnTo>
                    <a:pt x="1659" y="2289"/>
                  </a:lnTo>
                  <a:lnTo>
                    <a:pt x="1659" y="2401"/>
                  </a:lnTo>
                  <a:lnTo>
                    <a:pt x="1511" y="2321"/>
                  </a:lnTo>
                  <a:lnTo>
                    <a:pt x="1150" y="2386"/>
                  </a:lnTo>
                  <a:lnTo>
                    <a:pt x="1091" y="2462"/>
                  </a:lnTo>
                  <a:lnTo>
                    <a:pt x="1032" y="2408"/>
                  </a:lnTo>
                  <a:lnTo>
                    <a:pt x="785" y="2389"/>
                  </a:lnTo>
                  <a:lnTo>
                    <a:pt x="703" y="2407"/>
                  </a:lnTo>
                  <a:lnTo>
                    <a:pt x="669" y="2452"/>
                  </a:lnTo>
                  <a:lnTo>
                    <a:pt x="661" y="2372"/>
                  </a:lnTo>
                  <a:lnTo>
                    <a:pt x="621" y="2298"/>
                  </a:lnTo>
                  <a:lnTo>
                    <a:pt x="551" y="2336"/>
                  </a:lnTo>
                  <a:lnTo>
                    <a:pt x="317" y="2245"/>
                  </a:lnTo>
                  <a:lnTo>
                    <a:pt x="192" y="2239"/>
                  </a:lnTo>
                  <a:lnTo>
                    <a:pt x="108" y="2249"/>
                  </a:lnTo>
                  <a:lnTo>
                    <a:pt x="51" y="2207"/>
                  </a:lnTo>
                  <a:lnTo>
                    <a:pt x="28" y="2121"/>
                  </a:lnTo>
                  <a:lnTo>
                    <a:pt x="70" y="2042"/>
                  </a:lnTo>
                  <a:lnTo>
                    <a:pt x="26" y="20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8"/>
            <p:cNvSpPr/>
            <p:nvPr/>
          </p:nvSpPr>
          <p:spPr>
            <a:xfrm>
              <a:off x="2702520" y="5580360"/>
              <a:ext cx="218160" cy="1382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027" h="749">
                  <a:moveTo>
                    <a:pt x="795" y="0"/>
                  </a:moveTo>
                  <a:lnTo>
                    <a:pt x="86" y="424"/>
                  </a:lnTo>
                  <a:lnTo>
                    <a:pt x="0" y="511"/>
                  </a:lnTo>
                  <a:lnTo>
                    <a:pt x="69" y="642"/>
                  </a:lnTo>
                  <a:lnTo>
                    <a:pt x="827" y="274"/>
                  </a:lnTo>
                  <a:lnTo>
                    <a:pt x="154" y="730"/>
                  </a:lnTo>
                  <a:lnTo>
                    <a:pt x="852" y="380"/>
                  </a:lnTo>
                  <a:lnTo>
                    <a:pt x="354" y="749"/>
                  </a:lnTo>
                  <a:lnTo>
                    <a:pt x="827" y="492"/>
                  </a:lnTo>
                  <a:lnTo>
                    <a:pt x="635" y="662"/>
                  </a:lnTo>
                  <a:lnTo>
                    <a:pt x="1027" y="449"/>
                  </a:lnTo>
                  <a:lnTo>
                    <a:pt x="79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79"/>
          <p:cNvGrpSpPr/>
          <p:nvPr/>
        </p:nvGrpSpPr>
        <p:grpSpPr>
          <a:xfrm>
            <a:off x="1890720" y="5024160"/>
            <a:ext cx="331920" cy="612720"/>
            <a:chOff x="1890720" y="5024160"/>
            <a:chExt cx="331920" cy="612720"/>
          </a:xfrm>
        </p:grpSpPr>
        <p:sp>
          <p:nvSpPr>
            <p:cNvPr id="515" name="Freeform 80"/>
            <p:cNvSpPr/>
            <p:nvPr/>
          </p:nvSpPr>
          <p:spPr>
            <a:xfrm rot="5201400">
              <a:off x="1761840" y="5185080"/>
              <a:ext cx="591120" cy="28980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956" h="2608">
                  <a:moveTo>
                    <a:pt x="0" y="504"/>
                  </a:moveTo>
                  <a:lnTo>
                    <a:pt x="361" y="337"/>
                  </a:lnTo>
                  <a:lnTo>
                    <a:pt x="999" y="101"/>
                  </a:lnTo>
                  <a:lnTo>
                    <a:pt x="1646" y="0"/>
                  </a:lnTo>
                  <a:lnTo>
                    <a:pt x="2235" y="76"/>
                  </a:lnTo>
                  <a:lnTo>
                    <a:pt x="3032" y="337"/>
                  </a:lnTo>
                  <a:lnTo>
                    <a:pt x="3838" y="92"/>
                  </a:lnTo>
                  <a:lnTo>
                    <a:pt x="3888" y="185"/>
                  </a:lnTo>
                  <a:lnTo>
                    <a:pt x="3898" y="337"/>
                  </a:lnTo>
                  <a:lnTo>
                    <a:pt x="3838" y="1329"/>
                  </a:lnTo>
                  <a:lnTo>
                    <a:pt x="3956" y="2255"/>
                  </a:lnTo>
                  <a:lnTo>
                    <a:pt x="3654" y="2456"/>
                  </a:lnTo>
                  <a:lnTo>
                    <a:pt x="3175" y="2608"/>
                  </a:lnTo>
                  <a:lnTo>
                    <a:pt x="2671" y="2574"/>
                  </a:lnTo>
                  <a:lnTo>
                    <a:pt x="1857" y="2355"/>
                  </a:lnTo>
                  <a:lnTo>
                    <a:pt x="1285" y="2245"/>
                  </a:lnTo>
                  <a:lnTo>
                    <a:pt x="907" y="2296"/>
                  </a:lnTo>
                  <a:lnTo>
                    <a:pt x="336" y="2440"/>
                  </a:lnTo>
                  <a:lnTo>
                    <a:pt x="252" y="2380"/>
                  </a:lnTo>
                  <a:lnTo>
                    <a:pt x="268" y="2212"/>
                  </a:lnTo>
                  <a:lnTo>
                    <a:pt x="227" y="1464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1"/>
            <p:cNvSpPr/>
            <p:nvPr/>
          </p:nvSpPr>
          <p:spPr>
            <a:xfrm rot="5201400">
              <a:off x="1835640" y="5218560"/>
              <a:ext cx="448920" cy="26388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3004" h="2375">
                  <a:moveTo>
                    <a:pt x="172" y="1205"/>
                  </a:moveTo>
                  <a:lnTo>
                    <a:pt x="196" y="1097"/>
                  </a:lnTo>
                  <a:lnTo>
                    <a:pt x="213" y="980"/>
                  </a:lnTo>
                  <a:lnTo>
                    <a:pt x="229" y="855"/>
                  </a:lnTo>
                  <a:lnTo>
                    <a:pt x="245" y="728"/>
                  </a:lnTo>
                  <a:lnTo>
                    <a:pt x="264" y="603"/>
                  </a:lnTo>
                  <a:lnTo>
                    <a:pt x="276" y="543"/>
                  </a:lnTo>
                  <a:lnTo>
                    <a:pt x="288" y="485"/>
                  </a:lnTo>
                  <a:lnTo>
                    <a:pt x="302" y="427"/>
                  </a:lnTo>
                  <a:lnTo>
                    <a:pt x="318" y="375"/>
                  </a:lnTo>
                  <a:lnTo>
                    <a:pt x="337" y="325"/>
                  </a:lnTo>
                  <a:lnTo>
                    <a:pt x="348" y="302"/>
                  </a:lnTo>
                  <a:lnTo>
                    <a:pt x="358" y="280"/>
                  </a:lnTo>
                  <a:lnTo>
                    <a:pt x="370" y="258"/>
                  </a:lnTo>
                  <a:lnTo>
                    <a:pt x="384" y="240"/>
                  </a:lnTo>
                  <a:lnTo>
                    <a:pt x="396" y="224"/>
                  </a:lnTo>
                  <a:lnTo>
                    <a:pt x="409" y="210"/>
                  </a:lnTo>
                  <a:lnTo>
                    <a:pt x="436" y="192"/>
                  </a:lnTo>
                  <a:lnTo>
                    <a:pt x="462" y="185"/>
                  </a:lnTo>
                  <a:lnTo>
                    <a:pt x="519" y="202"/>
                  </a:lnTo>
                  <a:lnTo>
                    <a:pt x="550" y="228"/>
                  </a:lnTo>
                  <a:lnTo>
                    <a:pt x="565" y="244"/>
                  </a:lnTo>
                  <a:lnTo>
                    <a:pt x="579" y="264"/>
                  </a:lnTo>
                  <a:lnTo>
                    <a:pt x="603" y="302"/>
                  </a:lnTo>
                  <a:lnTo>
                    <a:pt x="623" y="349"/>
                  </a:lnTo>
                  <a:lnTo>
                    <a:pt x="653" y="459"/>
                  </a:lnTo>
                  <a:lnTo>
                    <a:pt x="671" y="587"/>
                  </a:lnTo>
                  <a:lnTo>
                    <a:pt x="681" y="724"/>
                  </a:lnTo>
                  <a:lnTo>
                    <a:pt x="685" y="999"/>
                  </a:lnTo>
                  <a:lnTo>
                    <a:pt x="685" y="1120"/>
                  </a:lnTo>
                  <a:lnTo>
                    <a:pt x="685" y="1223"/>
                  </a:lnTo>
                  <a:lnTo>
                    <a:pt x="698" y="1168"/>
                  </a:lnTo>
                  <a:lnTo>
                    <a:pt x="711" y="1115"/>
                  </a:lnTo>
                  <a:lnTo>
                    <a:pt x="723" y="1061"/>
                  </a:lnTo>
                  <a:lnTo>
                    <a:pt x="735" y="1007"/>
                  </a:lnTo>
                  <a:lnTo>
                    <a:pt x="747" y="954"/>
                  </a:lnTo>
                  <a:lnTo>
                    <a:pt x="758" y="899"/>
                  </a:lnTo>
                  <a:lnTo>
                    <a:pt x="779" y="791"/>
                  </a:lnTo>
                  <a:lnTo>
                    <a:pt x="800" y="683"/>
                  </a:lnTo>
                  <a:lnTo>
                    <a:pt x="822" y="577"/>
                  </a:lnTo>
                  <a:lnTo>
                    <a:pt x="843" y="467"/>
                  </a:lnTo>
                  <a:lnTo>
                    <a:pt x="855" y="414"/>
                  </a:lnTo>
                  <a:lnTo>
                    <a:pt x="866" y="359"/>
                  </a:lnTo>
                  <a:lnTo>
                    <a:pt x="875" y="326"/>
                  </a:lnTo>
                  <a:lnTo>
                    <a:pt x="884" y="293"/>
                  </a:lnTo>
                  <a:lnTo>
                    <a:pt x="895" y="262"/>
                  </a:lnTo>
                  <a:lnTo>
                    <a:pt x="906" y="233"/>
                  </a:lnTo>
                  <a:lnTo>
                    <a:pt x="919" y="205"/>
                  </a:lnTo>
                  <a:lnTo>
                    <a:pt x="932" y="178"/>
                  </a:lnTo>
                  <a:lnTo>
                    <a:pt x="946" y="153"/>
                  </a:lnTo>
                  <a:lnTo>
                    <a:pt x="960" y="130"/>
                  </a:lnTo>
                  <a:lnTo>
                    <a:pt x="976" y="109"/>
                  </a:lnTo>
                  <a:lnTo>
                    <a:pt x="991" y="90"/>
                  </a:lnTo>
                  <a:lnTo>
                    <a:pt x="1007" y="73"/>
                  </a:lnTo>
                  <a:lnTo>
                    <a:pt x="1024" y="57"/>
                  </a:lnTo>
                  <a:lnTo>
                    <a:pt x="1040" y="42"/>
                  </a:lnTo>
                  <a:lnTo>
                    <a:pt x="1056" y="30"/>
                  </a:lnTo>
                  <a:lnTo>
                    <a:pt x="1089" y="12"/>
                  </a:lnTo>
                  <a:lnTo>
                    <a:pt x="1121" y="1"/>
                  </a:lnTo>
                  <a:lnTo>
                    <a:pt x="1151" y="0"/>
                  </a:lnTo>
                  <a:lnTo>
                    <a:pt x="1203" y="20"/>
                  </a:lnTo>
                  <a:lnTo>
                    <a:pt x="1239" y="76"/>
                  </a:lnTo>
                  <a:lnTo>
                    <a:pt x="1252" y="169"/>
                  </a:lnTo>
                  <a:lnTo>
                    <a:pt x="1257" y="402"/>
                  </a:lnTo>
                  <a:lnTo>
                    <a:pt x="1272" y="634"/>
                  </a:lnTo>
                  <a:lnTo>
                    <a:pt x="1281" y="751"/>
                  </a:lnTo>
                  <a:lnTo>
                    <a:pt x="1290" y="867"/>
                  </a:lnTo>
                  <a:lnTo>
                    <a:pt x="1310" y="1100"/>
                  </a:lnTo>
                  <a:lnTo>
                    <a:pt x="1325" y="1053"/>
                  </a:lnTo>
                  <a:lnTo>
                    <a:pt x="1340" y="1007"/>
                  </a:lnTo>
                  <a:lnTo>
                    <a:pt x="1354" y="962"/>
                  </a:lnTo>
                  <a:lnTo>
                    <a:pt x="1369" y="916"/>
                  </a:lnTo>
                  <a:lnTo>
                    <a:pt x="1384" y="872"/>
                  </a:lnTo>
                  <a:lnTo>
                    <a:pt x="1400" y="828"/>
                  </a:lnTo>
                  <a:lnTo>
                    <a:pt x="1414" y="784"/>
                  </a:lnTo>
                  <a:lnTo>
                    <a:pt x="1430" y="742"/>
                  </a:lnTo>
                  <a:lnTo>
                    <a:pt x="1446" y="699"/>
                  </a:lnTo>
                  <a:lnTo>
                    <a:pt x="1462" y="658"/>
                  </a:lnTo>
                  <a:lnTo>
                    <a:pt x="1478" y="618"/>
                  </a:lnTo>
                  <a:lnTo>
                    <a:pt x="1494" y="578"/>
                  </a:lnTo>
                  <a:lnTo>
                    <a:pt x="1510" y="539"/>
                  </a:lnTo>
                  <a:lnTo>
                    <a:pt x="1527" y="501"/>
                  </a:lnTo>
                  <a:lnTo>
                    <a:pt x="1543" y="465"/>
                  </a:lnTo>
                  <a:lnTo>
                    <a:pt x="1559" y="429"/>
                  </a:lnTo>
                  <a:lnTo>
                    <a:pt x="1577" y="394"/>
                  </a:lnTo>
                  <a:lnTo>
                    <a:pt x="1593" y="361"/>
                  </a:lnTo>
                  <a:lnTo>
                    <a:pt x="1609" y="329"/>
                  </a:lnTo>
                  <a:lnTo>
                    <a:pt x="1625" y="298"/>
                  </a:lnTo>
                  <a:lnTo>
                    <a:pt x="1641" y="268"/>
                  </a:lnTo>
                  <a:lnTo>
                    <a:pt x="1657" y="240"/>
                  </a:lnTo>
                  <a:lnTo>
                    <a:pt x="1673" y="213"/>
                  </a:lnTo>
                  <a:lnTo>
                    <a:pt x="1689" y="188"/>
                  </a:lnTo>
                  <a:lnTo>
                    <a:pt x="1705" y="165"/>
                  </a:lnTo>
                  <a:lnTo>
                    <a:pt x="1719" y="142"/>
                  </a:lnTo>
                  <a:lnTo>
                    <a:pt x="1734" y="122"/>
                  </a:lnTo>
                  <a:lnTo>
                    <a:pt x="1749" y="104"/>
                  </a:lnTo>
                  <a:lnTo>
                    <a:pt x="1763" y="86"/>
                  </a:lnTo>
                  <a:lnTo>
                    <a:pt x="1778" y="72"/>
                  </a:lnTo>
                  <a:lnTo>
                    <a:pt x="1791" y="58"/>
                  </a:lnTo>
                  <a:lnTo>
                    <a:pt x="1804" y="48"/>
                  </a:lnTo>
                  <a:lnTo>
                    <a:pt x="1831" y="30"/>
                  </a:lnTo>
                  <a:lnTo>
                    <a:pt x="1855" y="22"/>
                  </a:lnTo>
                  <a:lnTo>
                    <a:pt x="1899" y="34"/>
                  </a:lnTo>
                  <a:lnTo>
                    <a:pt x="1934" y="84"/>
                  </a:lnTo>
                  <a:lnTo>
                    <a:pt x="1959" y="176"/>
                  </a:lnTo>
                  <a:lnTo>
                    <a:pt x="1974" y="314"/>
                  </a:lnTo>
                  <a:lnTo>
                    <a:pt x="1975" y="501"/>
                  </a:lnTo>
                  <a:lnTo>
                    <a:pt x="1963" y="740"/>
                  </a:lnTo>
                  <a:lnTo>
                    <a:pt x="1951" y="882"/>
                  </a:lnTo>
                  <a:lnTo>
                    <a:pt x="1935" y="1036"/>
                  </a:lnTo>
                  <a:lnTo>
                    <a:pt x="1948" y="1006"/>
                  </a:lnTo>
                  <a:lnTo>
                    <a:pt x="1962" y="975"/>
                  </a:lnTo>
                  <a:lnTo>
                    <a:pt x="1975" y="946"/>
                  </a:lnTo>
                  <a:lnTo>
                    <a:pt x="1988" y="916"/>
                  </a:lnTo>
                  <a:lnTo>
                    <a:pt x="2003" y="888"/>
                  </a:lnTo>
                  <a:lnTo>
                    <a:pt x="2016" y="860"/>
                  </a:lnTo>
                  <a:lnTo>
                    <a:pt x="2031" y="832"/>
                  </a:lnTo>
                  <a:lnTo>
                    <a:pt x="2045" y="806"/>
                  </a:lnTo>
                  <a:lnTo>
                    <a:pt x="2061" y="779"/>
                  </a:lnTo>
                  <a:lnTo>
                    <a:pt x="2076" y="754"/>
                  </a:lnTo>
                  <a:lnTo>
                    <a:pt x="2091" y="730"/>
                  </a:lnTo>
                  <a:lnTo>
                    <a:pt x="2107" y="706"/>
                  </a:lnTo>
                  <a:lnTo>
                    <a:pt x="2123" y="682"/>
                  </a:lnTo>
                  <a:lnTo>
                    <a:pt x="2137" y="661"/>
                  </a:lnTo>
                  <a:lnTo>
                    <a:pt x="2153" y="638"/>
                  </a:lnTo>
                  <a:lnTo>
                    <a:pt x="2168" y="618"/>
                  </a:lnTo>
                  <a:lnTo>
                    <a:pt x="2184" y="598"/>
                  </a:lnTo>
                  <a:lnTo>
                    <a:pt x="2200" y="579"/>
                  </a:lnTo>
                  <a:lnTo>
                    <a:pt x="2215" y="561"/>
                  </a:lnTo>
                  <a:lnTo>
                    <a:pt x="2231" y="543"/>
                  </a:lnTo>
                  <a:lnTo>
                    <a:pt x="2245" y="527"/>
                  </a:lnTo>
                  <a:lnTo>
                    <a:pt x="2260" y="513"/>
                  </a:lnTo>
                  <a:lnTo>
                    <a:pt x="2276" y="498"/>
                  </a:lnTo>
                  <a:lnTo>
                    <a:pt x="2290" y="485"/>
                  </a:lnTo>
                  <a:lnTo>
                    <a:pt x="2320" y="462"/>
                  </a:lnTo>
                  <a:lnTo>
                    <a:pt x="2348" y="443"/>
                  </a:lnTo>
                  <a:lnTo>
                    <a:pt x="2374" y="430"/>
                  </a:lnTo>
                  <a:lnTo>
                    <a:pt x="2400" y="421"/>
                  </a:lnTo>
                  <a:lnTo>
                    <a:pt x="2446" y="418"/>
                  </a:lnTo>
                  <a:lnTo>
                    <a:pt x="2484" y="435"/>
                  </a:lnTo>
                  <a:lnTo>
                    <a:pt x="2514" y="478"/>
                  </a:lnTo>
                  <a:lnTo>
                    <a:pt x="2533" y="543"/>
                  </a:lnTo>
                  <a:lnTo>
                    <a:pt x="2539" y="635"/>
                  </a:lnTo>
                  <a:lnTo>
                    <a:pt x="2533" y="755"/>
                  </a:lnTo>
                  <a:lnTo>
                    <a:pt x="2523" y="826"/>
                  </a:lnTo>
                  <a:lnTo>
                    <a:pt x="2510" y="903"/>
                  </a:lnTo>
                  <a:lnTo>
                    <a:pt x="2493" y="990"/>
                  </a:lnTo>
                  <a:lnTo>
                    <a:pt x="2484" y="1035"/>
                  </a:lnTo>
                  <a:lnTo>
                    <a:pt x="2473" y="1083"/>
                  </a:lnTo>
                  <a:lnTo>
                    <a:pt x="2482" y="1060"/>
                  </a:lnTo>
                  <a:lnTo>
                    <a:pt x="2493" y="1038"/>
                  </a:lnTo>
                  <a:lnTo>
                    <a:pt x="2514" y="996"/>
                  </a:lnTo>
                  <a:lnTo>
                    <a:pt x="2534" y="958"/>
                  </a:lnTo>
                  <a:lnTo>
                    <a:pt x="2554" y="922"/>
                  </a:lnTo>
                  <a:lnTo>
                    <a:pt x="2573" y="890"/>
                  </a:lnTo>
                  <a:lnTo>
                    <a:pt x="2591" y="860"/>
                  </a:lnTo>
                  <a:lnTo>
                    <a:pt x="2610" y="834"/>
                  </a:lnTo>
                  <a:lnTo>
                    <a:pt x="2627" y="810"/>
                  </a:lnTo>
                  <a:lnTo>
                    <a:pt x="2645" y="788"/>
                  </a:lnTo>
                  <a:lnTo>
                    <a:pt x="2662" y="770"/>
                  </a:lnTo>
                  <a:lnTo>
                    <a:pt x="2678" y="754"/>
                  </a:lnTo>
                  <a:lnTo>
                    <a:pt x="2694" y="739"/>
                  </a:lnTo>
                  <a:lnTo>
                    <a:pt x="2725" y="719"/>
                  </a:lnTo>
                  <a:lnTo>
                    <a:pt x="2754" y="708"/>
                  </a:lnTo>
                  <a:lnTo>
                    <a:pt x="2807" y="712"/>
                  </a:lnTo>
                  <a:lnTo>
                    <a:pt x="2854" y="746"/>
                  </a:lnTo>
                  <a:lnTo>
                    <a:pt x="2895" y="803"/>
                  </a:lnTo>
                  <a:lnTo>
                    <a:pt x="2912" y="840"/>
                  </a:lnTo>
                  <a:lnTo>
                    <a:pt x="2928" y="882"/>
                  </a:lnTo>
                  <a:lnTo>
                    <a:pt x="2955" y="976"/>
                  </a:lnTo>
                  <a:lnTo>
                    <a:pt x="2978" y="1083"/>
                  </a:lnTo>
                  <a:lnTo>
                    <a:pt x="3002" y="1311"/>
                  </a:lnTo>
                  <a:lnTo>
                    <a:pt x="3004" y="1530"/>
                  </a:lnTo>
                  <a:lnTo>
                    <a:pt x="2998" y="1625"/>
                  </a:lnTo>
                  <a:lnTo>
                    <a:pt x="2986" y="1704"/>
                  </a:lnTo>
                  <a:lnTo>
                    <a:pt x="2972" y="1747"/>
                  </a:lnTo>
                  <a:lnTo>
                    <a:pt x="2963" y="1766"/>
                  </a:lnTo>
                  <a:lnTo>
                    <a:pt x="2952" y="1785"/>
                  </a:lnTo>
                  <a:lnTo>
                    <a:pt x="2940" y="1801"/>
                  </a:lnTo>
                  <a:lnTo>
                    <a:pt x="2928" y="1815"/>
                  </a:lnTo>
                  <a:lnTo>
                    <a:pt x="2914" y="1827"/>
                  </a:lnTo>
                  <a:lnTo>
                    <a:pt x="2899" y="1839"/>
                  </a:lnTo>
                  <a:lnTo>
                    <a:pt x="2868" y="1857"/>
                  </a:lnTo>
                  <a:lnTo>
                    <a:pt x="2835" y="1867"/>
                  </a:lnTo>
                  <a:lnTo>
                    <a:pt x="2767" y="1867"/>
                  </a:lnTo>
                  <a:lnTo>
                    <a:pt x="2705" y="1837"/>
                  </a:lnTo>
                  <a:lnTo>
                    <a:pt x="2678" y="1810"/>
                  </a:lnTo>
                  <a:lnTo>
                    <a:pt x="2655" y="1775"/>
                  </a:lnTo>
                  <a:lnTo>
                    <a:pt x="2629" y="1682"/>
                  </a:lnTo>
                  <a:lnTo>
                    <a:pt x="2631" y="1556"/>
                  </a:lnTo>
                  <a:lnTo>
                    <a:pt x="2615" y="1594"/>
                  </a:lnTo>
                  <a:lnTo>
                    <a:pt x="2590" y="1652"/>
                  </a:lnTo>
                  <a:lnTo>
                    <a:pt x="2575" y="1686"/>
                  </a:lnTo>
                  <a:lnTo>
                    <a:pt x="2558" y="1725"/>
                  </a:lnTo>
                  <a:lnTo>
                    <a:pt x="2539" y="1765"/>
                  </a:lnTo>
                  <a:lnTo>
                    <a:pt x="2530" y="1786"/>
                  </a:lnTo>
                  <a:lnTo>
                    <a:pt x="2521" y="1807"/>
                  </a:lnTo>
                  <a:lnTo>
                    <a:pt x="2510" y="1830"/>
                  </a:lnTo>
                  <a:lnTo>
                    <a:pt x="2500" y="1851"/>
                  </a:lnTo>
                  <a:lnTo>
                    <a:pt x="2488" y="1874"/>
                  </a:lnTo>
                  <a:lnTo>
                    <a:pt x="2477" y="1897"/>
                  </a:lnTo>
                  <a:lnTo>
                    <a:pt x="2465" y="1921"/>
                  </a:lnTo>
                  <a:lnTo>
                    <a:pt x="2453" y="1943"/>
                  </a:lnTo>
                  <a:lnTo>
                    <a:pt x="2441" y="1967"/>
                  </a:lnTo>
                  <a:lnTo>
                    <a:pt x="2429" y="1990"/>
                  </a:lnTo>
                  <a:lnTo>
                    <a:pt x="2417" y="2013"/>
                  </a:lnTo>
                  <a:lnTo>
                    <a:pt x="2404" y="2035"/>
                  </a:lnTo>
                  <a:lnTo>
                    <a:pt x="2392" y="2059"/>
                  </a:lnTo>
                  <a:lnTo>
                    <a:pt x="2378" y="2080"/>
                  </a:lnTo>
                  <a:lnTo>
                    <a:pt x="2366" y="2103"/>
                  </a:lnTo>
                  <a:lnTo>
                    <a:pt x="2353" y="2124"/>
                  </a:lnTo>
                  <a:lnTo>
                    <a:pt x="2340" y="2146"/>
                  </a:lnTo>
                  <a:lnTo>
                    <a:pt x="2326" y="2167"/>
                  </a:lnTo>
                  <a:lnTo>
                    <a:pt x="2300" y="2207"/>
                  </a:lnTo>
                  <a:lnTo>
                    <a:pt x="2273" y="2243"/>
                  </a:lnTo>
                  <a:lnTo>
                    <a:pt x="2260" y="2260"/>
                  </a:lnTo>
                  <a:lnTo>
                    <a:pt x="2247" y="2276"/>
                  </a:lnTo>
                  <a:lnTo>
                    <a:pt x="2233" y="2292"/>
                  </a:lnTo>
                  <a:lnTo>
                    <a:pt x="2220" y="2306"/>
                  </a:lnTo>
                  <a:lnTo>
                    <a:pt x="2207" y="2319"/>
                  </a:lnTo>
                  <a:lnTo>
                    <a:pt x="2193" y="2331"/>
                  </a:lnTo>
                  <a:lnTo>
                    <a:pt x="2168" y="2352"/>
                  </a:lnTo>
                  <a:lnTo>
                    <a:pt x="2143" y="2367"/>
                  </a:lnTo>
                  <a:lnTo>
                    <a:pt x="2119" y="2375"/>
                  </a:lnTo>
                  <a:lnTo>
                    <a:pt x="2072" y="2374"/>
                  </a:lnTo>
                  <a:lnTo>
                    <a:pt x="2031" y="2343"/>
                  </a:lnTo>
                  <a:lnTo>
                    <a:pt x="1995" y="2278"/>
                  </a:lnTo>
                  <a:lnTo>
                    <a:pt x="1966" y="2175"/>
                  </a:lnTo>
                  <a:lnTo>
                    <a:pt x="1950" y="2047"/>
                  </a:lnTo>
                  <a:lnTo>
                    <a:pt x="1951" y="1917"/>
                  </a:lnTo>
                  <a:lnTo>
                    <a:pt x="1936" y="1935"/>
                  </a:lnTo>
                  <a:lnTo>
                    <a:pt x="1923" y="1951"/>
                  </a:lnTo>
                  <a:lnTo>
                    <a:pt x="1910" y="1967"/>
                  </a:lnTo>
                  <a:lnTo>
                    <a:pt x="1896" y="1983"/>
                  </a:lnTo>
                  <a:lnTo>
                    <a:pt x="1883" y="1997"/>
                  </a:lnTo>
                  <a:lnTo>
                    <a:pt x="1870" y="2010"/>
                  </a:lnTo>
                  <a:lnTo>
                    <a:pt x="1844" y="2033"/>
                  </a:lnTo>
                  <a:lnTo>
                    <a:pt x="1819" y="2051"/>
                  </a:lnTo>
                  <a:lnTo>
                    <a:pt x="1796" y="2067"/>
                  </a:lnTo>
                  <a:lnTo>
                    <a:pt x="1774" y="2079"/>
                  </a:lnTo>
                  <a:lnTo>
                    <a:pt x="1751" y="2088"/>
                  </a:lnTo>
                  <a:lnTo>
                    <a:pt x="1710" y="2096"/>
                  </a:lnTo>
                  <a:lnTo>
                    <a:pt x="1673" y="2092"/>
                  </a:lnTo>
                  <a:lnTo>
                    <a:pt x="1610" y="2055"/>
                  </a:lnTo>
                  <a:lnTo>
                    <a:pt x="1597" y="2039"/>
                  </a:lnTo>
                  <a:lnTo>
                    <a:pt x="1585" y="2022"/>
                  </a:lnTo>
                  <a:lnTo>
                    <a:pt x="1562" y="1982"/>
                  </a:lnTo>
                  <a:lnTo>
                    <a:pt x="1545" y="1937"/>
                  </a:lnTo>
                  <a:lnTo>
                    <a:pt x="1531" y="1885"/>
                  </a:lnTo>
                  <a:lnTo>
                    <a:pt x="1517" y="1769"/>
                  </a:lnTo>
                  <a:lnTo>
                    <a:pt x="1519" y="1644"/>
                  </a:lnTo>
                  <a:lnTo>
                    <a:pt x="1503" y="1697"/>
                  </a:lnTo>
                  <a:lnTo>
                    <a:pt x="1489" y="1746"/>
                  </a:lnTo>
                  <a:lnTo>
                    <a:pt x="1472" y="1791"/>
                  </a:lnTo>
                  <a:lnTo>
                    <a:pt x="1461" y="1813"/>
                  </a:lnTo>
                  <a:lnTo>
                    <a:pt x="1450" y="1833"/>
                  </a:lnTo>
                  <a:lnTo>
                    <a:pt x="1438" y="1853"/>
                  </a:lnTo>
                  <a:lnTo>
                    <a:pt x="1425" y="1870"/>
                  </a:lnTo>
                  <a:lnTo>
                    <a:pt x="1409" y="1889"/>
                  </a:lnTo>
                  <a:lnTo>
                    <a:pt x="1392" y="1905"/>
                  </a:lnTo>
                  <a:lnTo>
                    <a:pt x="1373" y="1919"/>
                  </a:lnTo>
                  <a:lnTo>
                    <a:pt x="1350" y="1934"/>
                  </a:lnTo>
                  <a:lnTo>
                    <a:pt x="1326" y="1949"/>
                  </a:lnTo>
                  <a:lnTo>
                    <a:pt x="1298" y="1961"/>
                  </a:lnTo>
                  <a:lnTo>
                    <a:pt x="1265" y="1974"/>
                  </a:lnTo>
                  <a:lnTo>
                    <a:pt x="1233" y="1982"/>
                  </a:lnTo>
                  <a:lnTo>
                    <a:pt x="1177" y="1986"/>
                  </a:lnTo>
                  <a:lnTo>
                    <a:pt x="1129" y="1977"/>
                  </a:lnTo>
                  <a:lnTo>
                    <a:pt x="1091" y="1954"/>
                  </a:lnTo>
                  <a:lnTo>
                    <a:pt x="1057" y="1921"/>
                  </a:lnTo>
                  <a:lnTo>
                    <a:pt x="1032" y="1878"/>
                  </a:lnTo>
                  <a:lnTo>
                    <a:pt x="1011" y="1827"/>
                  </a:lnTo>
                  <a:lnTo>
                    <a:pt x="996" y="1770"/>
                  </a:lnTo>
                  <a:lnTo>
                    <a:pt x="978" y="1646"/>
                  </a:lnTo>
                  <a:lnTo>
                    <a:pt x="972" y="1520"/>
                  </a:lnTo>
                  <a:lnTo>
                    <a:pt x="971" y="1458"/>
                  </a:lnTo>
                  <a:lnTo>
                    <a:pt x="972" y="1402"/>
                  </a:lnTo>
                  <a:lnTo>
                    <a:pt x="972" y="1309"/>
                  </a:lnTo>
                  <a:lnTo>
                    <a:pt x="958" y="1372"/>
                  </a:lnTo>
                  <a:lnTo>
                    <a:pt x="940" y="1432"/>
                  </a:lnTo>
                  <a:lnTo>
                    <a:pt x="923" y="1489"/>
                  </a:lnTo>
                  <a:lnTo>
                    <a:pt x="904" y="1545"/>
                  </a:lnTo>
                  <a:lnTo>
                    <a:pt x="884" y="1600"/>
                  </a:lnTo>
                  <a:lnTo>
                    <a:pt x="864" y="1652"/>
                  </a:lnTo>
                  <a:lnTo>
                    <a:pt x="843" y="1700"/>
                  </a:lnTo>
                  <a:lnTo>
                    <a:pt x="832" y="1722"/>
                  </a:lnTo>
                  <a:lnTo>
                    <a:pt x="822" y="1745"/>
                  </a:lnTo>
                  <a:lnTo>
                    <a:pt x="811" y="1766"/>
                  </a:lnTo>
                  <a:lnTo>
                    <a:pt x="799" y="1787"/>
                  </a:lnTo>
                  <a:lnTo>
                    <a:pt x="776" y="1827"/>
                  </a:lnTo>
                  <a:lnTo>
                    <a:pt x="754" y="1862"/>
                  </a:lnTo>
                  <a:lnTo>
                    <a:pt x="731" y="1894"/>
                  </a:lnTo>
                  <a:lnTo>
                    <a:pt x="719" y="1907"/>
                  </a:lnTo>
                  <a:lnTo>
                    <a:pt x="709" y="1921"/>
                  </a:lnTo>
                  <a:lnTo>
                    <a:pt x="686" y="1945"/>
                  </a:lnTo>
                  <a:lnTo>
                    <a:pt x="662" y="1963"/>
                  </a:lnTo>
                  <a:lnTo>
                    <a:pt x="641" y="1977"/>
                  </a:lnTo>
                  <a:lnTo>
                    <a:pt x="597" y="1989"/>
                  </a:lnTo>
                  <a:lnTo>
                    <a:pt x="555" y="1979"/>
                  </a:lnTo>
                  <a:lnTo>
                    <a:pt x="517" y="1945"/>
                  </a:lnTo>
                  <a:lnTo>
                    <a:pt x="484" y="1886"/>
                  </a:lnTo>
                  <a:lnTo>
                    <a:pt x="468" y="1846"/>
                  </a:lnTo>
                  <a:lnTo>
                    <a:pt x="454" y="1799"/>
                  </a:lnTo>
                  <a:lnTo>
                    <a:pt x="430" y="1684"/>
                  </a:lnTo>
                  <a:lnTo>
                    <a:pt x="405" y="1357"/>
                  </a:lnTo>
                  <a:lnTo>
                    <a:pt x="393" y="1398"/>
                  </a:lnTo>
                  <a:lnTo>
                    <a:pt x="380" y="1441"/>
                  </a:lnTo>
                  <a:lnTo>
                    <a:pt x="366" y="1484"/>
                  </a:lnTo>
                  <a:lnTo>
                    <a:pt x="352" y="1528"/>
                  </a:lnTo>
                  <a:lnTo>
                    <a:pt x="336" y="1569"/>
                  </a:lnTo>
                  <a:lnTo>
                    <a:pt x="326" y="1590"/>
                  </a:lnTo>
                  <a:lnTo>
                    <a:pt x="317" y="1610"/>
                  </a:lnTo>
                  <a:lnTo>
                    <a:pt x="294" y="1649"/>
                  </a:lnTo>
                  <a:lnTo>
                    <a:pt x="270" y="1685"/>
                  </a:lnTo>
                  <a:lnTo>
                    <a:pt x="180" y="1712"/>
                  </a:lnTo>
                  <a:lnTo>
                    <a:pt x="141" y="1725"/>
                  </a:lnTo>
                  <a:lnTo>
                    <a:pt x="107" y="1733"/>
                  </a:lnTo>
                  <a:lnTo>
                    <a:pt x="75" y="1730"/>
                  </a:lnTo>
                  <a:lnTo>
                    <a:pt x="48" y="1714"/>
                  </a:lnTo>
                  <a:lnTo>
                    <a:pt x="24" y="1678"/>
                  </a:lnTo>
                  <a:lnTo>
                    <a:pt x="5" y="1618"/>
                  </a:lnTo>
                  <a:lnTo>
                    <a:pt x="0" y="1057"/>
                  </a:lnTo>
                  <a:lnTo>
                    <a:pt x="13" y="899"/>
                  </a:lnTo>
                  <a:lnTo>
                    <a:pt x="24" y="839"/>
                  </a:lnTo>
                  <a:lnTo>
                    <a:pt x="37" y="798"/>
                  </a:lnTo>
                  <a:lnTo>
                    <a:pt x="45" y="786"/>
                  </a:lnTo>
                  <a:lnTo>
                    <a:pt x="53" y="779"/>
                  </a:lnTo>
                  <a:lnTo>
                    <a:pt x="75" y="787"/>
                  </a:lnTo>
                  <a:lnTo>
                    <a:pt x="99" y="827"/>
                  </a:lnTo>
                  <a:lnTo>
                    <a:pt x="112" y="859"/>
                  </a:lnTo>
                  <a:lnTo>
                    <a:pt x="127" y="902"/>
                  </a:lnTo>
                  <a:lnTo>
                    <a:pt x="144" y="972"/>
                  </a:lnTo>
                  <a:lnTo>
                    <a:pt x="153" y="1051"/>
                  </a:lnTo>
                  <a:lnTo>
                    <a:pt x="161" y="1131"/>
                  </a:lnTo>
                  <a:lnTo>
                    <a:pt x="172" y="1205"/>
                  </a:lnTo>
                  <a:close/>
                </a:path>
              </a:pathLst>
            </a:custGeom>
            <a:solidFill>
              <a:srgbClr val="a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2"/>
            <p:cNvSpPr/>
            <p:nvPr/>
          </p:nvSpPr>
          <p:spPr>
            <a:xfrm rot="5201400">
              <a:off x="2009160" y="5256720"/>
              <a:ext cx="121680" cy="1497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814" h="1345">
                  <a:moveTo>
                    <a:pt x="193" y="0"/>
                  </a:moveTo>
                  <a:lnTo>
                    <a:pt x="41" y="310"/>
                  </a:lnTo>
                  <a:lnTo>
                    <a:pt x="0" y="774"/>
                  </a:lnTo>
                  <a:lnTo>
                    <a:pt x="125" y="1219"/>
                  </a:lnTo>
                  <a:lnTo>
                    <a:pt x="344" y="1345"/>
                  </a:lnTo>
                  <a:lnTo>
                    <a:pt x="571" y="1261"/>
                  </a:lnTo>
                  <a:lnTo>
                    <a:pt x="731" y="866"/>
                  </a:lnTo>
                  <a:lnTo>
                    <a:pt x="814" y="285"/>
                  </a:lnTo>
                  <a:lnTo>
                    <a:pt x="596" y="58"/>
                  </a:lnTo>
                  <a:lnTo>
                    <a:pt x="419" y="8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66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3"/>
            <p:cNvSpPr/>
            <p:nvPr/>
          </p:nvSpPr>
          <p:spPr>
            <a:xfrm rot="5201400">
              <a:off x="1907280" y="5300640"/>
              <a:ext cx="546480" cy="5220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657" h="471">
                  <a:moveTo>
                    <a:pt x="17" y="414"/>
                  </a:moveTo>
                  <a:lnTo>
                    <a:pt x="56" y="398"/>
                  </a:lnTo>
                  <a:lnTo>
                    <a:pt x="93" y="381"/>
                  </a:lnTo>
                  <a:lnTo>
                    <a:pt x="129" y="366"/>
                  </a:lnTo>
                  <a:lnTo>
                    <a:pt x="164" y="350"/>
                  </a:lnTo>
                  <a:lnTo>
                    <a:pt x="197" y="335"/>
                  </a:lnTo>
                  <a:lnTo>
                    <a:pt x="229" y="322"/>
                  </a:lnTo>
                  <a:lnTo>
                    <a:pt x="262" y="309"/>
                  </a:lnTo>
                  <a:lnTo>
                    <a:pt x="294" y="295"/>
                  </a:lnTo>
                  <a:lnTo>
                    <a:pt x="358" y="271"/>
                  </a:lnTo>
                  <a:lnTo>
                    <a:pt x="426" y="247"/>
                  </a:lnTo>
                  <a:lnTo>
                    <a:pt x="498" y="225"/>
                  </a:lnTo>
                  <a:lnTo>
                    <a:pt x="579" y="203"/>
                  </a:lnTo>
                  <a:lnTo>
                    <a:pt x="680" y="177"/>
                  </a:lnTo>
                  <a:lnTo>
                    <a:pt x="771" y="151"/>
                  </a:lnTo>
                  <a:lnTo>
                    <a:pt x="862" y="128"/>
                  </a:lnTo>
                  <a:lnTo>
                    <a:pt x="964" y="105"/>
                  </a:lnTo>
                  <a:lnTo>
                    <a:pt x="1036" y="89"/>
                  </a:lnTo>
                  <a:lnTo>
                    <a:pt x="1105" y="74"/>
                  </a:lnTo>
                  <a:lnTo>
                    <a:pt x="1172" y="60"/>
                  </a:lnTo>
                  <a:lnTo>
                    <a:pt x="1237" y="46"/>
                  </a:lnTo>
                  <a:lnTo>
                    <a:pt x="1361" y="24"/>
                  </a:lnTo>
                  <a:lnTo>
                    <a:pt x="1482" y="8"/>
                  </a:lnTo>
                  <a:lnTo>
                    <a:pt x="1602" y="0"/>
                  </a:lnTo>
                  <a:lnTo>
                    <a:pt x="1727" y="1"/>
                  </a:lnTo>
                  <a:lnTo>
                    <a:pt x="2000" y="38"/>
                  </a:lnTo>
                  <a:lnTo>
                    <a:pt x="2076" y="57"/>
                  </a:lnTo>
                  <a:lnTo>
                    <a:pt x="2147" y="76"/>
                  </a:lnTo>
                  <a:lnTo>
                    <a:pt x="2214" y="97"/>
                  </a:lnTo>
                  <a:lnTo>
                    <a:pt x="2280" y="118"/>
                  </a:lnTo>
                  <a:lnTo>
                    <a:pt x="2342" y="141"/>
                  </a:lnTo>
                  <a:lnTo>
                    <a:pt x="2404" y="162"/>
                  </a:lnTo>
                  <a:lnTo>
                    <a:pt x="2463" y="183"/>
                  </a:lnTo>
                  <a:lnTo>
                    <a:pt x="2523" y="205"/>
                  </a:lnTo>
                  <a:lnTo>
                    <a:pt x="2583" y="223"/>
                  </a:lnTo>
                  <a:lnTo>
                    <a:pt x="2645" y="241"/>
                  </a:lnTo>
                  <a:lnTo>
                    <a:pt x="2706" y="255"/>
                  </a:lnTo>
                  <a:lnTo>
                    <a:pt x="2770" y="267"/>
                  </a:lnTo>
                  <a:lnTo>
                    <a:pt x="2906" y="282"/>
                  </a:lnTo>
                  <a:lnTo>
                    <a:pt x="3055" y="281"/>
                  </a:lnTo>
                  <a:lnTo>
                    <a:pt x="3342" y="235"/>
                  </a:lnTo>
                  <a:lnTo>
                    <a:pt x="3408" y="218"/>
                  </a:lnTo>
                  <a:lnTo>
                    <a:pt x="3473" y="197"/>
                  </a:lnTo>
                  <a:lnTo>
                    <a:pt x="3541" y="170"/>
                  </a:lnTo>
                  <a:lnTo>
                    <a:pt x="3577" y="154"/>
                  </a:lnTo>
                  <a:lnTo>
                    <a:pt x="3614" y="137"/>
                  </a:lnTo>
                  <a:lnTo>
                    <a:pt x="3638" y="136"/>
                  </a:lnTo>
                  <a:lnTo>
                    <a:pt x="3654" y="151"/>
                  </a:lnTo>
                  <a:lnTo>
                    <a:pt x="3657" y="174"/>
                  </a:lnTo>
                  <a:lnTo>
                    <a:pt x="3651" y="183"/>
                  </a:lnTo>
                  <a:lnTo>
                    <a:pt x="3641" y="193"/>
                  </a:lnTo>
                  <a:lnTo>
                    <a:pt x="3601" y="213"/>
                  </a:lnTo>
                  <a:lnTo>
                    <a:pt x="3563" y="231"/>
                  </a:lnTo>
                  <a:lnTo>
                    <a:pt x="3527" y="251"/>
                  </a:lnTo>
                  <a:lnTo>
                    <a:pt x="3494" y="271"/>
                  </a:lnTo>
                  <a:lnTo>
                    <a:pt x="3461" y="291"/>
                  </a:lnTo>
                  <a:lnTo>
                    <a:pt x="3429" y="310"/>
                  </a:lnTo>
                  <a:lnTo>
                    <a:pt x="3397" y="327"/>
                  </a:lnTo>
                  <a:lnTo>
                    <a:pt x="3365" y="345"/>
                  </a:lnTo>
                  <a:lnTo>
                    <a:pt x="3333" y="362"/>
                  </a:lnTo>
                  <a:lnTo>
                    <a:pt x="3300" y="378"/>
                  </a:lnTo>
                  <a:lnTo>
                    <a:pt x="3266" y="393"/>
                  </a:lnTo>
                  <a:lnTo>
                    <a:pt x="3232" y="405"/>
                  </a:lnTo>
                  <a:lnTo>
                    <a:pt x="3195" y="417"/>
                  </a:lnTo>
                  <a:lnTo>
                    <a:pt x="3156" y="427"/>
                  </a:lnTo>
                  <a:lnTo>
                    <a:pt x="3071" y="443"/>
                  </a:lnTo>
                  <a:lnTo>
                    <a:pt x="2915" y="443"/>
                  </a:lnTo>
                  <a:lnTo>
                    <a:pt x="2774" y="423"/>
                  </a:lnTo>
                  <a:lnTo>
                    <a:pt x="2708" y="407"/>
                  </a:lnTo>
                  <a:lnTo>
                    <a:pt x="2645" y="389"/>
                  </a:lnTo>
                  <a:lnTo>
                    <a:pt x="2582" y="367"/>
                  </a:lnTo>
                  <a:lnTo>
                    <a:pt x="2519" y="345"/>
                  </a:lnTo>
                  <a:lnTo>
                    <a:pt x="2457" y="319"/>
                  </a:lnTo>
                  <a:lnTo>
                    <a:pt x="2394" y="294"/>
                  </a:lnTo>
                  <a:lnTo>
                    <a:pt x="2364" y="281"/>
                  </a:lnTo>
                  <a:lnTo>
                    <a:pt x="2332" y="267"/>
                  </a:lnTo>
                  <a:lnTo>
                    <a:pt x="2298" y="255"/>
                  </a:lnTo>
                  <a:lnTo>
                    <a:pt x="2266" y="242"/>
                  </a:lnTo>
                  <a:lnTo>
                    <a:pt x="2233" y="229"/>
                  </a:lnTo>
                  <a:lnTo>
                    <a:pt x="2198" y="217"/>
                  </a:lnTo>
                  <a:lnTo>
                    <a:pt x="2128" y="194"/>
                  </a:lnTo>
                  <a:lnTo>
                    <a:pt x="2053" y="171"/>
                  </a:lnTo>
                  <a:lnTo>
                    <a:pt x="1975" y="153"/>
                  </a:lnTo>
                  <a:lnTo>
                    <a:pt x="1906" y="138"/>
                  </a:lnTo>
                  <a:lnTo>
                    <a:pt x="1839" y="126"/>
                  </a:lnTo>
                  <a:lnTo>
                    <a:pt x="1712" y="109"/>
                  </a:lnTo>
                  <a:lnTo>
                    <a:pt x="1591" y="98"/>
                  </a:lnTo>
                  <a:lnTo>
                    <a:pt x="1475" y="97"/>
                  </a:lnTo>
                  <a:lnTo>
                    <a:pt x="1240" y="117"/>
                  </a:lnTo>
                  <a:lnTo>
                    <a:pt x="1113" y="137"/>
                  </a:lnTo>
                  <a:lnTo>
                    <a:pt x="976" y="163"/>
                  </a:lnTo>
                  <a:lnTo>
                    <a:pt x="875" y="187"/>
                  </a:lnTo>
                  <a:lnTo>
                    <a:pt x="784" y="211"/>
                  </a:lnTo>
                  <a:lnTo>
                    <a:pt x="695" y="237"/>
                  </a:lnTo>
                  <a:lnTo>
                    <a:pt x="646" y="250"/>
                  </a:lnTo>
                  <a:lnTo>
                    <a:pt x="594" y="263"/>
                  </a:lnTo>
                  <a:lnTo>
                    <a:pt x="514" y="285"/>
                  </a:lnTo>
                  <a:lnTo>
                    <a:pt x="443" y="306"/>
                  </a:lnTo>
                  <a:lnTo>
                    <a:pt x="377" y="329"/>
                  </a:lnTo>
                  <a:lnTo>
                    <a:pt x="313" y="354"/>
                  </a:lnTo>
                  <a:lnTo>
                    <a:pt x="250" y="379"/>
                  </a:lnTo>
                  <a:lnTo>
                    <a:pt x="218" y="394"/>
                  </a:lnTo>
                  <a:lnTo>
                    <a:pt x="185" y="407"/>
                  </a:lnTo>
                  <a:lnTo>
                    <a:pt x="152" y="422"/>
                  </a:lnTo>
                  <a:lnTo>
                    <a:pt x="117" y="438"/>
                  </a:lnTo>
                  <a:lnTo>
                    <a:pt x="80" y="454"/>
                  </a:lnTo>
                  <a:lnTo>
                    <a:pt x="41" y="471"/>
                  </a:lnTo>
                  <a:lnTo>
                    <a:pt x="17" y="471"/>
                  </a:lnTo>
                  <a:lnTo>
                    <a:pt x="1" y="455"/>
                  </a:lnTo>
                  <a:lnTo>
                    <a:pt x="0" y="433"/>
                  </a:lnTo>
                  <a:lnTo>
                    <a:pt x="7" y="422"/>
                  </a:lnTo>
                  <a:lnTo>
                    <a:pt x="17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84"/>
            <p:cNvSpPr/>
            <p:nvPr/>
          </p:nvSpPr>
          <p:spPr>
            <a:xfrm rot="5201400">
              <a:off x="2005560" y="4951440"/>
              <a:ext cx="53280" cy="2106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56" h="1896">
                  <a:moveTo>
                    <a:pt x="57" y="19"/>
                  </a:moveTo>
                  <a:lnTo>
                    <a:pt x="68" y="55"/>
                  </a:lnTo>
                  <a:lnTo>
                    <a:pt x="80" y="89"/>
                  </a:lnTo>
                  <a:lnTo>
                    <a:pt x="91" y="122"/>
                  </a:lnTo>
                  <a:lnTo>
                    <a:pt x="101" y="154"/>
                  </a:lnTo>
                  <a:lnTo>
                    <a:pt x="113" y="185"/>
                  </a:lnTo>
                  <a:lnTo>
                    <a:pt x="124" y="215"/>
                  </a:lnTo>
                  <a:lnTo>
                    <a:pt x="134" y="246"/>
                  </a:lnTo>
                  <a:lnTo>
                    <a:pt x="146" y="275"/>
                  </a:lnTo>
                  <a:lnTo>
                    <a:pt x="168" y="333"/>
                  </a:lnTo>
                  <a:lnTo>
                    <a:pt x="190" y="388"/>
                  </a:lnTo>
                  <a:lnTo>
                    <a:pt x="210" y="444"/>
                  </a:lnTo>
                  <a:lnTo>
                    <a:pt x="232" y="499"/>
                  </a:lnTo>
                  <a:lnTo>
                    <a:pt x="250" y="554"/>
                  </a:lnTo>
                  <a:lnTo>
                    <a:pt x="269" y="610"/>
                  </a:lnTo>
                  <a:lnTo>
                    <a:pt x="286" y="667"/>
                  </a:lnTo>
                  <a:lnTo>
                    <a:pt x="301" y="725"/>
                  </a:lnTo>
                  <a:lnTo>
                    <a:pt x="326" y="851"/>
                  </a:lnTo>
                  <a:lnTo>
                    <a:pt x="344" y="989"/>
                  </a:lnTo>
                  <a:lnTo>
                    <a:pt x="356" y="1230"/>
                  </a:lnTo>
                  <a:lnTo>
                    <a:pt x="352" y="1398"/>
                  </a:lnTo>
                  <a:lnTo>
                    <a:pt x="342" y="1547"/>
                  </a:lnTo>
                  <a:lnTo>
                    <a:pt x="329" y="1866"/>
                  </a:lnTo>
                  <a:lnTo>
                    <a:pt x="320" y="1888"/>
                  </a:lnTo>
                  <a:lnTo>
                    <a:pt x="298" y="1896"/>
                  </a:lnTo>
                  <a:lnTo>
                    <a:pt x="277" y="1888"/>
                  </a:lnTo>
                  <a:lnTo>
                    <a:pt x="268" y="1866"/>
                  </a:lnTo>
                  <a:lnTo>
                    <a:pt x="265" y="1778"/>
                  </a:lnTo>
                  <a:lnTo>
                    <a:pt x="257" y="1697"/>
                  </a:lnTo>
                  <a:lnTo>
                    <a:pt x="246" y="1622"/>
                  </a:lnTo>
                  <a:lnTo>
                    <a:pt x="236" y="1550"/>
                  </a:lnTo>
                  <a:lnTo>
                    <a:pt x="202" y="1233"/>
                  </a:lnTo>
                  <a:lnTo>
                    <a:pt x="192" y="999"/>
                  </a:lnTo>
                  <a:lnTo>
                    <a:pt x="178" y="863"/>
                  </a:lnTo>
                  <a:lnTo>
                    <a:pt x="164" y="740"/>
                  </a:lnTo>
                  <a:lnTo>
                    <a:pt x="145" y="624"/>
                  </a:lnTo>
                  <a:lnTo>
                    <a:pt x="136" y="568"/>
                  </a:lnTo>
                  <a:lnTo>
                    <a:pt x="125" y="512"/>
                  </a:lnTo>
                  <a:lnTo>
                    <a:pt x="113" y="458"/>
                  </a:lnTo>
                  <a:lnTo>
                    <a:pt x="100" y="403"/>
                  </a:lnTo>
                  <a:lnTo>
                    <a:pt x="87" y="346"/>
                  </a:lnTo>
                  <a:lnTo>
                    <a:pt x="72" y="289"/>
                  </a:lnTo>
                  <a:lnTo>
                    <a:pt x="56" y="230"/>
                  </a:lnTo>
                  <a:lnTo>
                    <a:pt x="37" y="169"/>
                  </a:lnTo>
                  <a:lnTo>
                    <a:pt x="19" y="105"/>
                  </a:lnTo>
                  <a:lnTo>
                    <a:pt x="0" y="38"/>
                  </a:lnTo>
                  <a:lnTo>
                    <a:pt x="1" y="13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85"/>
            <p:cNvSpPr/>
            <p:nvPr/>
          </p:nvSpPr>
          <p:spPr>
            <a:xfrm rot="5201400">
              <a:off x="2005920" y="5247000"/>
              <a:ext cx="136800" cy="1735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3520"/>
                <a:gd name="textAreaBottom" fmla="*/ 173520 h 173520"/>
              </a:gdLst>
              <a:ahLst/>
              <a:rect l="textAreaLeft" t="textAreaTop" r="textAreaRight" b="textAreaBottom"/>
              <a:pathLst>
                <a:path w="913" h="1565">
                  <a:moveTo>
                    <a:pt x="362" y="55"/>
                  </a:moveTo>
                  <a:lnTo>
                    <a:pt x="345" y="81"/>
                  </a:lnTo>
                  <a:lnTo>
                    <a:pt x="329" y="107"/>
                  </a:lnTo>
                  <a:lnTo>
                    <a:pt x="313" y="129"/>
                  </a:lnTo>
                  <a:lnTo>
                    <a:pt x="300" y="151"/>
                  </a:lnTo>
                  <a:lnTo>
                    <a:pt x="273" y="187"/>
                  </a:lnTo>
                  <a:lnTo>
                    <a:pt x="260" y="203"/>
                  </a:lnTo>
                  <a:lnTo>
                    <a:pt x="249" y="217"/>
                  </a:lnTo>
                  <a:lnTo>
                    <a:pt x="238" y="232"/>
                  </a:lnTo>
                  <a:lnTo>
                    <a:pt x="228" y="245"/>
                  </a:lnTo>
                  <a:lnTo>
                    <a:pt x="209" y="269"/>
                  </a:lnTo>
                  <a:lnTo>
                    <a:pt x="177" y="313"/>
                  </a:lnTo>
                  <a:lnTo>
                    <a:pt x="134" y="426"/>
                  </a:lnTo>
                  <a:lnTo>
                    <a:pt x="106" y="645"/>
                  </a:lnTo>
                  <a:lnTo>
                    <a:pt x="104" y="744"/>
                  </a:lnTo>
                  <a:lnTo>
                    <a:pt x="112" y="874"/>
                  </a:lnTo>
                  <a:lnTo>
                    <a:pt x="121" y="947"/>
                  </a:lnTo>
                  <a:lnTo>
                    <a:pt x="133" y="1022"/>
                  </a:lnTo>
                  <a:lnTo>
                    <a:pt x="149" y="1097"/>
                  </a:lnTo>
                  <a:lnTo>
                    <a:pt x="158" y="1132"/>
                  </a:lnTo>
                  <a:lnTo>
                    <a:pt x="169" y="1168"/>
                  </a:lnTo>
                  <a:lnTo>
                    <a:pt x="181" y="1203"/>
                  </a:lnTo>
                  <a:lnTo>
                    <a:pt x="193" y="1236"/>
                  </a:lnTo>
                  <a:lnTo>
                    <a:pt x="208" y="1268"/>
                  </a:lnTo>
                  <a:lnTo>
                    <a:pt x="222" y="1298"/>
                  </a:lnTo>
                  <a:lnTo>
                    <a:pt x="238" y="1326"/>
                  </a:lnTo>
                  <a:lnTo>
                    <a:pt x="257" y="1351"/>
                  </a:lnTo>
                  <a:lnTo>
                    <a:pt x="276" y="1374"/>
                  </a:lnTo>
                  <a:lnTo>
                    <a:pt x="296" y="1394"/>
                  </a:lnTo>
                  <a:lnTo>
                    <a:pt x="317" y="1410"/>
                  </a:lnTo>
                  <a:lnTo>
                    <a:pt x="339" y="1423"/>
                  </a:lnTo>
                  <a:lnTo>
                    <a:pt x="390" y="1438"/>
                  </a:lnTo>
                  <a:lnTo>
                    <a:pt x="445" y="1435"/>
                  </a:lnTo>
                  <a:lnTo>
                    <a:pt x="507" y="1414"/>
                  </a:lnTo>
                  <a:lnTo>
                    <a:pt x="550" y="1384"/>
                  </a:lnTo>
                  <a:lnTo>
                    <a:pt x="568" y="1363"/>
                  </a:lnTo>
                  <a:lnTo>
                    <a:pt x="587" y="1338"/>
                  </a:lnTo>
                  <a:lnTo>
                    <a:pt x="606" y="1310"/>
                  </a:lnTo>
                  <a:lnTo>
                    <a:pt x="622" y="1279"/>
                  </a:lnTo>
                  <a:lnTo>
                    <a:pt x="638" y="1244"/>
                  </a:lnTo>
                  <a:lnTo>
                    <a:pt x="652" y="1208"/>
                  </a:lnTo>
                  <a:lnTo>
                    <a:pt x="666" y="1170"/>
                  </a:lnTo>
                  <a:lnTo>
                    <a:pt x="678" y="1128"/>
                  </a:lnTo>
                  <a:lnTo>
                    <a:pt x="699" y="1043"/>
                  </a:lnTo>
                  <a:lnTo>
                    <a:pt x="727" y="859"/>
                  </a:lnTo>
                  <a:lnTo>
                    <a:pt x="732" y="677"/>
                  </a:lnTo>
                  <a:lnTo>
                    <a:pt x="727" y="592"/>
                  </a:lnTo>
                  <a:lnTo>
                    <a:pt x="715" y="513"/>
                  </a:lnTo>
                  <a:lnTo>
                    <a:pt x="707" y="478"/>
                  </a:lnTo>
                  <a:lnTo>
                    <a:pt x="698" y="445"/>
                  </a:lnTo>
                  <a:lnTo>
                    <a:pt x="686" y="415"/>
                  </a:lnTo>
                  <a:lnTo>
                    <a:pt x="672" y="388"/>
                  </a:lnTo>
                  <a:lnTo>
                    <a:pt x="658" y="364"/>
                  </a:lnTo>
                  <a:lnTo>
                    <a:pt x="640" y="344"/>
                  </a:lnTo>
                  <a:lnTo>
                    <a:pt x="622" y="329"/>
                  </a:lnTo>
                  <a:lnTo>
                    <a:pt x="602" y="317"/>
                  </a:lnTo>
                  <a:lnTo>
                    <a:pt x="379" y="213"/>
                  </a:lnTo>
                  <a:lnTo>
                    <a:pt x="383" y="191"/>
                  </a:lnTo>
                  <a:lnTo>
                    <a:pt x="391" y="172"/>
                  </a:lnTo>
                  <a:lnTo>
                    <a:pt x="405" y="157"/>
                  </a:lnTo>
                  <a:lnTo>
                    <a:pt x="423" y="147"/>
                  </a:lnTo>
                  <a:lnTo>
                    <a:pt x="467" y="135"/>
                  </a:lnTo>
                  <a:lnTo>
                    <a:pt x="522" y="135"/>
                  </a:lnTo>
                  <a:lnTo>
                    <a:pt x="638" y="160"/>
                  </a:lnTo>
                  <a:lnTo>
                    <a:pt x="690" y="181"/>
                  </a:lnTo>
                  <a:lnTo>
                    <a:pt x="732" y="205"/>
                  </a:lnTo>
                  <a:lnTo>
                    <a:pt x="762" y="228"/>
                  </a:lnTo>
                  <a:lnTo>
                    <a:pt x="787" y="255"/>
                  </a:lnTo>
                  <a:lnTo>
                    <a:pt x="799" y="269"/>
                  </a:lnTo>
                  <a:lnTo>
                    <a:pt x="811" y="284"/>
                  </a:lnTo>
                  <a:lnTo>
                    <a:pt x="832" y="317"/>
                  </a:lnTo>
                  <a:lnTo>
                    <a:pt x="851" y="355"/>
                  </a:lnTo>
                  <a:lnTo>
                    <a:pt x="867" y="393"/>
                  </a:lnTo>
                  <a:lnTo>
                    <a:pt x="891" y="480"/>
                  </a:lnTo>
                  <a:lnTo>
                    <a:pt x="913" y="673"/>
                  </a:lnTo>
                  <a:lnTo>
                    <a:pt x="912" y="777"/>
                  </a:lnTo>
                  <a:lnTo>
                    <a:pt x="903" y="881"/>
                  </a:lnTo>
                  <a:lnTo>
                    <a:pt x="884" y="986"/>
                  </a:lnTo>
                  <a:lnTo>
                    <a:pt x="873" y="1037"/>
                  </a:lnTo>
                  <a:lnTo>
                    <a:pt x="859" y="1087"/>
                  </a:lnTo>
                  <a:lnTo>
                    <a:pt x="844" y="1136"/>
                  </a:lnTo>
                  <a:lnTo>
                    <a:pt x="827" y="1184"/>
                  </a:lnTo>
                  <a:lnTo>
                    <a:pt x="808" y="1230"/>
                  </a:lnTo>
                  <a:lnTo>
                    <a:pt x="798" y="1252"/>
                  </a:lnTo>
                  <a:lnTo>
                    <a:pt x="787" y="1274"/>
                  </a:lnTo>
                  <a:lnTo>
                    <a:pt x="776" y="1295"/>
                  </a:lnTo>
                  <a:lnTo>
                    <a:pt x="766" y="1315"/>
                  </a:lnTo>
                  <a:lnTo>
                    <a:pt x="742" y="1354"/>
                  </a:lnTo>
                  <a:lnTo>
                    <a:pt x="716" y="1390"/>
                  </a:lnTo>
                  <a:lnTo>
                    <a:pt x="703" y="1407"/>
                  </a:lnTo>
                  <a:lnTo>
                    <a:pt x="690" y="1423"/>
                  </a:lnTo>
                  <a:lnTo>
                    <a:pt x="675" y="1439"/>
                  </a:lnTo>
                  <a:lnTo>
                    <a:pt x="660" y="1452"/>
                  </a:lnTo>
                  <a:lnTo>
                    <a:pt x="646" y="1465"/>
                  </a:lnTo>
                  <a:lnTo>
                    <a:pt x="631" y="1479"/>
                  </a:lnTo>
                  <a:lnTo>
                    <a:pt x="600" y="1500"/>
                  </a:lnTo>
                  <a:lnTo>
                    <a:pt x="567" y="1519"/>
                  </a:lnTo>
                  <a:lnTo>
                    <a:pt x="519" y="1539"/>
                  </a:lnTo>
                  <a:lnTo>
                    <a:pt x="474" y="1553"/>
                  </a:lnTo>
                  <a:lnTo>
                    <a:pt x="391" y="1565"/>
                  </a:lnTo>
                  <a:lnTo>
                    <a:pt x="317" y="1557"/>
                  </a:lnTo>
                  <a:lnTo>
                    <a:pt x="253" y="1532"/>
                  </a:lnTo>
                  <a:lnTo>
                    <a:pt x="224" y="1513"/>
                  </a:lnTo>
                  <a:lnTo>
                    <a:pt x="197" y="1491"/>
                  </a:lnTo>
                  <a:lnTo>
                    <a:pt x="172" y="1464"/>
                  </a:lnTo>
                  <a:lnTo>
                    <a:pt x="160" y="1451"/>
                  </a:lnTo>
                  <a:lnTo>
                    <a:pt x="149" y="1435"/>
                  </a:lnTo>
                  <a:lnTo>
                    <a:pt x="128" y="1403"/>
                  </a:lnTo>
                  <a:lnTo>
                    <a:pt x="109" y="1370"/>
                  </a:lnTo>
                  <a:lnTo>
                    <a:pt x="92" y="1332"/>
                  </a:lnTo>
                  <a:lnTo>
                    <a:pt x="76" y="1294"/>
                  </a:lnTo>
                  <a:lnTo>
                    <a:pt x="62" y="1254"/>
                  </a:lnTo>
                  <a:lnTo>
                    <a:pt x="49" y="1211"/>
                  </a:lnTo>
                  <a:lnTo>
                    <a:pt x="29" y="1124"/>
                  </a:lnTo>
                  <a:lnTo>
                    <a:pt x="5" y="946"/>
                  </a:lnTo>
                  <a:lnTo>
                    <a:pt x="0" y="775"/>
                  </a:lnTo>
                  <a:lnTo>
                    <a:pt x="9" y="632"/>
                  </a:lnTo>
                  <a:lnTo>
                    <a:pt x="20" y="558"/>
                  </a:lnTo>
                  <a:lnTo>
                    <a:pt x="39" y="464"/>
                  </a:lnTo>
                  <a:lnTo>
                    <a:pt x="50" y="413"/>
                  </a:lnTo>
                  <a:lnTo>
                    <a:pt x="64" y="361"/>
                  </a:lnTo>
                  <a:lnTo>
                    <a:pt x="81" y="309"/>
                  </a:lnTo>
                  <a:lnTo>
                    <a:pt x="98" y="257"/>
                  </a:lnTo>
                  <a:lnTo>
                    <a:pt x="120" y="207"/>
                  </a:lnTo>
                  <a:lnTo>
                    <a:pt x="130" y="183"/>
                  </a:lnTo>
                  <a:lnTo>
                    <a:pt x="142" y="160"/>
                  </a:lnTo>
                  <a:lnTo>
                    <a:pt x="154" y="137"/>
                  </a:lnTo>
                  <a:lnTo>
                    <a:pt x="168" y="117"/>
                  </a:lnTo>
                  <a:lnTo>
                    <a:pt x="196" y="79"/>
                  </a:lnTo>
                  <a:lnTo>
                    <a:pt x="210" y="63"/>
                  </a:lnTo>
                  <a:lnTo>
                    <a:pt x="226" y="47"/>
                  </a:lnTo>
                  <a:lnTo>
                    <a:pt x="242" y="34"/>
                  </a:lnTo>
                  <a:lnTo>
                    <a:pt x="260" y="23"/>
                  </a:lnTo>
                  <a:lnTo>
                    <a:pt x="296" y="7"/>
                  </a:lnTo>
                  <a:lnTo>
                    <a:pt x="334" y="0"/>
                  </a:lnTo>
                  <a:lnTo>
                    <a:pt x="362" y="3"/>
                  </a:lnTo>
                  <a:lnTo>
                    <a:pt x="374" y="14"/>
                  </a:lnTo>
                  <a:lnTo>
                    <a:pt x="373" y="31"/>
                  </a:lnTo>
                  <a:lnTo>
                    <a:pt x="36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86"/>
            <p:cNvSpPr/>
            <p:nvPr/>
          </p:nvSpPr>
          <p:spPr>
            <a:xfrm rot="5201400">
              <a:off x="2098440" y="5076000"/>
              <a:ext cx="44640" cy="3348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04" h="305">
                  <a:moveTo>
                    <a:pt x="0" y="153"/>
                  </a:moveTo>
                  <a:lnTo>
                    <a:pt x="3" y="123"/>
                  </a:lnTo>
                  <a:lnTo>
                    <a:pt x="11" y="93"/>
                  </a:lnTo>
                  <a:lnTo>
                    <a:pt x="26" y="68"/>
                  </a:lnTo>
                  <a:lnTo>
                    <a:pt x="34" y="56"/>
                  </a:lnTo>
                  <a:lnTo>
                    <a:pt x="44" y="45"/>
                  </a:lnTo>
                  <a:lnTo>
                    <a:pt x="67" y="27"/>
                  </a:lnTo>
                  <a:lnTo>
                    <a:pt x="92" y="13"/>
                  </a:lnTo>
                  <a:lnTo>
                    <a:pt x="152" y="0"/>
                  </a:lnTo>
                  <a:lnTo>
                    <a:pt x="211" y="13"/>
                  </a:lnTo>
                  <a:lnTo>
                    <a:pt x="259" y="45"/>
                  </a:lnTo>
                  <a:lnTo>
                    <a:pt x="292" y="93"/>
                  </a:lnTo>
                  <a:lnTo>
                    <a:pt x="304" y="153"/>
                  </a:lnTo>
                  <a:lnTo>
                    <a:pt x="301" y="184"/>
                  </a:lnTo>
                  <a:lnTo>
                    <a:pt x="292" y="212"/>
                  </a:lnTo>
                  <a:lnTo>
                    <a:pt x="277" y="239"/>
                  </a:lnTo>
                  <a:lnTo>
                    <a:pt x="269" y="251"/>
                  </a:lnTo>
                  <a:lnTo>
                    <a:pt x="259" y="261"/>
                  </a:lnTo>
                  <a:lnTo>
                    <a:pt x="236" y="280"/>
                  </a:lnTo>
                  <a:lnTo>
                    <a:pt x="211" y="293"/>
                  </a:lnTo>
                  <a:lnTo>
                    <a:pt x="152" y="305"/>
                  </a:lnTo>
                  <a:lnTo>
                    <a:pt x="92" y="293"/>
                  </a:lnTo>
                  <a:lnTo>
                    <a:pt x="44" y="261"/>
                  </a:lnTo>
                  <a:lnTo>
                    <a:pt x="11" y="212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87"/>
            <p:cNvSpPr/>
            <p:nvPr/>
          </p:nvSpPr>
          <p:spPr>
            <a:xfrm rot="5201400">
              <a:off x="2132280" y="5546160"/>
              <a:ext cx="40320" cy="306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274" h="275">
                  <a:moveTo>
                    <a:pt x="0" y="138"/>
                  </a:moveTo>
                  <a:lnTo>
                    <a:pt x="11" y="83"/>
                  </a:lnTo>
                  <a:lnTo>
                    <a:pt x="23" y="61"/>
                  </a:lnTo>
                  <a:lnTo>
                    <a:pt x="40" y="41"/>
                  </a:lnTo>
                  <a:lnTo>
                    <a:pt x="60" y="23"/>
                  </a:lnTo>
                  <a:lnTo>
                    <a:pt x="84" y="10"/>
                  </a:lnTo>
                  <a:lnTo>
                    <a:pt x="137" y="0"/>
                  </a:lnTo>
                  <a:lnTo>
                    <a:pt x="191" y="10"/>
                  </a:lnTo>
                  <a:lnTo>
                    <a:pt x="234" y="41"/>
                  </a:lnTo>
                  <a:lnTo>
                    <a:pt x="264" y="83"/>
                  </a:lnTo>
                  <a:lnTo>
                    <a:pt x="274" y="138"/>
                  </a:lnTo>
                  <a:lnTo>
                    <a:pt x="264" y="191"/>
                  </a:lnTo>
                  <a:lnTo>
                    <a:pt x="252" y="215"/>
                  </a:lnTo>
                  <a:lnTo>
                    <a:pt x="234" y="235"/>
                  </a:lnTo>
                  <a:lnTo>
                    <a:pt x="214" y="251"/>
                  </a:lnTo>
                  <a:lnTo>
                    <a:pt x="191" y="265"/>
                  </a:lnTo>
                  <a:lnTo>
                    <a:pt x="137" y="275"/>
                  </a:lnTo>
                  <a:lnTo>
                    <a:pt x="84" y="265"/>
                  </a:lnTo>
                  <a:lnTo>
                    <a:pt x="40" y="235"/>
                  </a:lnTo>
                  <a:lnTo>
                    <a:pt x="11" y="191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88"/>
            <p:cNvSpPr/>
            <p:nvPr/>
          </p:nvSpPr>
          <p:spPr>
            <a:xfrm rot="5201400">
              <a:off x="2002320" y="5045040"/>
              <a:ext cx="99000" cy="1990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667" h="1793">
                  <a:moveTo>
                    <a:pt x="147" y="647"/>
                  </a:moveTo>
                  <a:lnTo>
                    <a:pt x="125" y="726"/>
                  </a:lnTo>
                  <a:lnTo>
                    <a:pt x="112" y="820"/>
                  </a:lnTo>
                  <a:lnTo>
                    <a:pt x="108" y="1024"/>
                  </a:lnTo>
                  <a:lnTo>
                    <a:pt x="113" y="1121"/>
                  </a:lnTo>
                  <a:lnTo>
                    <a:pt x="123" y="1202"/>
                  </a:lnTo>
                  <a:lnTo>
                    <a:pt x="135" y="1262"/>
                  </a:lnTo>
                  <a:lnTo>
                    <a:pt x="147" y="1294"/>
                  </a:lnTo>
                  <a:lnTo>
                    <a:pt x="164" y="1306"/>
                  </a:lnTo>
                  <a:lnTo>
                    <a:pt x="192" y="1317"/>
                  </a:lnTo>
                  <a:lnTo>
                    <a:pt x="269" y="1336"/>
                  </a:lnTo>
                  <a:lnTo>
                    <a:pt x="365" y="1357"/>
                  </a:lnTo>
                  <a:lnTo>
                    <a:pt x="465" y="1386"/>
                  </a:lnTo>
                  <a:lnTo>
                    <a:pt x="514" y="1406"/>
                  </a:lnTo>
                  <a:lnTo>
                    <a:pt x="558" y="1432"/>
                  </a:lnTo>
                  <a:lnTo>
                    <a:pt x="598" y="1461"/>
                  </a:lnTo>
                  <a:lnTo>
                    <a:pt x="614" y="1477"/>
                  </a:lnTo>
                  <a:lnTo>
                    <a:pt x="630" y="1495"/>
                  </a:lnTo>
                  <a:lnTo>
                    <a:pt x="653" y="1538"/>
                  </a:lnTo>
                  <a:lnTo>
                    <a:pt x="666" y="1589"/>
                  </a:lnTo>
                  <a:lnTo>
                    <a:pt x="667" y="1646"/>
                  </a:lnTo>
                  <a:lnTo>
                    <a:pt x="654" y="1714"/>
                  </a:lnTo>
                  <a:lnTo>
                    <a:pt x="638" y="1751"/>
                  </a:lnTo>
                  <a:lnTo>
                    <a:pt x="627" y="1766"/>
                  </a:lnTo>
                  <a:lnTo>
                    <a:pt x="615" y="1777"/>
                  </a:lnTo>
                  <a:lnTo>
                    <a:pt x="590" y="1790"/>
                  </a:lnTo>
                  <a:lnTo>
                    <a:pt x="563" y="1793"/>
                  </a:lnTo>
                  <a:lnTo>
                    <a:pt x="513" y="1763"/>
                  </a:lnTo>
                  <a:lnTo>
                    <a:pt x="482" y="1694"/>
                  </a:lnTo>
                  <a:lnTo>
                    <a:pt x="475" y="1654"/>
                  </a:lnTo>
                  <a:lnTo>
                    <a:pt x="466" y="1619"/>
                  </a:lnTo>
                  <a:lnTo>
                    <a:pt x="455" y="1589"/>
                  </a:lnTo>
                  <a:lnTo>
                    <a:pt x="443" y="1562"/>
                  </a:lnTo>
                  <a:lnTo>
                    <a:pt x="430" y="1539"/>
                  </a:lnTo>
                  <a:lnTo>
                    <a:pt x="417" y="1519"/>
                  </a:lnTo>
                  <a:lnTo>
                    <a:pt x="402" y="1503"/>
                  </a:lnTo>
                  <a:lnTo>
                    <a:pt x="386" y="1489"/>
                  </a:lnTo>
                  <a:lnTo>
                    <a:pt x="369" y="1477"/>
                  </a:lnTo>
                  <a:lnTo>
                    <a:pt x="352" y="1468"/>
                  </a:lnTo>
                  <a:lnTo>
                    <a:pt x="316" y="1453"/>
                  </a:lnTo>
                  <a:lnTo>
                    <a:pt x="241" y="1437"/>
                  </a:lnTo>
                  <a:lnTo>
                    <a:pt x="168" y="1422"/>
                  </a:lnTo>
                  <a:lnTo>
                    <a:pt x="103" y="1389"/>
                  </a:lnTo>
                  <a:lnTo>
                    <a:pt x="52" y="1318"/>
                  </a:lnTo>
                  <a:lnTo>
                    <a:pt x="24" y="1192"/>
                  </a:lnTo>
                  <a:lnTo>
                    <a:pt x="11" y="1057"/>
                  </a:lnTo>
                  <a:lnTo>
                    <a:pt x="0" y="856"/>
                  </a:lnTo>
                  <a:lnTo>
                    <a:pt x="1" y="664"/>
                  </a:lnTo>
                  <a:lnTo>
                    <a:pt x="13" y="595"/>
                  </a:lnTo>
                  <a:lnTo>
                    <a:pt x="21" y="570"/>
                  </a:lnTo>
                  <a:lnTo>
                    <a:pt x="32" y="554"/>
                  </a:lnTo>
                  <a:lnTo>
                    <a:pt x="48" y="540"/>
                  </a:lnTo>
                  <a:lnTo>
                    <a:pt x="67" y="528"/>
                  </a:lnTo>
                  <a:lnTo>
                    <a:pt x="104" y="508"/>
                  </a:lnTo>
                  <a:lnTo>
                    <a:pt x="141" y="490"/>
                  </a:lnTo>
                  <a:lnTo>
                    <a:pt x="176" y="466"/>
                  </a:lnTo>
                  <a:lnTo>
                    <a:pt x="206" y="438"/>
                  </a:lnTo>
                  <a:lnTo>
                    <a:pt x="230" y="411"/>
                  </a:lnTo>
                  <a:lnTo>
                    <a:pt x="264" y="361"/>
                  </a:lnTo>
                  <a:lnTo>
                    <a:pt x="278" y="311"/>
                  </a:lnTo>
                  <a:lnTo>
                    <a:pt x="280" y="265"/>
                  </a:lnTo>
                  <a:lnTo>
                    <a:pt x="272" y="215"/>
                  </a:lnTo>
                  <a:lnTo>
                    <a:pt x="258" y="163"/>
                  </a:lnTo>
                  <a:lnTo>
                    <a:pt x="233" y="44"/>
                  </a:lnTo>
                  <a:lnTo>
                    <a:pt x="233" y="16"/>
                  </a:lnTo>
                  <a:lnTo>
                    <a:pt x="241" y="0"/>
                  </a:lnTo>
                  <a:lnTo>
                    <a:pt x="284" y="9"/>
                  </a:lnTo>
                  <a:lnTo>
                    <a:pt x="318" y="34"/>
                  </a:lnTo>
                  <a:lnTo>
                    <a:pt x="346" y="68"/>
                  </a:lnTo>
                  <a:lnTo>
                    <a:pt x="381" y="150"/>
                  </a:lnTo>
                  <a:lnTo>
                    <a:pt x="389" y="246"/>
                  </a:lnTo>
                  <a:lnTo>
                    <a:pt x="384" y="295"/>
                  </a:lnTo>
                  <a:lnTo>
                    <a:pt x="373" y="347"/>
                  </a:lnTo>
                  <a:lnTo>
                    <a:pt x="358" y="398"/>
                  </a:lnTo>
                  <a:lnTo>
                    <a:pt x="338" y="446"/>
                  </a:lnTo>
                  <a:lnTo>
                    <a:pt x="328" y="470"/>
                  </a:lnTo>
                  <a:lnTo>
                    <a:pt x="314" y="492"/>
                  </a:lnTo>
                  <a:lnTo>
                    <a:pt x="301" y="514"/>
                  </a:lnTo>
                  <a:lnTo>
                    <a:pt x="288" y="535"/>
                  </a:lnTo>
                  <a:lnTo>
                    <a:pt x="272" y="554"/>
                  </a:lnTo>
                  <a:lnTo>
                    <a:pt x="257" y="572"/>
                  </a:lnTo>
                  <a:lnTo>
                    <a:pt x="240" y="590"/>
                  </a:lnTo>
                  <a:lnTo>
                    <a:pt x="222" y="604"/>
                  </a:lnTo>
                  <a:lnTo>
                    <a:pt x="204" y="619"/>
                  </a:lnTo>
                  <a:lnTo>
                    <a:pt x="187" y="630"/>
                  </a:lnTo>
                  <a:lnTo>
                    <a:pt x="147" y="6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9"/>
            <p:cNvSpPr/>
            <p:nvPr/>
          </p:nvSpPr>
          <p:spPr>
            <a:xfrm rot="5201400">
              <a:off x="1847880" y="5246640"/>
              <a:ext cx="439920" cy="2451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941" h="2209">
                  <a:moveTo>
                    <a:pt x="402" y="1921"/>
                  </a:moveTo>
                  <a:lnTo>
                    <a:pt x="512" y="1904"/>
                  </a:lnTo>
                  <a:lnTo>
                    <a:pt x="627" y="1892"/>
                  </a:lnTo>
                  <a:lnTo>
                    <a:pt x="862" y="1885"/>
                  </a:lnTo>
                  <a:lnTo>
                    <a:pt x="1106" y="1895"/>
                  </a:lnTo>
                  <a:lnTo>
                    <a:pt x="1354" y="1919"/>
                  </a:lnTo>
                  <a:lnTo>
                    <a:pt x="1479" y="1935"/>
                  </a:lnTo>
                  <a:lnTo>
                    <a:pt x="1601" y="1952"/>
                  </a:lnTo>
                  <a:lnTo>
                    <a:pt x="1725" y="1971"/>
                  </a:lnTo>
                  <a:lnTo>
                    <a:pt x="1846" y="1989"/>
                  </a:lnTo>
                  <a:lnTo>
                    <a:pt x="1966" y="2009"/>
                  </a:lnTo>
                  <a:lnTo>
                    <a:pt x="2084" y="2029"/>
                  </a:lnTo>
                  <a:lnTo>
                    <a:pt x="2197" y="2048"/>
                  </a:lnTo>
                  <a:lnTo>
                    <a:pt x="2309" y="2065"/>
                  </a:lnTo>
                  <a:lnTo>
                    <a:pt x="2376" y="2084"/>
                  </a:lnTo>
                  <a:lnTo>
                    <a:pt x="2426" y="2097"/>
                  </a:lnTo>
                  <a:lnTo>
                    <a:pt x="2476" y="2110"/>
                  </a:lnTo>
                  <a:lnTo>
                    <a:pt x="2559" y="2121"/>
                  </a:lnTo>
                  <a:lnTo>
                    <a:pt x="2578" y="2112"/>
                  </a:lnTo>
                  <a:lnTo>
                    <a:pt x="2574" y="2088"/>
                  </a:lnTo>
                  <a:lnTo>
                    <a:pt x="2556" y="2056"/>
                  </a:lnTo>
                  <a:lnTo>
                    <a:pt x="2542" y="2020"/>
                  </a:lnTo>
                  <a:lnTo>
                    <a:pt x="2524" y="1941"/>
                  </a:lnTo>
                  <a:lnTo>
                    <a:pt x="2523" y="1921"/>
                  </a:lnTo>
                  <a:lnTo>
                    <a:pt x="2524" y="1900"/>
                  </a:lnTo>
                  <a:lnTo>
                    <a:pt x="2532" y="1860"/>
                  </a:lnTo>
                  <a:lnTo>
                    <a:pt x="2540" y="1840"/>
                  </a:lnTo>
                  <a:lnTo>
                    <a:pt x="2550" y="1821"/>
                  </a:lnTo>
                  <a:lnTo>
                    <a:pt x="2563" y="1803"/>
                  </a:lnTo>
                  <a:lnTo>
                    <a:pt x="2579" y="1785"/>
                  </a:lnTo>
                  <a:lnTo>
                    <a:pt x="2603" y="1763"/>
                  </a:lnTo>
                  <a:lnTo>
                    <a:pt x="2628" y="1744"/>
                  </a:lnTo>
                  <a:lnTo>
                    <a:pt x="2653" y="1728"/>
                  </a:lnTo>
                  <a:lnTo>
                    <a:pt x="2681" y="1713"/>
                  </a:lnTo>
                  <a:lnTo>
                    <a:pt x="2743" y="1695"/>
                  </a:lnTo>
                  <a:lnTo>
                    <a:pt x="2813" y="1683"/>
                  </a:lnTo>
                  <a:lnTo>
                    <a:pt x="2804" y="1632"/>
                  </a:lnTo>
                  <a:lnTo>
                    <a:pt x="2795" y="1580"/>
                  </a:lnTo>
                  <a:lnTo>
                    <a:pt x="2783" y="1526"/>
                  </a:lnTo>
                  <a:lnTo>
                    <a:pt x="2771" y="1470"/>
                  </a:lnTo>
                  <a:lnTo>
                    <a:pt x="2759" y="1414"/>
                  </a:lnTo>
                  <a:lnTo>
                    <a:pt x="2747" y="1357"/>
                  </a:lnTo>
                  <a:lnTo>
                    <a:pt x="2724" y="1241"/>
                  </a:lnTo>
                  <a:lnTo>
                    <a:pt x="2696" y="1012"/>
                  </a:lnTo>
                  <a:lnTo>
                    <a:pt x="2699" y="902"/>
                  </a:lnTo>
                  <a:lnTo>
                    <a:pt x="2705" y="849"/>
                  </a:lnTo>
                  <a:lnTo>
                    <a:pt x="2717" y="798"/>
                  </a:lnTo>
                  <a:lnTo>
                    <a:pt x="2629" y="794"/>
                  </a:lnTo>
                  <a:lnTo>
                    <a:pt x="2562" y="776"/>
                  </a:lnTo>
                  <a:lnTo>
                    <a:pt x="2511" y="748"/>
                  </a:lnTo>
                  <a:lnTo>
                    <a:pt x="2491" y="729"/>
                  </a:lnTo>
                  <a:lnTo>
                    <a:pt x="2475" y="709"/>
                  </a:lnTo>
                  <a:lnTo>
                    <a:pt x="2455" y="661"/>
                  </a:lnTo>
                  <a:lnTo>
                    <a:pt x="2446" y="605"/>
                  </a:lnTo>
                  <a:lnTo>
                    <a:pt x="2447" y="544"/>
                  </a:lnTo>
                  <a:lnTo>
                    <a:pt x="2456" y="477"/>
                  </a:lnTo>
                  <a:lnTo>
                    <a:pt x="2301" y="461"/>
                  </a:lnTo>
                  <a:lnTo>
                    <a:pt x="2173" y="445"/>
                  </a:lnTo>
                  <a:lnTo>
                    <a:pt x="1986" y="419"/>
                  </a:lnTo>
                  <a:lnTo>
                    <a:pt x="1872" y="395"/>
                  </a:lnTo>
                  <a:lnTo>
                    <a:pt x="1796" y="368"/>
                  </a:lnTo>
                  <a:lnTo>
                    <a:pt x="1764" y="352"/>
                  </a:lnTo>
                  <a:lnTo>
                    <a:pt x="1731" y="335"/>
                  </a:lnTo>
                  <a:lnTo>
                    <a:pt x="1693" y="315"/>
                  </a:lnTo>
                  <a:lnTo>
                    <a:pt x="1647" y="292"/>
                  </a:lnTo>
                  <a:lnTo>
                    <a:pt x="1620" y="279"/>
                  </a:lnTo>
                  <a:lnTo>
                    <a:pt x="1588" y="266"/>
                  </a:lnTo>
                  <a:lnTo>
                    <a:pt x="1554" y="251"/>
                  </a:lnTo>
                  <a:lnTo>
                    <a:pt x="1515" y="236"/>
                  </a:lnTo>
                  <a:lnTo>
                    <a:pt x="1471" y="219"/>
                  </a:lnTo>
                  <a:lnTo>
                    <a:pt x="1422" y="202"/>
                  </a:lnTo>
                  <a:lnTo>
                    <a:pt x="1366" y="183"/>
                  </a:lnTo>
                  <a:lnTo>
                    <a:pt x="1305" y="162"/>
                  </a:lnTo>
                  <a:lnTo>
                    <a:pt x="1257" y="148"/>
                  </a:lnTo>
                  <a:lnTo>
                    <a:pt x="1209" y="136"/>
                  </a:lnTo>
                  <a:lnTo>
                    <a:pt x="1113" y="120"/>
                  </a:lnTo>
                  <a:lnTo>
                    <a:pt x="925" y="115"/>
                  </a:lnTo>
                  <a:lnTo>
                    <a:pt x="745" y="134"/>
                  </a:lnTo>
                  <a:lnTo>
                    <a:pt x="659" y="150"/>
                  </a:lnTo>
                  <a:lnTo>
                    <a:pt x="575" y="170"/>
                  </a:lnTo>
                  <a:lnTo>
                    <a:pt x="495" y="191"/>
                  </a:lnTo>
                  <a:lnTo>
                    <a:pt x="420" y="214"/>
                  </a:lnTo>
                  <a:lnTo>
                    <a:pt x="350" y="235"/>
                  </a:lnTo>
                  <a:lnTo>
                    <a:pt x="285" y="255"/>
                  </a:lnTo>
                  <a:lnTo>
                    <a:pt x="225" y="272"/>
                  </a:lnTo>
                  <a:lnTo>
                    <a:pt x="171" y="286"/>
                  </a:lnTo>
                  <a:lnTo>
                    <a:pt x="83" y="296"/>
                  </a:lnTo>
                  <a:lnTo>
                    <a:pt x="24" y="276"/>
                  </a:lnTo>
                  <a:lnTo>
                    <a:pt x="6" y="256"/>
                  </a:lnTo>
                  <a:lnTo>
                    <a:pt x="0" y="232"/>
                  </a:lnTo>
                  <a:lnTo>
                    <a:pt x="2" y="207"/>
                  </a:lnTo>
                  <a:lnTo>
                    <a:pt x="14" y="183"/>
                  </a:lnTo>
                  <a:lnTo>
                    <a:pt x="25" y="171"/>
                  </a:lnTo>
                  <a:lnTo>
                    <a:pt x="37" y="160"/>
                  </a:lnTo>
                  <a:lnTo>
                    <a:pt x="69" y="143"/>
                  </a:lnTo>
                  <a:lnTo>
                    <a:pt x="103" y="131"/>
                  </a:lnTo>
                  <a:lnTo>
                    <a:pt x="141" y="118"/>
                  </a:lnTo>
                  <a:lnTo>
                    <a:pt x="217" y="94"/>
                  </a:lnTo>
                  <a:lnTo>
                    <a:pt x="295" y="71"/>
                  </a:lnTo>
                  <a:lnTo>
                    <a:pt x="376" y="50"/>
                  </a:lnTo>
                  <a:lnTo>
                    <a:pt x="459" y="31"/>
                  </a:lnTo>
                  <a:lnTo>
                    <a:pt x="540" y="16"/>
                  </a:lnTo>
                  <a:lnTo>
                    <a:pt x="693" y="0"/>
                  </a:lnTo>
                  <a:lnTo>
                    <a:pt x="972" y="2"/>
                  </a:lnTo>
                  <a:lnTo>
                    <a:pt x="1186" y="28"/>
                  </a:lnTo>
                  <a:lnTo>
                    <a:pt x="1274" y="48"/>
                  </a:lnTo>
                  <a:lnTo>
                    <a:pt x="1352" y="74"/>
                  </a:lnTo>
                  <a:lnTo>
                    <a:pt x="1423" y="100"/>
                  </a:lnTo>
                  <a:lnTo>
                    <a:pt x="1455" y="115"/>
                  </a:lnTo>
                  <a:lnTo>
                    <a:pt x="1486" y="130"/>
                  </a:lnTo>
                  <a:lnTo>
                    <a:pt x="1516" y="146"/>
                  </a:lnTo>
                  <a:lnTo>
                    <a:pt x="1546" y="160"/>
                  </a:lnTo>
                  <a:lnTo>
                    <a:pt x="1574" y="176"/>
                  </a:lnTo>
                  <a:lnTo>
                    <a:pt x="1601" y="192"/>
                  </a:lnTo>
                  <a:lnTo>
                    <a:pt x="1629" y="207"/>
                  </a:lnTo>
                  <a:lnTo>
                    <a:pt x="1657" y="223"/>
                  </a:lnTo>
                  <a:lnTo>
                    <a:pt x="1685" y="238"/>
                  </a:lnTo>
                  <a:lnTo>
                    <a:pt x="1715" y="252"/>
                  </a:lnTo>
                  <a:lnTo>
                    <a:pt x="1744" y="266"/>
                  </a:lnTo>
                  <a:lnTo>
                    <a:pt x="1775" y="279"/>
                  </a:lnTo>
                  <a:lnTo>
                    <a:pt x="1807" y="292"/>
                  </a:lnTo>
                  <a:lnTo>
                    <a:pt x="1840" y="303"/>
                  </a:lnTo>
                  <a:lnTo>
                    <a:pt x="1913" y="323"/>
                  </a:lnTo>
                  <a:lnTo>
                    <a:pt x="1993" y="339"/>
                  </a:lnTo>
                  <a:lnTo>
                    <a:pt x="2262" y="355"/>
                  </a:lnTo>
                  <a:lnTo>
                    <a:pt x="2395" y="365"/>
                  </a:lnTo>
                  <a:lnTo>
                    <a:pt x="2527" y="397"/>
                  </a:lnTo>
                  <a:lnTo>
                    <a:pt x="2523" y="467"/>
                  </a:lnTo>
                  <a:lnTo>
                    <a:pt x="2508" y="520"/>
                  </a:lnTo>
                  <a:lnTo>
                    <a:pt x="2506" y="564"/>
                  </a:lnTo>
                  <a:lnTo>
                    <a:pt x="2512" y="600"/>
                  </a:lnTo>
                  <a:lnTo>
                    <a:pt x="2528" y="628"/>
                  </a:lnTo>
                  <a:lnTo>
                    <a:pt x="2539" y="640"/>
                  </a:lnTo>
                  <a:lnTo>
                    <a:pt x="2551" y="649"/>
                  </a:lnTo>
                  <a:lnTo>
                    <a:pt x="2580" y="665"/>
                  </a:lnTo>
                  <a:lnTo>
                    <a:pt x="2613" y="677"/>
                  </a:lnTo>
                  <a:lnTo>
                    <a:pt x="2649" y="685"/>
                  </a:lnTo>
                  <a:lnTo>
                    <a:pt x="2793" y="698"/>
                  </a:lnTo>
                  <a:lnTo>
                    <a:pt x="2844" y="708"/>
                  </a:lnTo>
                  <a:lnTo>
                    <a:pt x="2864" y="728"/>
                  </a:lnTo>
                  <a:lnTo>
                    <a:pt x="2870" y="801"/>
                  </a:lnTo>
                  <a:lnTo>
                    <a:pt x="2885" y="926"/>
                  </a:lnTo>
                  <a:lnTo>
                    <a:pt x="2902" y="1086"/>
                  </a:lnTo>
                  <a:lnTo>
                    <a:pt x="2921" y="1262"/>
                  </a:lnTo>
                  <a:lnTo>
                    <a:pt x="2941" y="1586"/>
                  </a:lnTo>
                  <a:lnTo>
                    <a:pt x="2936" y="1695"/>
                  </a:lnTo>
                  <a:lnTo>
                    <a:pt x="2928" y="1728"/>
                  </a:lnTo>
                  <a:lnTo>
                    <a:pt x="2921" y="1739"/>
                  </a:lnTo>
                  <a:lnTo>
                    <a:pt x="2914" y="1744"/>
                  </a:lnTo>
                  <a:lnTo>
                    <a:pt x="2817" y="1759"/>
                  </a:lnTo>
                  <a:lnTo>
                    <a:pt x="2749" y="1779"/>
                  </a:lnTo>
                  <a:lnTo>
                    <a:pt x="2703" y="1804"/>
                  </a:lnTo>
                  <a:lnTo>
                    <a:pt x="2665" y="1832"/>
                  </a:lnTo>
                  <a:lnTo>
                    <a:pt x="2640" y="1873"/>
                  </a:lnTo>
                  <a:lnTo>
                    <a:pt x="2633" y="1936"/>
                  </a:lnTo>
                  <a:lnTo>
                    <a:pt x="2645" y="2011"/>
                  </a:lnTo>
                  <a:lnTo>
                    <a:pt x="2657" y="2049"/>
                  </a:lnTo>
                  <a:lnTo>
                    <a:pt x="2675" y="2089"/>
                  </a:lnTo>
                  <a:lnTo>
                    <a:pt x="2680" y="2130"/>
                  </a:lnTo>
                  <a:lnTo>
                    <a:pt x="2671" y="2146"/>
                  </a:lnTo>
                  <a:lnTo>
                    <a:pt x="2656" y="2161"/>
                  </a:lnTo>
                  <a:lnTo>
                    <a:pt x="2635" y="2173"/>
                  </a:lnTo>
                  <a:lnTo>
                    <a:pt x="2609" y="2182"/>
                  </a:lnTo>
                  <a:lnTo>
                    <a:pt x="2548" y="2197"/>
                  </a:lnTo>
                  <a:lnTo>
                    <a:pt x="2412" y="2209"/>
                  </a:lnTo>
                  <a:lnTo>
                    <a:pt x="2305" y="2209"/>
                  </a:lnTo>
                  <a:lnTo>
                    <a:pt x="2069" y="2188"/>
                  </a:lnTo>
                  <a:lnTo>
                    <a:pt x="1950" y="2169"/>
                  </a:lnTo>
                  <a:lnTo>
                    <a:pt x="1833" y="2148"/>
                  </a:lnTo>
                  <a:lnTo>
                    <a:pt x="1715" y="2122"/>
                  </a:lnTo>
                  <a:lnTo>
                    <a:pt x="1655" y="2110"/>
                  </a:lnTo>
                  <a:lnTo>
                    <a:pt x="1595" y="2097"/>
                  </a:lnTo>
                  <a:lnTo>
                    <a:pt x="1536" y="2084"/>
                  </a:lnTo>
                  <a:lnTo>
                    <a:pt x="1476" y="2069"/>
                  </a:lnTo>
                  <a:lnTo>
                    <a:pt x="1418" y="2056"/>
                  </a:lnTo>
                  <a:lnTo>
                    <a:pt x="1358" y="2044"/>
                  </a:lnTo>
                  <a:lnTo>
                    <a:pt x="1299" y="2031"/>
                  </a:lnTo>
                  <a:lnTo>
                    <a:pt x="1239" y="2019"/>
                  </a:lnTo>
                  <a:lnTo>
                    <a:pt x="1121" y="1996"/>
                  </a:lnTo>
                  <a:lnTo>
                    <a:pt x="1002" y="1979"/>
                  </a:lnTo>
                  <a:lnTo>
                    <a:pt x="884" y="1965"/>
                  </a:lnTo>
                  <a:lnTo>
                    <a:pt x="648" y="1957"/>
                  </a:lnTo>
                  <a:lnTo>
                    <a:pt x="414" y="1981"/>
                  </a:lnTo>
                  <a:lnTo>
                    <a:pt x="402" y="1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0"/>
            <p:cNvSpPr/>
            <p:nvPr/>
          </p:nvSpPr>
          <p:spPr>
            <a:xfrm rot="5201400">
              <a:off x="1964520" y="5572800"/>
              <a:ext cx="41040" cy="29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6" h="276">
                  <a:moveTo>
                    <a:pt x="0" y="139"/>
                  </a:moveTo>
                  <a:lnTo>
                    <a:pt x="11" y="84"/>
                  </a:lnTo>
                  <a:lnTo>
                    <a:pt x="24" y="61"/>
                  </a:lnTo>
                  <a:lnTo>
                    <a:pt x="40" y="40"/>
                  </a:lnTo>
                  <a:lnTo>
                    <a:pt x="62" y="24"/>
                  </a:lnTo>
                  <a:lnTo>
                    <a:pt x="84" y="11"/>
                  </a:lnTo>
                  <a:lnTo>
                    <a:pt x="139" y="0"/>
                  </a:lnTo>
                  <a:lnTo>
                    <a:pt x="192" y="11"/>
                  </a:lnTo>
                  <a:lnTo>
                    <a:pt x="236" y="40"/>
                  </a:lnTo>
                  <a:lnTo>
                    <a:pt x="265" y="84"/>
                  </a:lnTo>
                  <a:lnTo>
                    <a:pt x="276" y="139"/>
                  </a:lnTo>
                  <a:lnTo>
                    <a:pt x="265" y="192"/>
                  </a:lnTo>
                  <a:lnTo>
                    <a:pt x="252" y="215"/>
                  </a:lnTo>
                  <a:lnTo>
                    <a:pt x="236" y="236"/>
                  </a:lnTo>
                  <a:lnTo>
                    <a:pt x="215" y="252"/>
                  </a:lnTo>
                  <a:lnTo>
                    <a:pt x="192" y="265"/>
                  </a:lnTo>
                  <a:lnTo>
                    <a:pt x="139" y="276"/>
                  </a:lnTo>
                  <a:lnTo>
                    <a:pt x="84" y="265"/>
                  </a:lnTo>
                  <a:lnTo>
                    <a:pt x="40" y="236"/>
                  </a:lnTo>
                  <a:lnTo>
                    <a:pt x="11" y="192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1"/>
            <p:cNvSpPr/>
            <p:nvPr/>
          </p:nvSpPr>
          <p:spPr>
            <a:xfrm rot="5201400">
              <a:off x="1940400" y="5104440"/>
              <a:ext cx="45360" cy="33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04" h="305">
                  <a:moveTo>
                    <a:pt x="0" y="152"/>
                  </a:moveTo>
                  <a:lnTo>
                    <a:pt x="3" y="121"/>
                  </a:lnTo>
                  <a:lnTo>
                    <a:pt x="12" y="93"/>
                  </a:lnTo>
                  <a:lnTo>
                    <a:pt x="26" y="67"/>
                  </a:lnTo>
                  <a:lnTo>
                    <a:pt x="35" y="56"/>
                  </a:lnTo>
                  <a:lnTo>
                    <a:pt x="44" y="44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52" y="0"/>
                  </a:lnTo>
                  <a:lnTo>
                    <a:pt x="212" y="12"/>
                  </a:lnTo>
                  <a:lnTo>
                    <a:pt x="260" y="44"/>
                  </a:lnTo>
                  <a:lnTo>
                    <a:pt x="292" y="93"/>
                  </a:lnTo>
                  <a:lnTo>
                    <a:pt x="304" y="152"/>
                  </a:lnTo>
                  <a:lnTo>
                    <a:pt x="301" y="183"/>
                  </a:lnTo>
                  <a:lnTo>
                    <a:pt x="292" y="212"/>
                  </a:lnTo>
                  <a:lnTo>
                    <a:pt x="279" y="237"/>
                  </a:lnTo>
                  <a:lnTo>
                    <a:pt x="269" y="249"/>
                  </a:lnTo>
                  <a:lnTo>
                    <a:pt x="260" y="260"/>
                  </a:lnTo>
                  <a:lnTo>
                    <a:pt x="237" y="279"/>
                  </a:lnTo>
                  <a:lnTo>
                    <a:pt x="212" y="293"/>
                  </a:lnTo>
                  <a:lnTo>
                    <a:pt x="152" y="305"/>
                  </a:lnTo>
                  <a:lnTo>
                    <a:pt x="94" y="293"/>
                  </a:lnTo>
                  <a:lnTo>
                    <a:pt x="44" y="260"/>
                  </a:lnTo>
                  <a:lnTo>
                    <a:pt x="12" y="21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92"/>
            <p:cNvSpPr/>
            <p:nvPr/>
          </p:nvSpPr>
          <p:spPr>
            <a:xfrm rot="5201400">
              <a:off x="2019240" y="5157720"/>
              <a:ext cx="79920" cy="698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5" h="627">
                  <a:moveTo>
                    <a:pt x="422" y="348"/>
                  </a:moveTo>
                  <a:lnTo>
                    <a:pt x="463" y="357"/>
                  </a:lnTo>
                  <a:lnTo>
                    <a:pt x="495" y="378"/>
                  </a:lnTo>
                  <a:lnTo>
                    <a:pt x="518" y="406"/>
                  </a:lnTo>
                  <a:lnTo>
                    <a:pt x="531" y="441"/>
                  </a:lnTo>
                  <a:lnTo>
                    <a:pt x="535" y="478"/>
                  </a:lnTo>
                  <a:lnTo>
                    <a:pt x="527" y="516"/>
                  </a:lnTo>
                  <a:lnTo>
                    <a:pt x="518" y="533"/>
                  </a:lnTo>
                  <a:lnTo>
                    <a:pt x="507" y="550"/>
                  </a:lnTo>
                  <a:lnTo>
                    <a:pt x="492" y="566"/>
                  </a:lnTo>
                  <a:lnTo>
                    <a:pt x="475" y="580"/>
                  </a:lnTo>
                  <a:lnTo>
                    <a:pt x="455" y="590"/>
                  </a:lnTo>
                  <a:lnTo>
                    <a:pt x="434" y="601"/>
                  </a:lnTo>
                  <a:lnTo>
                    <a:pt x="387" y="618"/>
                  </a:lnTo>
                  <a:lnTo>
                    <a:pt x="336" y="627"/>
                  </a:lnTo>
                  <a:lnTo>
                    <a:pt x="287" y="627"/>
                  </a:lnTo>
                  <a:lnTo>
                    <a:pt x="242" y="617"/>
                  </a:lnTo>
                  <a:lnTo>
                    <a:pt x="205" y="593"/>
                  </a:lnTo>
                  <a:lnTo>
                    <a:pt x="181" y="556"/>
                  </a:lnTo>
                  <a:lnTo>
                    <a:pt x="171" y="502"/>
                  </a:lnTo>
                  <a:lnTo>
                    <a:pt x="175" y="437"/>
                  </a:lnTo>
                  <a:lnTo>
                    <a:pt x="183" y="373"/>
                  </a:lnTo>
                  <a:lnTo>
                    <a:pt x="194" y="309"/>
                  </a:lnTo>
                  <a:lnTo>
                    <a:pt x="206" y="246"/>
                  </a:lnTo>
                  <a:lnTo>
                    <a:pt x="165" y="270"/>
                  </a:lnTo>
                  <a:lnTo>
                    <a:pt x="137" y="297"/>
                  </a:lnTo>
                  <a:lnTo>
                    <a:pt x="114" y="328"/>
                  </a:lnTo>
                  <a:lnTo>
                    <a:pt x="89" y="366"/>
                  </a:lnTo>
                  <a:lnTo>
                    <a:pt x="73" y="384"/>
                  </a:lnTo>
                  <a:lnTo>
                    <a:pt x="57" y="393"/>
                  </a:lnTo>
                  <a:lnTo>
                    <a:pt x="24" y="393"/>
                  </a:lnTo>
                  <a:lnTo>
                    <a:pt x="1" y="369"/>
                  </a:lnTo>
                  <a:lnTo>
                    <a:pt x="0" y="326"/>
                  </a:lnTo>
                  <a:lnTo>
                    <a:pt x="8" y="301"/>
                  </a:lnTo>
                  <a:lnTo>
                    <a:pt x="18" y="274"/>
                  </a:lnTo>
                  <a:lnTo>
                    <a:pt x="29" y="250"/>
                  </a:lnTo>
                  <a:lnTo>
                    <a:pt x="41" y="227"/>
                  </a:lnTo>
                  <a:lnTo>
                    <a:pt x="54" y="203"/>
                  </a:lnTo>
                  <a:lnTo>
                    <a:pt x="69" y="181"/>
                  </a:lnTo>
                  <a:lnTo>
                    <a:pt x="85" y="160"/>
                  </a:lnTo>
                  <a:lnTo>
                    <a:pt x="101" y="140"/>
                  </a:lnTo>
                  <a:lnTo>
                    <a:pt x="118" y="120"/>
                  </a:lnTo>
                  <a:lnTo>
                    <a:pt x="135" y="103"/>
                  </a:lnTo>
                  <a:lnTo>
                    <a:pt x="153" y="87"/>
                  </a:lnTo>
                  <a:lnTo>
                    <a:pt x="171" y="71"/>
                  </a:lnTo>
                  <a:lnTo>
                    <a:pt x="189" y="57"/>
                  </a:lnTo>
                  <a:lnTo>
                    <a:pt x="207" y="44"/>
                  </a:lnTo>
                  <a:lnTo>
                    <a:pt x="245" y="24"/>
                  </a:lnTo>
                  <a:lnTo>
                    <a:pt x="281" y="8"/>
                  </a:lnTo>
                  <a:lnTo>
                    <a:pt x="314" y="0"/>
                  </a:lnTo>
                  <a:lnTo>
                    <a:pt x="372" y="5"/>
                  </a:lnTo>
                  <a:lnTo>
                    <a:pt x="414" y="40"/>
                  </a:lnTo>
                  <a:lnTo>
                    <a:pt x="428" y="109"/>
                  </a:lnTo>
                  <a:lnTo>
                    <a:pt x="422" y="348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3"/>
            <p:cNvSpPr/>
            <p:nvPr/>
          </p:nvSpPr>
          <p:spPr>
            <a:xfrm rot="5201400">
              <a:off x="2003760" y="5445000"/>
              <a:ext cx="121320" cy="60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w="814" h="549">
                  <a:moveTo>
                    <a:pt x="204" y="328"/>
                  </a:moveTo>
                  <a:lnTo>
                    <a:pt x="184" y="355"/>
                  </a:lnTo>
                  <a:lnTo>
                    <a:pt x="167" y="381"/>
                  </a:lnTo>
                  <a:lnTo>
                    <a:pt x="148" y="408"/>
                  </a:lnTo>
                  <a:lnTo>
                    <a:pt x="139" y="421"/>
                  </a:lnTo>
                  <a:lnTo>
                    <a:pt x="129" y="435"/>
                  </a:lnTo>
                  <a:lnTo>
                    <a:pt x="116" y="447"/>
                  </a:lnTo>
                  <a:lnTo>
                    <a:pt x="104" y="456"/>
                  </a:lnTo>
                  <a:lnTo>
                    <a:pt x="77" y="466"/>
                  </a:lnTo>
                  <a:lnTo>
                    <a:pt x="30" y="458"/>
                  </a:lnTo>
                  <a:lnTo>
                    <a:pt x="2" y="419"/>
                  </a:lnTo>
                  <a:lnTo>
                    <a:pt x="0" y="391"/>
                  </a:lnTo>
                  <a:lnTo>
                    <a:pt x="8" y="357"/>
                  </a:lnTo>
                  <a:lnTo>
                    <a:pt x="27" y="312"/>
                  </a:lnTo>
                  <a:lnTo>
                    <a:pt x="39" y="287"/>
                  </a:lnTo>
                  <a:lnTo>
                    <a:pt x="51" y="261"/>
                  </a:lnTo>
                  <a:lnTo>
                    <a:pt x="64" y="236"/>
                  </a:lnTo>
                  <a:lnTo>
                    <a:pt x="77" y="211"/>
                  </a:lnTo>
                  <a:lnTo>
                    <a:pt x="92" y="185"/>
                  </a:lnTo>
                  <a:lnTo>
                    <a:pt x="108" y="160"/>
                  </a:lnTo>
                  <a:lnTo>
                    <a:pt x="124" y="136"/>
                  </a:lnTo>
                  <a:lnTo>
                    <a:pt x="141" y="112"/>
                  </a:lnTo>
                  <a:lnTo>
                    <a:pt x="160" y="91"/>
                  </a:lnTo>
                  <a:lnTo>
                    <a:pt x="179" y="71"/>
                  </a:lnTo>
                  <a:lnTo>
                    <a:pt x="199" y="52"/>
                  </a:lnTo>
                  <a:lnTo>
                    <a:pt x="220" y="36"/>
                  </a:lnTo>
                  <a:lnTo>
                    <a:pt x="241" y="23"/>
                  </a:lnTo>
                  <a:lnTo>
                    <a:pt x="264" y="14"/>
                  </a:lnTo>
                  <a:lnTo>
                    <a:pt x="320" y="0"/>
                  </a:lnTo>
                  <a:lnTo>
                    <a:pt x="364" y="8"/>
                  </a:lnTo>
                  <a:lnTo>
                    <a:pt x="396" y="39"/>
                  </a:lnTo>
                  <a:lnTo>
                    <a:pt x="418" y="92"/>
                  </a:lnTo>
                  <a:lnTo>
                    <a:pt x="434" y="156"/>
                  </a:lnTo>
                  <a:lnTo>
                    <a:pt x="448" y="219"/>
                  </a:lnTo>
                  <a:lnTo>
                    <a:pt x="462" y="285"/>
                  </a:lnTo>
                  <a:lnTo>
                    <a:pt x="497" y="273"/>
                  </a:lnTo>
                  <a:lnTo>
                    <a:pt x="541" y="267"/>
                  </a:lnTo>
                  <a:lnTo>
                    <a:pt x="639" y="268"/>
                  </a:lnTo>
                  <a:lnTo>
                    <a:pt x="734" y="291"/>
                  </a:lnTo>
                  <a:lnTo>
                    <a:pt x="770" y="312"/>
                  </a:lnTo>
                  <a:lnTo>
                    <a:pt x="795" y="339"/>
                  </a:lnTo>
                  <a:lnTo>
                    <a:pt x="813" y="385"/>
                  </a:lnTo>
                  <a:lnTo>
                    <a:pt x="814" y="431"/>
                  </a:lnTo>
                  <a:lnTo>
                    <a:pt x="809" y="452"/>
                  </a:lnTo>
                  <a:lnTo>
                    <a:pt x="799" y="470"/>
                  </a:lnTo>
                  <a:lnTo>
                    <a:pt x="787" y="488"/>
                  </a:lnTo>
                  <a:lnTo>
                    <a:pt x="773" y="502"/>
                  </a:lnTo>
                  <a:lnTo>
                    <a:pt x="754" y="513"/>
                  </a:lnTo>
                  <a:lnTo>
                    <a:pt x="734" y="521"/>
                  </a:lnTo>
                  <a:lnTo>
                    <a:pt x="687" y="524"/>
                  </a:lnTo>
                  <a:lnTo>
                    <a:pt x="633" y="508"/>
                  </a:lnTo>
                  <a:lnTo>
                    <a:pt x="603" y="490"/>
                  </a:lnTo>
                  <a:lnTo>
                    <a:pt x="573" y="468"/>
                  </a:lnTo>
                  <a:lnTo>
                    <a:pt x="552" y="466"/>
                  </a:lnTo>
                  <a:lnTo>
                    <a:pt x="529" y="489"/>
                  </a:lnTo>
                  <a:lnTo>
                    <a:pt x="517" y="505"/>
                  </a:lnTo>
                  <a:lnTo>
                    <a:pt x="502" y="521"/>
                  </a:lnTo>
                  <a:lnTo>
                    <a:pt x="488" y="533"/>
                  </a:lnTo>
                  <a:lnTo>
                    <a:pt x="470" y="541"/>
                  </a:lnTo>
                  <a:lnTo>
                    <a:pt x="417" y="549"/>
                  </a:lnTo>
                  <a:lnTo>
                    <a:pt x="366" y="545"/>
                  </a:lnTo>
                  <a:lnTo>
                    <a:pt x="321" y="530"/>
                  </a:lnTo>
                  <a:lnTo>
                    <a:pt x="283" y="505"/>
                  </a:lnTo>
                  <a:lnTo>
                    <a:pt x="265" y="489"/>
                  </a:lnTo>
                  <a:lnTo>
                    <a:pt x="251" y="470"/>
                  </a:lnTo>
                  <a:lnTo>
                    <a:pt x="225" y="429"/>
                  </a:lnTo>
                  <a:lnTo>
                    <a:pt x="209" y="381"/>
                  </a:lnTo>
                  <a:lnTo>
                    <a:pt x="204" y="328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4"/>
            <p:cNvSpPr/>
            <p:nvPr/>
          </p:nvSpPr>
          <p:spPr>
            <a:xfrm rot="5201400">
              <a:off x="2039760" y="5274360"/>
              <a:ext cx="61920" cy="1108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14" h="998">
                  <a:moveTo>
                    <a:pt x="180" y="31"/>
                  </a:moveTo>
                  <a:lnTo>
                    <a:pt x="181" y="114"/>
                  </a:lnTo>
                  <a:lnTo>
                    <a:pt x="253" y="140"/>
                  </a:lnTo>
                  <a:lnTo>
                    <a:pt x="288" y="158"/>
                  </a:lnTo>
                  <a:lnTo>
                    <a:pt x="319" y="182"/>
                  </a:lnTo>
                  <a:lnTo>
                    <a:pt x="344" y="208"/>
                  </a:lnTo>
                  <a:lnTo>
                    <a:pt x="364" y="236"/>
                  </a:lnTo>
                  <a:lnTo>
                    <a:pt x="381" y="293"/>
                  </a:lnTo>
                  <a:lnTo>
                    <a:pt x="373" y="317"/>
                  </a:lnTo>
                  <a:lnTo>
                    <a:pt x="354" y="326"/>
                  </a:lnTo>
                  <a:lnTo>
                    <a:pt x="335" y="320"/>
                  </a:lnTo>
                  <a:lnTo>
                    <a:pt x="320" y="297"/>
                  </a:lnTo>
                  <a:lnTo>
                    <a:pt x="312" y="277"/>
                  </a:lnTo>
                  <a:lnTo>
                    <a:pt x="299" y="254"/>
                  </a:lnTo>
                  <a:lnTo>
                    <a:pt x="289" y="242"/>
                  </a:lnTo>
                  <a:lnTo>
                    <a:pt x="280" y="230"/>
                  </a:lnTo>
                  <a:lnTo>
                    <a:pt x="259" y="208"/>
                  </a:lnTo>
                  <a:lnTo>
                    <a:pt x="236" y="188"/>
                  </a:lnTo>
                  <a:lnTo>
                    <a:pt x="212" y="170"/>
                  </a:lnTo>
                  <a:lnTo>
                    <a:pt x="187" y="160"/>
                  </a:lnTo>
                  <a:lnTo>
                    <a:pt x="163" y="154"/>
                  </a:lnTo>
                  <a:lnTo>
                    <a:pt x="145" y="156"/>
                  </a:lnTo>
                  <a:lnTo>
                    <a:pt x="124" y="166"/>
                  </a:lnTo>
                  <a:lnTo>
                    <a:pt x="105" y="190"/>
                  </a:lnTo>
                  <a:lnTo>
                    <a:pt x="101" y="230"/>
                  </a:lnTo>
                  <a:lnTo>
                    <a:pt x="109" y="253"/>
                  </a:lnTo>
                  <a:lnTo>
                    <a:pt x="121" y="277"/>
                  </a:lnTo>
                  <a:lnTo>
                    <a:pt x="140" y="301"/>
                  </a:lnTo>
                  <a:lnTo>
                    <a:pt x="149" y="314"/>
                  </a:lnTo>
                  <a:lnTo>
                    <a:pt x="160" y="326"/>
                  </a:lnTo>
                  <a:lnTo>
                    <a:pt x="172" y="340"/>
                  </a:lnTo>
                  <a:lnTo>
                    <a:pt x="184" y="353"/>
                  </a:lnTo>
                  <a:lnTo>
                    <a:pt x="197" y="365"/>
                  </a:lnTo>
                  <a:lnTo>
                    <a:pt x="211" y="378"/>
                  </a:lnTo>
                  <a:lnTo>
                    <a:pt x="224" y="392"/>
                  </a:lnTo>
                  <a:lnTo>
                    <a:pt x="237" y="405"/>
                  </a:lnTo>
                  <a:lnTo>
                    <a:pt x="265" y="430"/>
                  </a:lnTo>
                  <a:lnTo>
                    <a:pt x="292" y="455"/>
                  </a:lnTo>
                  <a:lnTo>
                    <a:pt x="317" y="479"/>
                  </a:lnTo>
                  <a:lnTo>
                    <a:pt x="340" y="502"/>
                  </a:lnTo>
                  <a:lnTo>
                    <a:pt x="360" y="523"/>
                  </a:lnTo>
                  <a:lnTo>
                    <a:pt x="388" y="562"/>
                  </a:lnTo>
                  <a:lnTo>
                    <a:pt x="405" y="609"/>
                  </a:lnTo>
                  <a:lnTo>
                    <a:pt x="414" y="663"/>
                  </a:lnTo>
                  <a:lnTo>
                    <a:pt x="414" y="722"/>
                  </a:lnTo>
                  <a:lnTo>
                    <a:pt x="404" y="779"/>
                  </a:lnTo>
                  <a:lnTo>
                    <a:pt x="396" y="807"/>
                  </a:lnTo>
                  <a:lnTo>
                    <a:pt x="384" y="832"/>
                  </a:lnTo>
                  <a:lnTo>
                    <a:pt x="370" y="856"/>
                  </a:lnTo>
                  <a:lnTo>
                    <a:pt x="353" y="878"/>
                  </a:lnTo>
                  <a:lnTo>
                    <a:pt x="335" y="895"/>
                  </a:lnTo>
                  <a:lnTo>
                    <a:pt x="312" y="908"/>
                  </a:lnTo>
                  <a:lnTo>
                    <a:pt x="287" y="919"/>
                  </a:lnTo>
                  <a:lnTo>
                    <a:pt x="259" y="924"/>
                  </a:lnTo>
                  <a:lnTo>
                    <a:pt x="228" y="923"/>
                  </a:lnTo>
                  <a:lnTo>
                    <a:pt x="232" y="964"/>
                  </a:lnTo>
                  <a:lnTo>
                    <a:pt x="224" y="988"/>
                  </a:lnTo>
                  <a:lnTo>
                    <a:pt x="204" y="998"/>
                  </a:lnTo>
                  <a:lnTo>
                    <a:pt x="183" y="991"/>
                  </a:lnTo>
                  <a:lnTo>
                    <a:pt x="172" y="968"/>
                  </a:lnTo>
                  <a:lnTo>
                    <a:pt x="159" y="899"/>
                  </a:lnTo>
                  <a:lnTo>
                    <a:pt x="127" y="875"/>
                  </a:lnTo>
                  <a:lnTo>
                    <a:pt x="112" y="860"/>
                  </a:lnTo>
                  <a:lnTo>
                    <a:pt x="97" y="844"/>
                  </a:lnTo>
                  <a:lnTo>
                    <a:pt x="84" y="828"/>
                  </a:lnTo>
                  <a:lnTo>
                    <a:pt x="72" y="812"/>
                  </a:lnTo>
                  <a:lnTo>
                    <a:pt x="51" y="779"/>
                  </a:lnTo>
                  <a:lnTo>
                    <a:pt x="34" y="749"/>
                  </a:lnTo>
                  <a:lnTo>
                    <a:pt x="19" y="721"/>
                  </a:lnTo>
                  <a:lnTo>
                    <a:pt x="3" y="685"/>
                  </a:lnTo>
                  <a:lnTo>
                    <a:pt x="0" y="659"/>
                  </a:lnTo>
                  <a:lnTo>
                    <a:pt x="12" y="642"/>
                  </a:lnTo>
                  <a:lnTo>
                    <a:pt x="32" y="638"/>
                  </a:lnTo>
                  <a:lnTo>
                    <a:pt x="55" y="653"/>
                  </a:lnTo>
                  <a:lnTo>
                    <a:pt x="82" y="703"/>
                  </a:lnTo>
                  <a:lnTo>
                    <a:pt x="96" y="737"/>
                  </a:lnTo>
                  <a:lnTo>
                    <a:pt x="115" y="773"/>
                  </a:lnTo>
                  <a:lnTo>
                    <a:pt x="139" y="804"/>
                  </a:lnTo>
                  <a:lnTo>
                    <a:pt x="153" y="819"/>
                  </a:lnTo>
                  <a:lnTo>
                    <a:pt x="169" y="831"/>
                  </a:lnTo>
                  <a:lnTo>
                    <a:pt x="207" y="846"/>
                  </a:lnTo>
                  <a:lnTo>
                    <a:pt x="255" y="846"/>
                  </a:lnTo>
                  <a:lnTo>
                    <a:pt x="280" y="834"/>
                  </a:lnTo>
                  <a:lnTo>
                    <a:pt x="293" y="812"/>
                  </a:lnTo>
                  <a:lnTo>
                    <a:pt x="289" y="750"/>
                  </a:lnTo>
                  <a:lnTo>
                    <a:pt x="280" y="715"/>
                  </a:lnTo>
                  <a:lnTo>
                    <a:pt x="267" y="683"/>
                  </a:lnTo>
                  <a:lnTo>
                    <a:pt x="253" y="657"/>
                  </a:lnTo>
                  <a:lnTo>
                    <a:pt x="244" y="637"/>
                  </a:lnTo>
                  <a:lnTo>
                    <a:pt x="225" y="607"/>
                  </a:lnTo>
                  <a:lnTo>
                    <a:pt x="215" y="593"/>
                  </a:lnTo>
                  <a:lnTo>
                    <a:pt x="204" y="581"/>
                  </a:lnTo>
                  <a:lnTo>
                    <a:pt x="192" y="567"/>
                  </a:lnTo>
                  <a:lnTo>
                    <a:pt x="180" y="555"/>
                  </a:lnTo>
                  <a:lnTo>
                    <a:pt x="155" y="533"/>
                  </a:lnTo>
                  <a:lnTo>
                    <a:pt x="128" y="510"/>
                  </a:lnTo>
                  <a:lnTo>
                    <a:pt x="103" y="489"/>
                  </a:lnTo>
                  <a:lnTo>
                    <a:pt x="79" y="467"/>
                  </a:lnTo>
                  <a:lnTo>
                    <a:pt x="56" y="445"/>
                  </a:lnTo>
                  <a:lnTo>
                    <a:pt x="20" y="396"/>
                  </a:lnTo>
                  <a:lnTo>
                    <a:pt x="3" y="336"/>
                  </a:lnTo>
                  <a:lnTo>
                    <a:pt x="11" y="258"/>
                  </a:lnTo>
                  <a:lnTo>
                    <a:pt x="27" y="213"/>
                  </a:lnTo>
                  <a:lnTo>
                    <a:pt x="39" y="189"/>
                  </a:lnTo>
                  <a:lnTo>
                    <a:pt x="52" y="162"/>
                  </a:lnTo>
                  <a:lnTo>
                    <a:pt x="64" y="144"/>
                  </a:lnTo>
                  <a:lnTo>
                    <a:pt x="82" y="129"/>
                  </a:lnTo>
                  <a:lnTo>
                    <a:pt x="120" y="113"/>
                  </a:lnTo>
                  <a:lnTo>
                    <a:pt x="119" y="31"/>
                  </a:lnTo>
                  <a:lnTo>
                    <a:pt x="128" y="7"/>
                  </a:lnTo>
                  <a:lnTo>
                    <a:pt x="149" y="0"/>
                  </a:lnTo>
                  <a:lnTo>
                    <a:pt x="171" y="7"/>
                  </a:lnTo>
                  <a:lnTo>
                    <a:pt x="1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95"/>
            <p:cNvSpPr/>
            <p:nvPr/>
          </p:nvSpPr>
          <p:spPr>
            <a:xfrm rot="5201400">
              <a:off x="1768680" y="5217480"/>
              <a:ext cx="549720" cy="27432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683" h="2468">
                  <a:moveTo>
                    <a:pt x="22" y="2187"/>
                  </a:moveTo>
                  <a:lnTo>
                    <a:pt x="77" y="2170"/>
                  </a:lnTo>
                  <a:lnTo>
                    <a:pt x="129" y="2155"/>
                  </a:lnTo>
                  <a:lnTo>
                    <a:pt x="177" y="2141"/>
                  </a:lnTo>
                  <a:lnTo>
                    <a:pt x="224" y="2127"/>
                  </a:lnTo>
                  <a:lnTo>
                    <a:pt x="272" y="2114"/>
                  </a:lnTo>
                  <a:lnTo>
                    <a:pt x="321" y="2101"/>
                  </a:lnTo>
                  <a:lnTo>
                    <a:pt x="373" y="2089"/>
                  </a:lnTo>
                  <a:lnTo>
                    <a:pt x="430" y="2077"/>
                  </a:lnTo>
                  <a:lnTo>
                    <a:pt x="553" y="2054"/>
                  </a:lnTo>
                  <a:lnTo>
                    <a:pt x="666" y="2035"/>
                  </a:lnTo>
                  <a:lnTo>
                    <a:pt x="774" y="2022"/>
                  </a:lnTo>
                  <a:lnTo>
                    <a:pt x="878" y="2013"/>
                  </a:lnTo>
                  <a:lnTo>
                    <a:pt x="1089" y="2015"/>
                  </a:lnTo>
                  <a:lnTo>
                    <a:pt x="1325" y="2045"/>
                  </a:lnTo>
                  <a:lnTo>
                    <a:pt x="1452" y="2069"/>
                  </a:lnTo>
                  <a:lnTo>
                    <a:pt x="1567" y="2094"/>
                  </a:lnTo>
                  <a:lnTo>
                    <a:pt x="1674" y="2119"/>
                  </a:lnTo>
                  <a:lnTo>
                    <a:pt x="1778" y="2146"/>
                  </a:lnTo>
                  <a:lnTo>
                    <a:pt x="1828" y="2159"/>
                  </a:lnTo>
                  <a:lnTo>
                    <a:pt x="1880" y="2173"/>
                  </a:lnTo>
                  <a:lnTo>
                    <a:pt x="1934" y="2186"/>
                  </a:lnTo>
                  <a:lnTo>
                    <a:pt x="1988" y="2201"/>
                  </a:lnTo>
                  <a:lnTo>
                    <a:pt x="2044" y="2214"/>
                  </a:lnTo>
                  <a:lnTo>
                    <a:pt x="2101" y="2229"/>
                  </a:lnTo>
                  <a:lnTo>
                    <a:pt x="2163" y="2242"/>
                  </a:lnTo>
                  <a:lnTo>
                    <a:pt x="2228" y="2257"/>
                  </a:lnTo>
                  <a:lnTo>
                    <a:pt x="2352" y="2278"/>
                  </a:lnTo>
                  <a:lnTo>
                    <a:pt x="2465" y="2297"/>
                  </a:lnTo>
                  <a:lnTo>
                    <a:pt x="2573" y="2310"/>
                  </a:lnTo>
                  <a:lnTo>
                    <a:pt x="2678" y="2315"/>
                  </a:lnTo>
                  <a:lnTo>
                    <a:pt x="2888" y="2303"/>
                  </a:lnTo>
                  <a:lnTo>
                    <a:pt x="3000" y="2282"/>
                  </a:lnTo>
                  <a:lnTo>
                    <a:pt x="3058" y="2267"/>
                  </a:lnTo>
                  <a:lnTo>
                    <a:pt x="3119" y="2249"/>
                  </a:lnTo>
                  <a:lnTo>
                    <a:pt x="3197" y="2221"/>
                  </a:lnTo>
                  <a:lnTo>
                    <a:pt x="3265" y="2193"/>
                  </a:lnTo>
                  <a:lnTo>
                    <a:pt x="3297" y="2178"/>
                  </a:lnTo>
                  <a:lnTo>
                    <a:pt x="3331" y="2162"/>
                  </a:lnTo>
                  <a:lnTo>
                    <a:pt x="3366" y="2145"/>
                  </a:lnTo>
                  <a:lnTo>
                    <a:pt x="3405" y="2126"/>
                  </a:lnTo>
                  <a:lnTo>
                    <a:pt x="3436" y="2111"/>
                  </a:lnTo>
                  <a:lnTo>
                    <a:pt x="3465" y="2097"/>
                  </a:lnTo>
                  <a:lnTo>
                    <a:pt x="3520" y="2071"/>
                  </a:lnTo>
                  <a:lnTo>
                    <a:pt x="3570" y="2043"/>
                  </a:lnTo>
                  <a:lnTo>
                    <a:pt x="3594" y="2027"/>
                  </a:lnTo>
                  <a:lnTo>
                    <a:pt x="3618" y="2010"/>
                  </a:lnTo>
                  <a:lnTo>
                    <a:pt x="3606" y="1938"/>
                  </a:lnTo>
                  <a:lnTo>
                    <a:pt x="3591" y="1850"/>
                  </a:lnTo>
                  <a:lnTo>
                    <a:pt x="3574" y="1753"/>
                  </a:lnTo>
                  <a:lnTo>
                    <a:pt x="3558" y="1646"/>
                  </a:lnTo>
                  <a:lnTo>
                    <a:pt x="3532" y="1401"/>
                  </a:lnTo>
                  <a:lnTo>
                    <a:pt x="3520" y="1155"/>
                  </a:lnTo>
                  <a:lnTo>
                    <a:pt x="3529" y="857"/>
                  </a:lnTo>
                  <a:lnTo>
                    <a:pt x="3541" y="593"/>
                  </a:lnTo>
                  <a:lnTo>
                    <a:pt x="3553" y="31"/>
                  </a:lnTo>
                  <a:lnTo>
                    <a:pt x="3562" y="8"/>
                  </a:lnTo>
                  <a:lnTo>
                    <a:pt x="3584" y="0"/>
                  </a:lnTo>
                  <a:lnTo>
                    <a:pt x="3605" y="8"/>
                  </a:lnTo>
                  <a:lnTo>
                    <a:pt x="3614" y="31"/>
                  </a:lnTo>
                  <a:lnTo>
                    <a:pt x="3621" y="593"/>
                  </a:lnTo>
                  <a:lnTo>
                    <a:pt x="3621" y="722"/>
                  </a:lnTo>
                  <a:lnTo>
                    <a:pt x="3622" y="755"/>
                  </a:lnTo>
                  <a:lnTo>
                    <a:pt x="3622" y="763"/>
                  </a:lnTo>
                  <a:lnTo>
                    <a:pt x="3622" y="767"/>
                  </a:lnTo>
                  <a:lnTo>
                    <a:pt x="3622" y="771"/>
                  </a:lnTo>
                  <a:lnTo>
                    <a:pt x="3622" y="775"/>
                  </a:lnTo>
                  <a:lnTo>
                    <a:pt x="3622" y="781"/>
                  </a:lnTo>
                  <a:lnTo>
                    <a:pt x="3622" y="789"/>
                  </a:lnTo>
                  <a:lnTo>
                    <a:pt x="3622" y="857"/>
                  </a:lnTo>
                  <a:lnTo>
                    <a:pt x="3617" y="1155"/>
                  </a:lnTo>
                  <a:lnTo>
                    <a:pt x="3629" y="1395"/>
                  </a:lnTo>
                  <a:lnTo>
                    <a:pt x="3639" y="1505"/>
                  </a:lnTo>
                  <a:lnTo>
                    <a:pt x="3654" y="1633"/>
                  </a:lnTo>
                  <a:lnTo>
                    <a:pt x="3679" y="1870"/>
                  </a:lnTo>
                  <a:lnTo>
                    <a:pt x="3683" y="1995"/>
                  </a:lnTo>
                  <a:lnTo>
                    <a:pt x="3675" y="2097"/>
                  </a:lnTo>
                  <a:lnTo>
                    <a:pt x="3667" y="2113"/>
                  </a:lnTo>
                  <a:lnTo>
                    <a:pt x="3655" y="2122"/>
                  </a:lnTo>
                  <a:lnTo>
                    <a:pt x="3627" y="2119"/>
                  </a:lnTo>
                  <a:lnTo>
                    <a:pt x="3611" y="2141"/>
                  </a:lnTo>
                  <a:lnTo>
                    <a:pt x="3597" y="2161"/>
                  </a:lnTo>
                  <a:lnTo>
                    <a:pt x="3580" y="2181"/>
                  </a:lnTo>
                  <a:lnTo>
                    <a:pt x="3562" y="2199"/>
                  </a:lnTo>
                  <a:lnTo>
                    <a:pt x="3542" y="2217"/>
                  </a:lnTo>
                  <a:lnTo>
                    <a:pt x="3522" y="2234"/>
                  </a:lnTo>
                  <a:lnTo>
                    <a:pt x="3498" y="2250"/>
                  </a:lnTo>
                  <a:lnTo>
                    <a:pt x="3472" y="2265"/>
                  </a:lnTo>
                  <a:lnTo>
                    <a:pt x="3430" y="2285"/>
                  </a:lnTo>
                  <a:lnTo>
                    <a:pt x="3392" y="2302"/>
                  </a:lnTo>
                  <a:lnTo>
                    <a:pt x="3356" y="2319"/>
                  </a:lnTo>
                  <a:lnTo>
                    <a:pt x="3321" y="2335"/>
                  </a:lnTo>
                  <a:lnTo>
                    <a:pt x="3287" y="2351"/>
                  </a:lnTo>
                  <a:lnTo>
                    <a:pt x="3249" y="2366"/>
                  </a:lnTo>
                  <a:lnTo>
                    <a:pt x="3209" y="2380"/>
                  </a:lnTo>
                  <a:lnTo>
                    <a:pt x="3165" y="2395"/>
                  </a:lnTo>
                  <a:lnTo>
                    <a:pt x="3100" y="2415"/>
                  </a:lnTo>
                  <a:lnTo>
                    <a:pt x="3036" y="2431"/>
                  </a:lnTo>
                  <a:lnTo>
                    <a:pt x="2975" y="2444"/>
                  </a:lnTo>
                  <a:lnTo>
                    <a:pt x="2915" y="2455"/>
                  </a:lnTo>
                  <a:lnTo>
                    <a:pt x="2799" y="2467"/>
                  </a:lnTo>
                  <a:lnTo>
                    <a:pt x="2686" y="2468"/>
                  </a:lnTo>
                  <a:lnTo>
                    <a:pt x="2456" y="2450"/>
                  </a:lnTo>
                  <a:lnTo>
                    <a:pt x="2332" y="2430"/>
                  </a:lnTo>
                  <a:lnTo>
                    <a:pt x="2199" y="2407"/>
                  </a:lnTo>
                  <a:lnTo>
                    <a:pt x="2135" y="2392"/>
                  </a:lnTo>
                  <a:lnTo>
                    <a:pt x="2073" y="2376"/>
                  </a:lnTo>
                  <a:lnTo>
                    <a:pt x="2015" y="2360"/>
                  </a:lnTo>
                  <a:lnTo>
                    <a:pt x="1960" y="2343"/>
                  </a:lnTo>
                  <a:lnTo>
                    <a:pt x="1907" y="2327"/>
                  </a:lnTo>
                  <a:lnTo>
                    <a:pt x="1855" y="2309"/>
                  </a:lnTo>
                  <a:lnTo>
                    <a:pt x="1805" y="2291"/>
                  </a:lnTo>
                  <a:lnTo>
                    <a:pt x="1754" y="2274"/>
                  </a:lnTo>
                  <a:lnTo>
                    <a:pt x="1703" y="2257"/>
                  </a:lnTo>
                  <a:lnTo>
                    <a:pt x="1651" y="2239"/>
                  </a:lnTo>
                  <a:lnTo>
                    <a:pt x="1599" y="2223"/>
                  </a:lnTo>
                  <a:lnTo>
                    <a:pt x="1546" y="2206"/>
                  </a:lnTo>
                  <a:lnTo>
                    <a:pt x="1490" y="2191"/>
                  </a:lnTo>
                  <a:lnTo>
                    <a:pt x="1433" y="2177"/>
                  </a:lnTo>
                  <a:lnTo>
                    <a:pt x="1372" y="2163"/>
                  </a:lnTo>
                  <a:lnTo>
                    <a:pt x="1307" y="2150"/>
                  </a:lnTo>
                  <a:lnTo>
                    <a:pt x="1188" y="2130"/>
                  </a:lnTo>
                  <a:lnTo>
                    <a:pt x="1079" y="2114"/>
                  </a:lnTo>
                  <a:lnTo>
                    <a:pt x="975" y="2103"/>
                  </a:lnTo>
                  <a:lnTo>
                    <a:pt x="874" y="2098"/>
                  </a:lnTo>
                  <a:lnTo>
                    <a:pt x="670" y="2103"/>
                  </a:lnTo>
                  <a:lnTo>
                    <a:pt x="442" y="2137"/>
                  </a:lnTo>
                  <a:lnTo>
                    <a:pt x="333" y="2161"/>
                  </a:lnTo>
                  <a:lnTo>
                    <a:pt x="239" y="2186"/>
                  </a:lnTo>
                  <a:lnTo>
                    <a:pt x="192" y="2201"/>
                  </a:lnTo>
                  <a:lnTo>
                    <a:pt x="144" y="2214"/>
                  </a:lnTo>
                  <a:lnTo>
                    <a:pt x="93" y="2230"/>
                  </a:lnTo>
                  <a:lnTo>
                    <a:pt x="38" y="2246"/>
                  </a:lnTo>
                  <a:lnTo>
                    <a:pt x="14" y="2243"/>
                  </a:lnTo>
                  <a:lnTo>
                    <a:pt x="0" y="2225"/>
                  </a:lnTo>
                  <a:lnTo>
                    <a:pt x="2" y="2202"/>
                  </a:lnTo>
                  <a:lnTo>
                    <a:pt x="8" y="2193"/>
                  </a:lnTo>
                  <a:lnTo>
                    <a:pt x="22" y="2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96"/>
          <p:cNvGrpSpPr/>
          <p:nvPr/>
        </p:nvGrpSpPr>
        <p:grpSpPr>
          <a:xfrm>
            <a:off x="968040" y="3957840"/>
            <a:ext cx="1662120" cy="1326240"/>
            <a:chOff x="968040" y="3957840"/>
            <a:chExt cx="1662120" cy="1326240"/>
          </a:xfrm>
        </p:grpSpPr>
        <p:sp>
          <p:nvSpPr>
            <p:cNvPr id="532" name="Freeform 97"/>
            <p:cNvSpPr/>
            <p:nvPr/>
          </p:nvSpPr>
          <p:spPr>
            <a:xfrm rot="8488200">
              <a:off x="1067400" y="4295880"/>
              <a:ext cx="1128600" cy="71424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889" h="1612">
                  <a:moveTo>
                    <a:pt x="19" y="344"/>
                  </a:moveTo>
                  <a:lnTo>
                    <a:pt x="206" y="101"/>
                  </a:lnTo>
                  <a:lnTo>
                    <a:pt x="738" y="0"/>
                  </a:lnTo>
                  <a:lnTo>
                    <a:pt x="1375" y="104"/>
                  </a:lnTo>
                  <a:lnTo>
                    <a:pt x="1912" y="104"/>
                  </a:lnTo>
                  <a:lnTo>
                    <a:pt x="2203" y="382"/>
                  </a:lnTo>
                  <a:lnTo>
                    <a:pt x="2348" y="262"/>
                  </a:lnTo>
                  <a:lnTo>
                    <a:pt x="2515" y="268"/>
                  </a:lnTo>
                  <a:lnTo>
                    <a:pt x="2659" y="350"/>
                  </a:lnTo>
                  <a:lnTo>
                    <a:pt x="2511" y="469"/>
                  </a:lnTo>
                  <a:lnTo>
                    <a:pt x="2386" y="551"/>
                  </a:lnTo>
                  <a:lnTo>
                    <a:pt x="2505" y="686"/>
                  </a:lnTo>
                  <a:lnTo>
                    <a:pt x="2880" y="844"/>
                  </a:lnTo>
                  <a:lnTo>
                    <a:pt x="2889" y="1021"/>
                  </a:lnTo>
                  <a:lnTo>
                    <a:pt x="2471" y="1064"/>
                  </a:lnTo>
                  <a:lnTo>
                    <a:pt x="2184" y="1194"/>
                  </a:lnTo>
                  <a:lnTo>
                    <a:pt x="1774" y="1190"/>
                  </a:lnTo>
                  <a:lnTo>
                    <a:pt x="1639" y="1612"/>
                  </a:lnTo>
                  <a:lnTo>
                    <a:pt x="1494" y="1175"/>
                  </a:lnTo>
                  <a:lnTo>
                    <a:pt x="652" y="1232"/>
                  </a:lnTo>
                  <a:lnTo>
                    <a:pt x="432" y="1564"/>
                  </a:lnTo>
                  <a:lnTo>
                    <a:pt x="234" y="1074"/>
                  </a:lnTo>
                  <a:lnTo>
                    <a:pt x="0" y="806"/>
                  </a:lnTo>
                  <a:lnTo>
                    <a:pt x="19" y="34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98"/>
            <p:cNvSpPr/>
            <p:nvPr/>
          </p:nvSpPr>
          <p:spPr>
            <a:xfrm rot="8488200">
              <a:off x="2158200" y="4278240"/>
              <a:ext cx="308160" cy="2462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787" h="555">
                  <a:moveTo>
                    <a:pt x="787" y="259"/>
                  </a:moveTo>
                  <a:lnTo>
                    <a:pt x="778" y="245"/>
                  </a:lnTo>
                  <a:lnTo>
                    <a:pt x="749" y="213"/>
                  </a:lnTo>
                  <a:lnTo>
                    <a:pt x="730" y="192"/>
                  </a:lnTo>
                  <a:lnTo>
                    <a:pt x="706" y="167"/>
                  </a:lnTo>
                  <a:lnTo>
                    <a:pt x="679" y="143"/>
                  </a:lnTo>
                  <a:lnTo>
                    <a:pt x="649" y="116"/>
                  </a:lnTo>
                  <a:lnTo>
                    <a:pt x="616" y="91"/>
                  </a:lnTo>
                  <a:lnTo>
                    <a:pt x="599" y="80"/>
                  </a:lnTo>
                  <a:lnTo>
                    <a:pt x="582" y="67"/>
                  </a:lnTo>
                  <a:lnTo>
                    <a:pt x="563" y="55"/>
                  </a:lnTo>
                  <a:lnTo>
                    <a:pt x="544" y="46"/>
                  </a:lnTo>
                  <a:lnTo>
                    <a:pt x="525" y="36"/>
                  </a:lnTo>
                  <a:lnTo>
                    <a:pt x="506" y="27"/>
                  </a:lnTo>
                  <a:lnTo>
                    <a:pt x="485" y="19"/>
                  </a:lnTo>
                  <a:lnTo>
                    <a:pt x="464" y="13"/>
                  </a:lnTo>
                  <a:lnTo>
                    <a:pt x="424" y="4"/>
                  </a:lnTo>
                  <a:lnTo>
                    <a:pt x="382" y="0"/>
                  </a:lnTo>
                  <a:lnTo>
                    <a:pt x="339" y="2"/>
                  </a:lnTo>
                  <a:lnTo>
                    <a:pt x="297" y="12"/>
                  </a:lnTo>
                  <a:lnTo>
                    <a:pt x="255" y="25"/>
                  </a:lnTo>
                  <a:lnTo>
                    <a:pt x="234" y="34"/>
                  </a:lnTo>
                  <a:lnTo>
                    <a:pt x="215" y="42"/>
                  </a:lnTo>
                  <a:lnTo>
                    <a:pt x="194" y="53"/>
                  </a:lnTo>
                  <a:lnTo>
                    <a:pt x="175" y="63"/>
                  </a:lnTo>
                  <a:lnTo>
                    <a:pt x="158" y="76"/>
                  </a:lnTo>
                  <a:lnTo>
                    <a:pt x="139" y="88"/>
                  </a:lnTo>
                  <a:lnTo>
                    <a:pt x="107" y="114"/>
                  </a:lnTo>
                  <a:lnTo>
                    <a:pt x="76" y="145"/>
                  </a:lnTo>
                  <a:lnTo>
                    <a:pt x="52" y="175"/>
                  </a:lnTo>
                  <a:lnTo>
                    <a:pt x="31" y="209"/>
                  </a:lnTo>
                  <a:lnTo>
                    <a:pt x="14" y="243"/>
                  </a:lnTo>
                  <a:lnTo>
                    <a:pt x="0" y="316"/>
                  </a:lnTo>
                  <a:lnTo>
                    <a:pt x="2" y="352"/>
                  </a:lnTo>
                  <a:lnTo>
                    <a:pt x="14" y="388"/>
                  </a:lnTo>
                  <a:lnTo>
                    <a:pt x="21" y="407"/>
                  </a:lnTo>
                  <a:lnTo>
                    <a:pt x="33" y="424"/>
                  </a:lnTo>
                  <a:lnTo>
                    <a:pt x="59" y="458"/>
                  </a:lnTo>
                  <a:lnTo>
                    <a:pt x="90" y="489"/>
                  </a:lnTo>
                  <a:lnTo>
                    <a:pt x="120" y="513"/>
                  </a:lnTo>
                  <a:lnTo>
                    <a:pt x="135" y="523"/>
                  </a:lnTo>
                  <a:lnTo>
                    <a:pt x="151" y="532"/>
                  </a:lnTo>
                  <a:lnTo>
                    <a:pt x="164" y="538"/>
                  </a:lnTo>
                  <a:lnTo>
                    <a:pt x="179" y="544"/>
                  </a:lnTo>
                  <a:lnTo>
                    <a:pt x="204" y="551"/>
                  </a:lnTo>
                  <a:lnTo>
                    <a:pt x="230" y="555"/>
                  </a:lnTo>
                  <a:lnTo>
                    <a:pt x="276" y="549"/>
                  </a:lnTo>
                  <a:lnTo>
                    <a:pt x="314" y="532"/>
                  </a:lnTo>
                  <a:lnTo>
                    <a:pt x="344" y="504"/>
                  </a:lnTo>
                  <a:lnTo>
                    <a:pt x="365" y="473"/>
                  </a:lnTo>
                  <a:lnTo>
                    <a:pt x="377" y="439"/>
                  </a:lnTo>
                  <a:lnTo>
                    <a:pt x="390" y="308"/>
                  </a:lnTo>
                  <a:lnTo>
                    <a:pt x="392" y="240"/>
                  </a:lnTo>
                  <a:lnTo>
                    <a:pt x="276" y="270"/>
                  </a:lnTo>
                  <a:lnTo>
                    <a:pt x="278" y="293"/>
                  </a:lnTo>
                  <a:lnTo>
                    <a:pt x="276" y="346"/>
                  </a:lnTo>
                  <a:lnTo>
                    <a:pt x="268" y="375"/>
                  </a:lnTo>
                  <a:lnTo>
                    <a:pt x="253" y="397"/>
                  </a:lnTo>
                  <a:lnTo>
                    <a:pt x="244" y="407"/>
                  </a:lnTo>
                  <a:lnTo>
                    <a:pt x="230" y="414"/>
                  </a:lnTo>
                  <a:lnTo>
                    <a:pt x="215" y="420"/>
                  </a:lnTo>
                  <a:lnTo>
                    <a:pt x="196" y="422"/>
                  </a:lnTo>
                  <a:lnTo>
                    <a:pt x="162" y="414"/>
                  </a:lnTo>
                  <a:lnTo>
                    <a:pt x="137" y="392"/>
                  </a:lnTo>
                  <a:lnTo>
                    <a:pt x="114" y="321"/>
                  </a:lnTo>
                  <a:lnTo>
                    <a:pt x="114" y="280"/>
                  </a:lnTo>
                  <a:lnTo>
                    <a:pt x="122" y="240"/>
                  </a:lnTo>
                  <a:lnTo>
                    <a:pt x="135" y="205"/>
                  </a:lnTo>
                  <a:lnTo>
                    <a:pt x="154" y="179"/>
                  </a:lnTo>
                  <a:lnTo>
                    <a:pt x="166" y="169"/>
                  </a:lnTo>
                  <a:lnTo>
                    <a:pt x="179" y="162"/>
                  </a:lnTo>
                  <a:lnTo>
                    <a:pt x="194" y="154"/>
                  </a:lnTo>
                  <a:lnTo>
                    <a:pt x="210" y="146"/>
                  </a:lnTo>
                  <a:lnTo>
                    <a:pt x="246" y="139"/>
                  </a:lnTo>
                  <a:lnTo>
                    <a:pt x="286" y="135"/>
                  </a:lnTo>
                  <a:lnTo>
                    <a:pt x="373" y="143"/>
                  </a:lnTo>
                  <a:lnTo>
                    <a:pt x="419" y="154"/>
                  </a:lnTo>
                  <a:lnTo>
                    <a:pt x="441" y="164"/>
                  </a:lnTo>
                  <a:lnTo>
                    <a:pt x="466" y="173"/>
                  </a:lnTo>
                  <a:lnTo>
                    <a:pt x="489" y="184"/>
                  </a:lnTo>
                  <a:lnTo>
                    <a:pt x="512" y="198"/>
                  </a:lnTo>
                  <a:lnTo>
                    <a:pt x="523" y="205"/>
                  </a:lnTo>
                  <a:lnTo>
                    <a:pt x="535" y="211"/>
                  </a:lnTo>
                  <a:lnTo>
                    <a:pt x="546" y="221"/>
                  </a:lnTo>
                  <a:lnTo>
                    <a:pt x="555" y="228"/>
                  </a:lnTo>
                  <a:lnTo>
                    <a:pt x="597" y="262"/>
                  </a:lnTo>
                  <a:lnTo>
                    <a:pt x="631" y="297"/>
                  </a:lnTo>
                  <a:lnTo>
                    <a:pt x="662" y="329"/>
                  </a:lnTo>
                  <a:lnTo>
                    <a:pt x="685" y="356"/>
                  </a:lnTo>
                  <a:lnTo>
                    <a:pt x="704" y="378"/>
                  </a:lnTo>
                  <a:lnTo>
                    <a:pt x="787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99"/>
            <p:cNvSpPr/>
            <p:nvPr/>
          </p:nvSpPr>
          <p:spPr>
            <a:xfrm rot="8488200">
              <a:off x="2337480" y="4274280"/>
              <a:ext cx="252000" cy="218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46" h="492">
                  <a:moveTo>
                    <a:pt x="546" y="492"/>
                  </a:moveTo>
                  <a:lnTo>
                    <a:pt x="532" y="382"/>
                  </a:lnTo>
                  <a:lnTo>
                    <a:pt x="517" y="334"/>
                  </a:lnTo>
                  <a:lnTo>
                    <a:pt x="508" y="312"/>
                  </a:lnTo>
                  <a:lnTo>
                    <a:pt x="496" y="287"/>
                  </a:lnTo>
                  <a:lnTo>
                    <a:pt x="481" y="264"/>
                  </a:lnTo>
                  <a:lnTo>
                    <a:pt x="464" y="243"/>
                  </a:lnTo>
                  <a:lnTo>
                    <a:pt x="443" y="224"/>
                  </a:lnTo>
                  <a:lnTo>
                    <a:pt x="431" y="217"/>
                  </a:lnTo>
                  <a:lnTo>
                    <a:pt x="420" y="207"/>
                  </a:lnTo>
                  <a:lnTo>
                    <a:pt x="407" y="200"/>
                  </a:lnTo>
                  <a:lnTo>
                    <a:pt x="395" y="192"/>
                  </a:lnTo>
                  <a:lnTo>
                    <a:pt x="384" y="184"/>
                  </a:lnTo>
                  <a:lnTo>
                    <a:pt x="373" y="177"/>
                  </a:lnTo>
                  <a:lnTo>
                    <a:pt x="361" y="169"/>
                  </a:lnTo>
                  <a:lnTo>
                    <a:pt x="350" y="162"/>
                  </a:lnTo>
                  <a:lnTo>
                    <a:pt x="329" y="148"/>
                  </a:lnTo>
                  <a:lnTo>
                    <a:pt x="310" y="137"/>
                  </a:lnTo>
                  <a:lnTo>
                    <a:pt x="291" y="125"/>
                  </a:lnTo>
                  <a:lnTo>
                    <a:pt x="272" y="116"/>
                  </a:lnTo>
                  <a:lnTo>
                    <a:pt x="255" y="110"/>
                  </a:lnTo>
                  <a:lnTo>
                    <a:pt x="220" y="104"/>
                  </a:lnTo>
                  <a:lnTo>
                    <a:pt x="188" y="108"/>
                  </a:lnTo>
                  <a:lnTo>
                    <a:pt x="124" y="158"/>
                  </a:lnTo>
                  <a:lnTo>
                    <a:pt x="95" y="201"/>
                  </a:lnTo>
                  <a:lnTo>
                    <a:pt x="72" y="245"/>
                  </a:lnTo>
                  <a:lnTo>
                    <a:pt x="40" y="331"/>
                  </a:lnTo>
                  <a:lnTo>
                    <a:pt x="19" y="420"/>
                  </a:lnTo>
                  <a:lnTo>
                    <a:pt x="11" y="395"/>
                  </a:lnTo>
                  <a:lnTo>
                    <a:pt x="0" y="333"/>
                  </a:lnTo>
                  <a:lnTo>
                    <a:pt x="0" y="245"/>
                  </a:lnTo>
                  <a:lnTo>
                    <a:pt x="11" y="200"/>
                  </a:lnTo>
                  <a:lnTo>
                    <a:pt x="23" y="177"/>
                  </a:lnTo>
                  <a:lnTo>
                    <a:pt x="34" y="152"/>
                  </a:lnTo>
                  <a:lnTo>
                    <a:pt x="48" y="131"/>
                  </a:lnTo>
                  <a:lnTo>
                    <a:pt x="63" y="110"/>
                  </a:lnTo>
                  <a:lnTo>
                    <a:pt x="91" y="74"/>
                  </a:lnTo>
                  <a:lnTo>
                    <a:pt x="122" y="46"/>
                  </a:lnTo>
                  <a:lnTo>
                    <a:pt x="139" y="32"/>
                  </a:lnTo>
                  <a:lnTo>
                    <a:pt x="154" y="23"/>
                  </a:lnTo>
                  <a:lnTo>
                    <a:pt x="171" y="13"/>
                  </a:lnTo>
                  <a:lnTo>
                    <a:pt x="190" y="8"/>
                  </a:lnTo>
                  <a:lnTo>
                    <a:pt x="228" y="0"/>
                  </a:lnTo>
                  <a:lnTo>
                    <a:pt x="270" y="0"/>
                  </a:lnTo>
                  <a:lnTo>
                    <a:pt x="314" y="8"/>
                  </a:lnTo>
                  <a:lnTo>
                    <a:pt x="357" y="19"/>
                  </a:lnTo>
                  <a:lnTo>
                    <a:pt x="395" y="34"/>
                  </a:lnTo>
                  <a:lnTo>
                    <a:pt x="412" y="44"/>
                  </a:lnTo>
                  <a:lnTo>
                    <a:pt x="428" y="53"/>
                  </a:lnTo>
                  <a:lnTo>
                    <a:pt x="441" y="63"/>
                  </a:lnTo>
                  <a:lnTo>
                    <a:pt x="456" y="74"/>
                  </a:lnTo>
                  <a:lnTo>
                    <a:pt x="506" y="122"/>
                  </a:lnTo>
                  <a:lnTo>
                    <a:pt x="530" y="148"/>
                  </a:lnTo>
                  <a:lnTo>
                    <a:pt x="557" y="177"/>
                  </a:lnTo>
                  <a:lnTo>
                    <a:pt x="582" y="211"/>
                  </a:lnTo>
                  <a:lnTo>
                    <a:pt x="603" y="251"/>
                  </a:lnTo>
                  <a:lnTo>
                    <a:pt x="629" y="334"/>
                  </a:lnTo>
                  <a:lnTo>
                    <a:pt x="646" y="431"/>
                  </a:lnTo>
                  <a:lnTo>
                    <a:pt x="546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0"/>
            <p:cNvSpPr/>
            <p:nvPr/>
          </p:nvSpPr>
          <p:spPr>
            <a:xfrm rot="8488200">
              <a:off x="1085040" y="4233600"/>
              <a:ext cx="1154160" cy="767880"/>
            </a:xfrm>
            <a:custGeom>
              <a:avLst/>
              <a:gdLst>
                <a:gd name="textAreaLeft" fmla="*/ 0 w 1154160"/>
                <a:gd name="textAreaRight" fmla="*/ 1154520 w 115416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2952" h="1734">
                  <a:moveTo>
                    <a:pt x="888" y="0"/>
                  </a:moveTo>
                  <a:lnTo>
                    <a:pt x="623" y="19"/>
                  </a:lnTo>
                  <a:lnTo>
                    <a:pt x="568" y="31"/>
                  </a:lnTo>
                  <a:lnTo>
                    <a:pt x="511" y="42"/>
                  </a:lnTo>
                  <a:lnTo>
                    <a:pt x="483" y="50"/>
                  </a:lnTo>
                  <a:lnTo>
                    <a:pt x="454" y="59"/>
                  </a:lnTo>
                  <a:lnTo>
                    <a:pt x="424" y="69"/>
                  </a:lnTo>
                  <a:lnTo>
                    <a:pt x="397" y="78"/>
                  </a:lnTo>
                  <a:lnTo>
                    <a:pt x="369" y="89"/>
                  </a:lnTo>
                  <a:lnTo>
                    <a:pt x="342" y="101"/>
                  </a:lnTo>
                  <a:lnTo>
                    <a:pt x="315" y="114"/>
                  </a:lnTo>
                  <a:lnTo>
                    <a:pt x="291" y="129"/>
                  </a:lnTo>
                  <a:lnTo>
                    <a:pt x="277" y="137"/>
                  </a:lnTo>
                  <a:lnTo>
                    <a:pt x="266" y="145"/>
                  </a:lnTo>
                  <a:lnTo>
                    <a:pt x="255" y="152"/>
                  </a:lnTo>
                  <a:lnTo>
                    <a:pt x="243" y="162"/>
                  </a:lnTo>
                  <a:lnTo>
                    <a:pt x="200" y="198"/>
                  </a:lnTo>
                  <a:lnTo>
                    <a:pt x="162" y="238"/>
                  </a:lnTo>
                  <a:lnTo>
                    <a:pt x="129" y="276"/>
                  </a:lnTo>
                  <a:lnTo>
                    <a:pt x="99" y="314"/>
                  </a:lnTo>
                  <a:lnTo>
                    <a:pt x="72" y="352"/>
                  </a:lnTo>
                  <a:lnTo>
                    <a:pt x="49" y="388"/>
                  </a:lnTo>
                  <a:lnTo>
                    <a:pt x="32" y="426"/>
                  </a:lnTo>
                  <a:lnTo>
                    <a:pt x="8" y="502"/>
                  </a:lnTo>
                  <a:lnTo>
                    <a:pt x="0" y="582"/>
                  </a:lnTo>
                  <a:lnTo>
                    <a:pt x="9" y="667"/>
                  </a:lnTo>
                  <a:lnTo>
                    <a:pt x="21" y="713"/>
                  </a:lnTo>
                  <a:lnTo>
                    <a:pt x="36" y="760"/>
                  </a:lnTo>
                  <a:lnTo>
                    <a:pt x="55" y="810"/>
                  </a:lnTo>
                  <a:lnTo>
                    <a:pt x="68" y="835"/>
                  </a:lnTo>
                  <a:lnTo>
                    <a:pt x="80" y="861"/>
                  </a:lnTo>
                  <a:lnTo>
                    <a:pt x="93" y="888"/>
                  </a:lnTo>
                  <a:lnTo>
                    <a:pt x="108" y="914"/>
                  </a:lnTo>
                  <a:lnTo>
                    <a:pt x="124" y="939"/>
                  </a:lnTo>
                  <a:lnTo>
                    <a:pt x="139" y="964"/>
                  </a:lnTo>
                  <a:lnTo>
                    <a:pt x="154" y="987"/>
                  </a:lnTo>
                  <a:lnTo>
                    <a:pt x="169" y="1009"/>
                  </a:lnTo>
                  <a:lnTo>
                    <a:pt x="186" y="1030"/>
                  </a:lnTo>
                  <a:lnTo>
                    <a:pt x="201" y="1053"/>
                  </a:lnTo>
                  <a:lnTo>
                    <a:pt x="219" y="1072"/>
                  </a:lnTo>
                  <a:lnTo>
                    <a:pt x="234" y="1093"/>
                  </a:lnTo>
                  <a:lnTo>
                    <a:pt x="266" y="1129"/>
                  </a:lnTo>
                  <a:lnTo>
                    <a:pt x="298" y="1163"/>
                  </a:lnTo>
                  <a:lnTo>
                    <a:pt x="329" y="1194"/>
                  </a:lnTo>
                  <a:lnTo>
                    <a:pt x="357" y="1220"/>
                  </a:lnTo>
                  <a:lnTo>
                    <a:pt x="386" y="1245"/>
                  </a:lnTo>
                  <a:lnTo>
                    <a:pt x="430" y="1281"/>
                  </a:lnTo>
                  <a:lnTo>
                    <a:pt x="447" y="1295"/>
                  </a:lnTo>
                  <a:lnTo>
                    <a:pt x="460" y="1304"/>
                  </a:lnTo>
                  <a:lnTo>
                    <a:pt x="471" y="1312"/>
                  </a:lnTo>
                  <a:lnTo>
                    <a:pt x="641" y="1215"/>
                  </a:lnTo>
                  <a:lnTo>
                    <a:pt x="715" y="1342"/>
                  </a:lnTo>
                  <a:lnTo>
                    <a:pt x="762" y="1346"/>
                  </a:lnTo>
                  <a:lnTo>
                    <a:pt x="888" y="1361"/>
                  </a:lnTo>
                  <a:lnTo>
                    <a:pt x="967" y="1369"/>
                  </a:lnTo>
                  <a:lnTo>
                    <a:pt x="1055" y="1378"/>
                  </a:lnTo>
                  <a:lnTo>
                    <a:pt x="1144" y="1388"/>
                  </a:lnTo>
                  <a:lnTo>
                    <a:pt x="1232" y="1397"/>
                  </a:lnTo>
                  <a:lnTo>
                    <a:pt x="1313" y="1403"/>
                  </a:lnTo>
                  <a:lnTo>
                    <a:pt x="1391" y="1401"/>
                  </a:lnTo>
                  <a:lnTo>
                    <a:pt x="1519" y="1388"/>
                  </a:lnTo>
                  <a:lnTo>
                    <a:pt x="1568" y="1378"/>
                  </a:lnTo>
                  <a:lnTo>
                    <a:pt x="1606" y="1369"/>
                  </a:lnTo>
                  <a:lnTo>
                    <a:pt x="1638" y="1361"/>
                  </a:lnTo>
                  <a:lnTo>
                    <a:pt x="1781" y="1734"/>
                  </a:lnTo>
                  <a:lnTo>
                    <a:pt x="1933" y="1306"/>
                  </a:lnTo>
                  <a:lnTo>
                    <a:pt x="1946" y="1308"/>
                  </a:lnTo>
                  <a:lnTo>
                    <a:pt x="1981" y="1317"/>
                  </a:lnTo>
                  <a:lnTo>
                    <a:pt x="2030" y="1327"/>
                  </a:lnTo>
                  <a:lnTo>
                    <a:pt x="2095" y="1336"/>
                  </a:lnTo>
                  <a:lnTo>
                    <a:pt x="2165" y="1342"/>
                  </a:lnTo>
                  <a:lnTo>
                    <a:pt x="2241" y="1344"/>
                  </a:lnTo>
                  <a:lnTo>
                    <a:pt x="2315" y="1336"/>
                  </a:lnTo>
                  <a:lnTo>
                    <a:pt x="2382" y="1317"/>
                  </a:lnTo>
                  <a:lnTo>
                    <a:pt x="2412" y="1304"/>
                  </a:lnTo>
                  <a:lnTo>
                    <a:pt x="2442" y="1291"/>
                  </a:lnTo>
                  <a:lnTo>
                    <a:pt x="2456" y="1283"/>
                  </a:lnTo>
                  <a:lnTo>
                    <a:pt x="2469" y="1276"/>
                  </a:lnTo>
                  <a:lnTo>
                    <a:pt x="2482" y="1268"/>
                  </a:lnTo>
                  <a:lnTo>
                    <a:pt x="2494" y="1260"/>
                  </a:lnTo>
                  <a:lnTo>
                    <a:pt x="2507" y="1253"/>
                  </a:lnTo>
                  <a:lnTo>
                    <a:pt x="2519" y="1245"/>
                  </a:lnTo>
                  <a:lnTo>
                    <a:pt x="2530" y="1238"/>
                  </a:lnTo>
                  <a:lnTo>
                    <a:pt x="2541" y="1230"/>
                  </a:lnTo>
                  <a:lnTo>
                    <a:pt x="2553" y="1222"/>
                  </a:lnTo>
                  <a:lnTo>
                    <a:pt x="2564" y="1215"/>
                  </a:lnTo>
                  <a:lnTo>
                    <a:pt x="2574" y="1207"/>
                  </a:lnTo>
                  <a:lnTo>
                    <a:pt x="2585" y="1200"/>
                  </a:lnTo>
                  <a:lnTo>
                    <a:pt x="2595" y="1192"/>
                  </a:lnTo>
                  <a:lnTo>
                    <a:pt x="2604" y="1186"/>
                  </a:lnTo>
                  <a:lnTo>
                    <a:pt x="2623" y="1173"/>
                  </a:lnTo>
                  <a:lnTo>
                    <a:pt x="2642" y="1160"/>
                  </a:lnTo>
                  <a:lnTo>
                    <a:pt x="2659" y="1150"/>
                  </a:lnTo>
                  <a:lnTo>
                    <a:pt x="2678" y="1141"/>
                  </a:lnTo>
                  <a:lnTo>
                    <a:pt x="2695" y="1133"/>
                  </a:lnTo>
                  <a:lnTo>
                    <a:pt x="2731" y="1123"/>
                  </a:lnTo>
                  <a:lnTo>
                    <a:pt x="2806" y="1112"/>
                  </a:lnTo>
                  <a:lnTo>
                    <a:pt x="2876" y="1101"/>
                  </a:lnTo>
                  <a:lnTo>
                    <a:pt x="2931" y="1091"/>
                  </a:lnTo>
                  <a:lnTo>
                    <a:pt x="2952" y="1087"/>
                  </a:lnTo>
                  <a:lnTo>
                    <a:pt x="2889" y="1013"/>
                  </a:lnTo>
                  <a:lnTo>
                    <a:pt x="2604" y="1049"/>
                  </a:lnTo>
                  <a:lnTo>
                    <a:pt x="2591" y="1072"/>
                  </a:lnTo>
                  <a:lnTo>
                    <a:pt x="2574" y="1091"/>
                  </a:lnTo>
                  <a:lnTo>
                    <a:pt x="2560" y="1101"/>
                  </a:lnTo>
                  <a:lnTo>
                    <a:pt x="2547" y="1110"/>
                  </a:lnTo>
                  <a:lnTo>
                    <a:pt x="2528" y="1120"/>
                  </a:lnTo>
                  <a:lnTo>
                    <a:pt x="2509" y="1125"/>
                  </a:lnTo>
                  <a:lnTo>
                    <a:pt x="2460" y="1133"/>
                  </a:lnTo>
                  <a:lnTo>
                    <a:pt x="2397" y="1125"/>
                  </a:lnTo>
                  <a:lnTo>
                    <a:pt x="2359" y="1114"/>
                  </a:lnTo>
                  <a:lnTo>
                    <a:pt x="2319" y="1099"/>
                  </a:lnTo>
                  <a:lnTo>
                    <a:pt x="2298" y="1089"/>
                  </a:lnTo>
                  <a:lnTo>
                    <a:pt x="2279" y="1082"/>
                  </a:lnTo>
                  <a:lnTo>
                    <a:pt x="2260" y="1072"/>
                  </a:lnTo>
                  <a:lnTo>
                    <a:pt x="2243" y="1063"/>
                  </a:lnTo>
                  <a:lnTo>
                    <a:pt x="2226" y="1055"/>
                  </a:lnTo>
                  <a:lnTo>
                    <a:pt x="2211" y="1047"/>
                  </a:lnTo>
                  <a:lnTo>
                    <a:pt x="2195" y="1040"/>
                  </a:lnTo>
                  <a:lnTo>
                    <a:pt x="2182" y="1030"/>
                  </a:lnTo>
                  <a:lnTo>
                    <a:pt x="2169" y="1023"/>
                  </a:lnTo>
                  <a:lnTo>
                    <a:pt x="2157" y="1015"/>
                  </a:lnTo>
                  <a:lnTo>
                    <a:pt x="2136" y="1002"/>
                  </a:lnTo>
                  <a:lnTo>
                    <a:pt x="2117" y="989"/>
                  </a:lnTo>
                  <a:lnTo>
                    <a:pt x="2102" y="977"/>
                  </a:lnTo>
                  <a:lnTo>
                    <a:pt x="2055" y="928"/>
                  </a:lnTo>
                  <a:lnTo>
                    <a:pt x="2047" y="1011"/>
                  </a:lnTo>
                  <a:lnTo>
                    <a:pt x="2038" y="1046"/>
                  </a:lnTo>
                  <a:lnTo>
                    <a:pt x="2024" y="1078"/>
                  </a:lnTo>
                  <a:lnTo>
                    <a:pt x="2003" y="1104"/>
                  </a:lnTo>
                  <a:lnTo>
                    <a:pt x="1990" y="1114"/>
                  </a:lnTo>
                  <a:lnTo>
                    <a:pt x="1975" y="1123"/>
                  </a:lnTo>
                  <a:lnTo>
                    <a:pt x="1946" y="1137"/>
                  </a:lnTo>
                  <a:lnTo>
                    <a:pt x="1922" y="1148"/>
                  </a:lnTo>
                  <a:lnTo>
                    <a:pt x="1901" y="1160"/>
                  </a:lnTo>
                  <a:lnTo>
                    <a:pt x="1884" y="1171"/>
                  </a:lnTo>
                  <a:lnTo>
                    <a:pt x="1861" y="1184"/>
                  </a:lnTo>
                  <a:lnTo>
                    <a:pt x="1855" y="1190"/>
                  </a:lnTo>
                  <a:lnTo>
                    <a:pt x="1791" y="1494"/>
                  </a:lnTo>
                  <a:lnTo>
                    <a:pt x="1686" y="1104"/>
                  </a:lnTo>
                  <a:lnTo>
                    <a:pt x="1678" y="1108"/>
                  </a:lnTo>
                  <a:lnTo>
                    <a:pt x="1654" y="1118"/>
                  </a:lnTo>
                  <a:lnTo>
                    <a:pt x="1638" y="1125"/>
                  </a:lnTo>
                  <a:lnTo>
                    <a:pt x="1618" y="1133"/>
                  </a:lnTo>
                  <a:lnTo>
                    <a:pt x="1595" y="1141"/>
                  </a:lnTo>
                  <a:lnTo>
                    <a:pt x="1568" y="1148"/>
                  </a:lnTo>
                  <a:lnTo>
                    <a:pt x="1540" y="1158"/>
                  </a:lnTo>
                  <a:lnTo>
                    <a:pt x="1509" y="1165"/>
                  </a:lnTo>
                  <a:lnTo>
                    <a:pt x="1475" y="1175"/>
                  </a:lnTo>
                  <a:lnTo>
                    <a:pt x="1437" y="1182"/>
                  </a:lnTo>
                  <a:lnTo>
                    <a:pt x="1399" y="1188"/>
                  </a:lnTo>
                  <a:lnTo>
                    <a:pt x="1359" y="1194"/>
                  </a:lnTo>
                  <a:lnTo>
                    <a:pt x="1273" y="1201"/>
                  </a:lnTo>
                  <a:lnTo>
                    <a:pt x="1171" y="1200"/>
                  </a:lnTo>
                  <a:lnTo>
                    <a:pt x="1049" y="1186"/>
                  </a:lnTo>
                  <a:lnTo>
                    <a:pt x="983" y="1175"/>
                  </a:lnTo>
                  <a:lnTo>
                    <a:pt x="914" y="1161"/>
                  </a:lnTo>
                  <a:lnTo>
                    <a:pt x="878" y="1152"/>
                  </a:lnTo>
                  <a:lnTo>
                    <a:pt x="844" y="1142"/>
                  </a:lnTo>
                  <a:lnTo>
                    <a:pt x="810" y="1133"/>
                  </a:lnTo>
                  <a:lnTo>
                    <a:pt x="774" y="1122"/>
                  </a:lnTo>
                  <a:lnTo>
                    <a:pt x="739" y="1110"/>
                  </a:lnTo>
                  <a:lnTo>
                    <a:pt x="705" y="1099"/>
                  </a:lnTo>
                  <a:lnTo>
                    <a:pt x="671" y="1085"/>
                  </a:lnTo>
                  <a:lnTo>
                    <a:pt x="639" y="1070"/>
                  </a:lnTo>
                  <a:lnTo>
                    <a:pt x="622" y="1063"/>
                  </a:lnTo>
                  <a:lnTo>
                    <a:pt x="606" y="1055"/>
                  </a:lnTo>
                  <a:lnTo>
                    <a:pt x="589" y="1047"/>
                  </a:lnTo>
                  <a:lnTo>
                    <a:pt x="574" y="1040"/>
                  </a:lnTo>
                  <a:lnTo>
                    <a:pt x="559" y="1032"/>
                  </a:lnTo>
                  <a:lnTo>
                    <a:pt x="544" y="1023"/>
                  </a:lnTo>
                  <a:lnTo>
                    <a:pt x="528" y="1015"/>
                  </a:lnTo>
                  <a:lnTo>
                    <a:pt x="513" y="1006"/>
                  </a:lnTo>
                  <a:lnTo>
                    <a:pt x="500" y="996"/>
                  </a:lnTo>
                  <a:lnTo>
                    <a:pt x="487" y="989"/>
                  </a:lnTo>
                  <a:lnTo>
                    <a:pt x="471" y="979"/>
                  </a:lnTo>
                  <a:lnTo>
                    <a:pt x="460" y="970"/>
                  </a:lnTo>
                  <a:lnTo>
                    <a:pt x="411" y="930"/>
                  </a:lnTo>
                  <a:lnTo>
                    <a:pt x="369" y="884"/>
                  </a:lnTo>
                  <a:lnTo>
                    <a:pt x="334" y="836"/>
                  </a:lnTo>
                  <a:lnTo>
                    <a:pt x="319" y="814"/>
                  </a:lnTo>
                  <a:lnTo>
                    <a:pt x="306" y="789"/>
                  </a:lnTo>
                  <a:lnTo>
                    <a:pt x="295" y="766"/>
                  </a:lnTo>
                  <a:lnTo>
                    <a:pt x="283" y="741"/>
                  </a:lnTo>
                  <a:lnTo>
                    <a:pt x="253" y="652"/>
                  </a:lnTo>
                  <a:lnTo>
                    <a:pt x="239" y="570"/>
                  </a:lnTo>
                  <a:lnTo>
                    <a:pt x="241" y="496"/>
                  </a:lnTo>
                  <a:lnTo>
                    <a:pt x="247" y="462"/>
                  </a:lnTo>
                  <a:lnTo>
                    <a:pt x="255" y="430"/>
                  </a:lnTo>
                  <a:lnTo>
                    <a:pt x="268" y="399"/>
                  </a:lnTo>
                  <a:lnTo>
                    <a:pt x="283" y="373"/>
                  </a:lnTo>
                  <a:lnTo>
                    <a:pt x="300" y="348"/>
                  </a:lnTo>
                  <a:lnTo>
                    <a:pt x="319" y="325"/>
                  </a:lnTo>
                  <a:lnTo>
                    <a:pt x="342" y="306"/>
                  </a:lnTo>
                  <a:lnTo>
                    <a:pt x="354" y="299"/>
                  </a:lnTo>
                  <a:lnTo>
                    <a:pt x="365" y="291"/>
                  </a:lnTo>
                  <a:lnTo>
                    <a:pt x="378" y="283"/>
                  </a:lnTo>
                  <a:lnTo>
                    <a:pt x="390" y="276"/>
                  </a:lnTo>
                  <a:lnTo>
                    <a:pt x="403" y="268"/>
                  </a:lnTo>
                  <a:lnTo>
                    <a:pt x="416" y="261"/>
                  </a:lnTo>
                  <a:lnTo>
                    <a:pt x="430" y="251"/>
                  </a:lnTo>
                  <a:lnTo>
                    <a:pt x="443" y="243"/>
                  </a:lnTo>
                  <a:lnTo>
                    <a:pt x="458" y="236"/>
                  </a:lnTo>
                  <a:lnTo>
                    <a:pt x="471" y="228"/>
                  </a:lnTo>
                  <a:lnTo>
                    <a:pt x="487" y="221"/>
                  </a:lnTo>
                  <a:lnTo>
                    <a:pt x="504" y="213"/>
                  </a:lnTo>
                  <a:lnTo>
                    <a:pt x="519" y="205"/>
                  </a:lnTo>
                  <a:lnTo>
                    <a:pt x="536" y="198"/>
                  </a:lnTo>
                  <a:lnTo>
                    <a:pt x="553" y="190"/>
                  </a:lnTo>
                  <a:lnTo>
                    <a:pt x="572" y="184"/>
                  </a:lnTo>
                  <a:lnTo>
                    <a:pt x="591" y="177"/>
                  </a:lnTo>
                  <a:lnTo>
                    <a:pt x="612" y="171"/>
                  </a:lnTo>
                  <a:lnTo>
                    <a:pt x="654" y="160"/>
                  </a:lnTo>
                  <a:lnTo>
                    <a:pt x="703" y="150"/>
                  </a:lnTo>
                  <a:lnTo>
                    <a:pt x="755" y="143"/>
                  </a:lnTo>
                  <a:lnTo>
                    <a:pt x="812" y="137"/>
                  </a:lnTo>
                  <a:lnTo>
                    <a:pt x="943" y="131"/>
                  </a:lnTo>
                  <a:lnTo>
                    <a:pt x="1099" y="139"/>
                  </a:lnTo>
                  <a:lnTo>
                    <a:pt x="1254" y="150"/>
                  </a:lnTo>
                  <a:lnTo>
                    <a:pt x="1380" y="162"/>
                  </a:lnTo>
                  <a:lnTo>
                    <a:pt x="1477" y="171"/>
                  </a:lnTo>
                  <a:lnTo>
                    <a:pt x="1551" y="179"/>
                  </a:lnTo>
                  <a:lnTo>
                    <a:pt x="1663" y="194"/>
                  </a:lnTo>
                  <a:lnTo>
                    <a:pt x="1618" y="114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01"/>
            <p:cNvSpPr/>
            <p:nvPr/>
          </p:nvSpPr>
          <p:spPr>
            <a:xfrm rot="8488200">
              <a:off x="1677600" y="4081680"/>
              <a:ext cx="160200" cy="2250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410" h="510">
                  <a:moveTo>
                    <a:pt x="0" y="0"/>
                  </a:moveTo>
                  <a:lnTo>
                    <a:pt x="177" y="510"/>
                  </a:lnTo>
                  <a:lnTo>
                    <a:pt x="410" y="97"/>
                  </a:lnTo>
                  <a:lnTo>
                    <a:pt x="321" y="76"/>
                  </a:lnTo>
                  <a:lnTo>
                    <a:pt x="220" y="251"/>
                  </a:lnTo>
                  <a:lnTo>
                    <a:pt x="12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2"/>
            <p:cNvSpPr/>
            <p:nvPr/>
          </p:nvSpPr>
          <p:spPr>
            <a:xfrm rot="8488200">
              <a:off x="1608480" y="4189680"/>
              <a:ext cx="96840" cy="162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2720"/>
                <a:gd name="textAreaBottom" fmla="*/ 162720 h 162720"/>
              </a:gdLst>
              <a:ahLst/>
              <a:rect l="textAreaLeft" t="textAreaTop" r="textAreaRight" b="textAreaBottom"/>
              <a:pathLst>
                <a:path w="247" h="369">
                  <a:moveTo>
                    <a:pt x="0" y="0"/>
                  </a:moveTo>
                  <a:lnTo>
                    <a:pt x="116" y="369"/>
                  </a:lnTo>
                  <a:lnTo>
                    <a:pt x="24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3"/>
            <p:cNvSpPr/>
            <p:nvPr/>
          </p:nvSpPr>
          <p:spPr>
            <a:xfrm rot="8488200">
              <a:off x="1236240" y="4462920"/>
              <a:ext cx="104760" cy="190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430">
                  <a:moveTo>
                    <a:pt x="0" y="0"/>
                  </a:moveTo>
                  <a:lnTo>
                    <a:pt x="59" y="430"/>
                  </a:lnTo>
                  <a:lnTo>
                    <a:pt x="26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04"/>
            <p:cNvSpPr/>
            <p:nvPr/>
          </p:nvSpPr>
          <p:spPr>
            <a:xfrm rot="8488200">
              <a:off x="1490400" y="4844160"/>
              <a:ext cx="352080" cy="1969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903" h="445">
                  <a:moveTo>
                    <a:pt x="0" y="43"/>
                  </a:moveTo>
                  <a:lnTo>
                    <a:pt x="11" y="40"/>
                  </a:lnTo>
                  <a:lnTo>
                    <a:pt x="42" y="30"/>
                  </a:lnTo>
                  <a:lnTo>
                    <a:pt x="65" y="24"/>
                  </a:lnTo>
                  <a:lnTo>
                    <a:pt x="91" y="17"/>
                  </a:lnTo>
                  <a:lnTo>
                    <a:pt x="156" y="7"/>
                  </a:lnTo>
                  <a:lnTo>
                    <a:pt x="234" y="0"/>
                  </a:lnTo>
                  <a:lnTo>
                    <a:pt x="321" y="2"/>
                  </a:lnTo>
                  <a:lnTo>
                    <a:pt x="416" y="15"/>
                  </a:lnTo>
                  <a:lnTo>
                    <a:pt x="466" y="26"/>
                  </a:lnTo>
                  <a:lnTo>
                    <a:pt x="492" y="34"/>
                  </a:lnTo>
                  <a:lnTo>
                    <a:pt x="517" y="43"/>
                  </a:lnTo>
                  <a:lnTo>
                    <a:pt x="544" y="53"/>
                  </a:lnTo>
                  <a:lnTo>
                    <a:pt x="566" y="62"/>
                  </a:lnTo>
                  <a:lnTo>
                    <a:pt x="591" y="72"/>
                  </a:lnTo>
                  <a:lnTo>
                    <a:pt x="612" y="83"/>
                  </a:lnTo>
                  <a:lnTo>
                    <a:pt x="635" y="95"/>
                  </a:lnTo>
                  <a:lnTo>
                    <a:pt x="656" y="106"/>
                  </a:lnTo>
                  <a:lnTo>
                    <a:pt x="675" y="118"/>
                  </a:lnTo>
                  <a:lnTo>
                    <a:pt x="694" y="129"/>
                  </a:lnTo>
                  <a:lnTo>
                    <a:pt x="711" y="142"/>
                  </a:lnTo>
                  <a:lnTo>
                    <a:pt x="728" y="154"/>
                  </a:lnTo>
                  <a:lnTo>
                    <a:pt x="760" y="178"/>
                  </a:lnTo>
                  <a:lnTo>
                    <a:pt x="789" y="203"/>
                  </a:lnTo>
                  <a:lnTo>
                    <a:pt x="814" y="226"/>
                  </a:lnTo>
                  <a:lnTo>
                    <a:pt x="853" y="268"/>
                  </a:lnTo>
                  <a:lnTo>
                    <a:pt x="882" y="304"/>
                  </a:lnTo>
                  <a:lnTo>
                    <a:pt x="903" y="334"/>
                  </a:lnTo>
                  <a:lnTo>
                    <a:pt x="798" y="445"/>
                  </a:lnTo>
                  <a:lnTo>
                    <a:pt x="787" y="433"/>
                  </a:lnTo>
                  <a:lnTo>
                    <a:pt x="760" y="401"/>
                  </a:lnTo>
                  <a:lnTo>
                    <a:pt x="741" y="380"/>
                  </a:lnTo>
                  <a:lnTo>
                    <a:pt x="720" y="357"/>
                  </a:lnTo>
                  <a:lnTo>
                    <a:pt x="698" y="330"/>
                  </a:lnTo>
                  <a:lnTo>
                    <a:pt x="671" y="304"/>
                  </a:lnTo>
                  <a:lnTo>
                    <a:pt x="644" y="277"/>
                  </a:lnTo>
                  <a:lnTo>
                    <a:pt x="618" y="251"/>
                  </a:lnTo>
                  <a:lnTo>
                    <a:pt x="589" y="226"/>
                  </a:lnTo>
                  <a:lnTo>
                    <a:pt x="561" y="203"/>
                  </a:lnTo>
                  <a:lnTo>
                    <a:pt x="547" y="192"/>
                  </a:lnTo>
                  <a:lnTo>
                    <a:pt x="534" y="182"/>
                  </a:lnTo>
                  <a:lnTo>
                    <a:pt x="521" y="175"/>
                  </a:lnTo>
                  <a:lnTo>
                    <a:pt x="508" y="167"/>
                  </a:lnTo>
                  <a:lnTo>
                    <a:pt x="494" y="159"/>
                  </a:lnTo>
                  <a:lnTo>
                    <a:pt x="483" y="154"/>
                  </a:lnTo>
                  <a:lnTo>
                    <a:pt x="460" y="146"/>
                  </a:lnTo>
                  <a:lnTo>
                    <a:pt x="409" y="138"/>
                  </a:lnTo>
                  <a:lnTo>
                    <a:pt x="346" y="133"/>
                  </a:lnTo>
                  <a:lnTo>
                    <a:pt x="213" y="125"/>
                  </a:lnTo>
                  <a:lnTo>
                    <a:pt x="53" y="12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5"/>
            <p:cNvSpPr/>
            <p:nvPr/>
          </p:nvSpPr>
          <p:spPr>
            <a:xfrm rot="8488200">
              <a:off x="1321560" y="4897080"/>
              <a:ext cx="207360" cy="21528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530" h="485">
                  <a:moveTo>
                    <a:pt x="0" y="485"/>
                  </a:moveTo>
                  <a:lnTo>
                    <a:pt x="8" y="473"/>
                  </a:lnTo>
                  <a:lnTo>
                    <a:pt x="28" y="441"/>
                  </a:lnTo>
                  <a:lnTo>
                    <a:pt x="42" y="418"/>
                  </a:lnTo>
                  <a:lnTo>
                    <a:pt x="59" y="393"/>
                  </a:lnTo>
                  <a:lnTo>
                    <a:pt x="78" y="369"/>
                  </a:lnTo>
                  <a:lnTo>
                    <a:pt x="99" y="340"/>
                  </a:lnTo>
                  <a:lnTo>
                    <a:pt x="120" y="312"/>
                  </a:lnTo>
                  <a:lnTo>
                    <a:pt x="142" y="285"/>
                  </a:lnTo>
                  <a:lnTo>
                    <a:pt x="165" y="258"/>
                  </a:lnTo>
                  <a:lnTo>
                    <a:pt x="190" y="234"/>
                  </a:lnTo>
                  <a:lnTo>
                    <a:pt x="213" y="211"/>
                  </a:lnTo>
                  <a:lnTo>
                    <a:pt x="238" y="192"/>
                  </a:lnTo>
                  <a:lnTo>
                    <a:pt x="249" y="184"/>
                  </a:lnTo>
                  <a:lnTo>
                    <a:pt x="260" y="178"/>
                  </a:lnTo>
                  <a:lnTo>
                    <a:pt x="283" y="169"/>
                  </a:lnTo>
                  <a:lnTo>
                    <a:pt x="325" y="156"/>
                  </a:lnTo>
                  <a:lnTo>
                    <a:pt x="361" y="148"/>
                  </a:lnTo>
                  <a:lnTo>
                    <a:pt x="420" y="137"/>
                  </a:lnTo>
                  <a:lnTo>
                    <a:pt x="473" y="133"/>
                  </a:lnTo>
                  <a:lnTo>
                    <a:pt x="460" y="118"/>
                  </a:lnTo>
                  <a:lnTo>
                    <a:pt x="426" y="91"/>
                  </a:lnTo>
                  <a:lnTo>
                    <a:pt x="414" y="83"/>
                  </a:lnTo>
                  <a:lnTo>
                    <a:pt x="403" y="76"/>
                  </a:lnTo>
                  <a:lnTo>
                    <a:pt x="390" y="70"/>
                  </a:lnTo>
                  <a:lnTo>
                    <a:pt x="374" y="64"/>
                  </a:lnTo>
                  <a:lnTo>
                    <a:pt x="344" y="59"/>
                  </a:lnTo>
                  <a:lnTo>
                    <a:pt x="310" y="59"/>
                  </a:lnTo>
                  <a:lnTo>
                    <a:pt x="238" y="76"/>
                  </a:lnTo>
                  <a:lnTo>
                    <a:pt x="203" y="87"/>
                  </a:lnTo>
                  <a:lnTo>
                    <a:pt x="173" y="101"/>
                  </a:lnTo>
                  <a:lnTo>
                    <a:pt x="146" y="112"/>
                  </a:lnTo>
                  <a:lnTo>
                    <a:pt x="127" y="123"/>
                  </a:lnTo>
                  <a:lnTo>
                    <a:pt x="108" y="133"/>
                  </a:lnTo>
                  <a:lnTo>
                    <a:pt x="108" y="99"/>
                  </a:lnTo>
                  <a:lnTo>
                    <a:pt x="112" y="83"/>
                  </a:lnTo>
                  <a:lnTo>
                    <a:pt x="122" y="68"/>
                  </a:lnTo>
                  <a:lnTo>
                    <a:pt x="139" y="51"/>
                  </a:lnTo>
                  <a:lnTo>
                    <a:pt x="148" y="44"/>
                  </a:lnTo>
                  <a:lnTo>
                    <a:pt x="162" y="34"/>
                  </a:lnTo>
                  <a:lnTo>
                    <a:pt x="175" y="26"/>
                  </a:lnTo>
                  <a:lnTo>
                    <a:pt x="188" y="21"/>
                  </a:lnTo>
                  <a:lnTo>
                    <a:pt x="215" y="11"/>
                  </a:lnTo>
                  <a:lnTo>
                    <a:pt x="241" y="4"/>
                  </a:lnTo>
                  <a:lnTo>
                    <a:pt x="268" y="0"/>
                  </a:lnTo>
                  <a:lnTo>
                    <a:pt x="321" y="4"/>
                  </a:lnTo>
                  <a:lnTo>
                    <a:pt x="378" y="17"/>
                  </a:lnTo>
                  <a:lnTo>
                    <a:pt x="407" y="28"/>
                  </a:lnTo>
                  <a:lnTo>
                    <a:pt x="420" y="36"/>
                  </a:lnTo>
                  <a:lnTo>
                    <a:pt x="435" y="45"/>
                  </a:lnTo>
                  <a:lnTo>
                    <a:pt x="485" y="87"/>
                  </a:lnTo>
                  <a:lnTo>
                    <a:pt x="519" y="123"/>
                  </a:lnTo>
                  <a:lnTo>
                    <a:pt x="530" y="139"/>
                  </a:lnTo>
                  <a:lnTo>
                    <a:pt x="473" y="211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6"/>
            <p:cNvSpPr/>
            <p:nvPr/>
          </p:nvSpPr>
          <p:spPr>
            <a:xfrm rot="8488200">
              <a:off x="1140480" y="4839480"/>
              <a:ext cx="239760" cy="2304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614" h="521">
                  <a:moveTo>
                    <a:pt x="48" y="0"/>
                  </a:moveTo>
                  <a:lnTo>
                    <a:pt x="76" y="25"/>
                  </a:lnTo>
                  <a:lnTo>
                    <a:pt x="105" y="51"/>
                  </a:lnTo>
                  <a:lnTo>
                    <a:pt x="141" y="82"/>
                  </a:lnTo>
                  <a:lnTo>
                    <a:pt x="181" y="114"/>
                  </a:lnTo>
                  <a:lnTo>
                    <a:pt x="192" y="122"/>
                  </a:lnTo>
                  <a:lnTo>
                    <a:pt x="202" y="129"/>
                  </a:lnTo>
                  <a:lnTo>
                    <a:pt x="213" y="137"/>
                  </a:lnTo>
                  <a:lnTo>
                    <a:pt x="222" y="145"/>
                  </a:lnTo>
                  <a:lnTo>
                    <a:pt x="234" y="150"/>
                  </a:lnTo>
                  <a:lnTo>
                    <a:pt x="243" y="156"/>
                  </a:lnTo>
                  <a:lnTo>
                    <a:pt x="262" y="169"/>
                  </a:lnTo>
                  <a:lnTo>
                    <a:pt x="279" y="177"/>
                  </a:lnTo>
                  <a:lnTo>
                    <a:pt x="297" y="184"/>
                  </a:lnTo>
                  <a:lnTo>
                    <a:pt x="329" y="194"/>
                  </a:lnTo>
                  <a:lnTo>
                    <a:pt x="361" y="202"/>
                  </a:lnTo>
                  <a:lnTo>
                    <a:pt x="424" y="213"/>
                  </a:lnTo>
                  <a:lnTo>
                    <a:pt x="489" y="219"/>
                  </a:lnTo>
                  <a:lnTo>
                    <a:pt x="492" y="207"/>
                  </a:lnTo>
                  <a:lnTo>
                    <a:pt x="508" y="186"/>
                  </a:lnTo>
                  <a:lnTo>
                    <a:pt x="519" y="175"/>
                  </a:lnTo>
                  <a:lnTo>
                    <a:pt x="532" y="169"/>
                  </a:lnTo>
                  <a:lnTo>
                    <a:pt x="568" y="175"/>
                  </a:lnTo>
                  <a:lnTo>
                    <a:pt x="599" y="222"/>
                  </a:lnTo>
                  <a:lnTo>
                    <a:pt x="614" y="304"/>
                  </a:lnTo>
                  <a:lnTo>
                    <a:pt x="612" y="395"/>
                  </a:lnTo>
                  <a:lnTo>
                    <a:pt x="606" y="435"/>
                  </a:lnTo>
                  <a:lnTo>
                    <a:pt x="595" y="470"/>
                  </a:lnTo>
                  <a:lnTo>
                    <a:pt x="582" y="494"/>
                  </a:lnTo>
                  <a:lnTo>
                    <a:pt x="563" y="509"/>
                  </a:lnTo>
                  <a:lnTo>
                    <a:pt x="544" y="517"/>
                  </a:lnTo>
                  <a:lnTo>
                    <a:pt x="523" y="521"/>
                  </a:lnTo>
                  <a:lnTo>
                    <a:pt x="490" y="519"/>
                  </a:lnTo>
                  <a:lnTo>
                    <a:pt x="475" y="517"/>
                  </a:lnTo>
                  <a:lnTo>
                    <a:pt x="430" y="331"/>
                  </a:lnTo>
                  <a:lnTo>
                    <a:pt x="401" y="321"/>
                  </a:lnTo>
                  <a:lnTo>
                    <a:pt x="369" y="308"/>
                  </a:lnTo>
                  <a:lnTo>
                    <a:pt x="350" y="300"/>
                  </a:lnTo>
                  <a:lnTo>
                    <a:pt x="331" y="293"/>
                  </a:lnTo>
                  <a:lnTo>
                    <a:pt x="310" y="283"/>
                  </a:lnTo>
                  <a:lnTo>
                    <a:pt x="287" y="274"/>
                  </a:lnTo>
                  <a:lnTo>
                    <a:pt x="266" y="264"/>
                  </a:lnTo>
                  <a:lnTo>
                    <a:pt x="243" y="253"/>
                  </a:lnTo>
                  <a:lnTo>
                    <a:pt x="222" y="241"/>
                  </a:lnTo>
                  <a:lnTo>
                    <a:pt x="202" y="230"/>
                  </a:lnTo>
                  <a:lnTo>
                    <a:pt x="184" y="217"/>
                  </a:lnTo>
                  <a:lnTo>
                    <a:pt x="167" y="205"/>
                  </a:lnTo>
                  <a:lnTo>
                    <a:pt x="135" y="179"/>
                  </a:lnTo>
                  <a:lnTo>
                    <a:pt x="103" y="150"/>
                  </a:lnTo>
                  <a:lnTo>
                    <a:pt x="76" y="122"/>
                  </a:lnTo>
                  <a:lnTo>
                    <a:pt x="49" y="97"/>
                  </a:lnTo>
                  <a:lnTo>
                    <a:pt x="30" y="72"/>
                  </a:lnTo>
                  <a:lnTo>
                    <a:pt x="13" y="55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07"/>
            <p:cNvSpPr/>
            <p:nvPr/>
          </p:nvSpPr>
          <p:spPr>
            <a:xfrm rot="8488200">
              <a:off x="1352160" y="4884480"/>
              <a:ext cx="22680" cy="291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59" h="66">
                  <a:moveTo>
                    <a:pt x="40" y="66"/>
                  </a:moveTo>
                  <a:lnTo>
                    <a:pt x="17" y="66"/>
                  </a:lnTo>
                  <a:lnTo>
                    <a:pt x="0" y="45"/>
                  </a:lnTo>
                  <a:lnTo>
                    <a:pt x="2" y="19"/>
                  </a:lnTo>
                  <a:lnTo>
                    <a:pt x="19" y="0"/>
                  </a:lnTo>
                  <a:lnTo>
                    <a:pt x="42" y="2"/>
                  </a:lnTo>
                  <a:lnTo>
                    <a:pt x="59" y="21"/>
                  </a:lnTo>
                  <a:lnTo>
                    <a:pt x="57" y="49"/>
                  </a:lnTo>
                  <a:lnTo>
                    <a:pt x="4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8"/>
            <p:cNvSpPr/>
            <p:nvPr/>
          </p:nvSpPr>
          <p:spPr>
            <a:xfrm rot="8488200">
              <a:off x="1317960" y="4857840"/>
              <a:ext cx="87840" cy="78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26" h="179">
                  <a:moveTo>
                    <a:pt x="0" y="90"/>
                  </a:moveTo>
                  <a:lnTo>
                    <a:pt x="8" y="76"/>
                  </a:lnTo>
                  <a:lnTo>
                    <a:pt x="31" y="46"/>
                  </a:lnTo>
                  <a:lnTo>
                    <a:pt x="65" y="16"/>
                  </a:lnTo>
                  <a:lnTo>
                    <a:pt x="76" y="10"/>
                  </a:lnTo>
                  <a:lnTo>
                    <a:pt x="88" y="4"/>
                  </a:lnTo>
                  <a:lnTo>
                    <a:pt x="114" y="0"/>
                  </a:lnTo>
                  <a:lnTo>
                    <a:pt x="139" y="2"/>
                  </a:lnTo>
                  <a:lnTo>
                    <a:pt x="162" y="12"/>
                  </a:lnTo>
                  <a:lnTo>
                    <a:pt x="198" y="38"/>
                  </a:lnTo>
                  <a:lnTo>
                    <a:pt x="219" y="67"/>
                  </a:lnTo>
                  <a:lnTo>
                    <a:pt x="226" y="80"/>
                  </a:lnTo>
                  <a:lnTo>
                    <a:pt x="221" y="105"/>
                  </a:lnTo>
                  <a:lnTo>
                    <a:pt x="206" y="128"/>
                  </a:lnTo>
                  <a:lnTo>
                    <a:pt x="177" y="156"/>
                  </a:lnTo>
                  <a:lnTo>
                    <a:pt x="168" y="162"/>
                  </a:lnTo>
                  <a:lnTo>
                    <a:pt x="158" y="168"/>
                  </a:lnTo>
                  <a:lnTo>
                    <a:pt x="139" y="175"/>
                  </a:lnTo>
                  <a:lnTo>
                    <a:pt x="99" y="179"/>
                  </a:lnTo>
                  <a:lnTo>
                    <a:pt x="63" y="171"/>
                  </a:lnTo>
                  <a:lnTo>
                    <a:pt x="36" y="156"/>
                  </a:lnTo>
                  <a:lnTo>
                    <a:pt x="6" y="122"/>
                  </a:lnTo>
                  <a:lnTo>
                    <a:pt x="0" y="109"/>
                  </a:lnTo>
                  <a:lnTo>
                    <a:pt x="14" y="112"/>
                  </a:lnTo>
                  <a:lnTo>
                    <a:pt x="46" y="120"/>
                  </a:lnTo>
                  <a:lnTo>
                    <a:pt x="82" y="126"/>
                  </a:lnTo>
                  <a:lnTo>
                    <a:pt x="114" y="130"/>
                  </a:lnTo>
                  <a:lnTo>
                    <a:pt x="139" y="122"/>
                  </a:lnTo>
                  <a:lnTo>
                    <a:pt x="152" y="114"/>
                  </a:lnTo>
                  <a:lnTo>
                    <a:pt x="164" y="105"/>
                  </a:lnTo>
                  <a:lnTo>
                    <a:pt x="190" y="82"/>
                  </a:lnTo>
                  <a:lnTo>
                    <a:pt x="181" y="76"/>
                  </a:lnTo>
                  <a:lnTo>
                    <a:pt x="171" y="71"/>
                  </a:lnTo>
                  <a:lnTo>
                    <a:pt x="160" y="65"/>
                  </a:lnTo>
                  <a:lnTo>
                    <a:pt x="147" y="57"/>
                  </a:lnTo>
                  <a:lnTo>
                    <a:pt x="131" y="54"/>
                  </a:lnTo>
                  <a:lnTo>
                    <a:pt x="101" y="50"/>
                  </a:lnTo>
                  <a:lnTo>
                    <a:pt x="69" y="57"/>
                  </a:lnTo>
                  <a:lnTo>
                    <a:pt x="34" y="71"/>
                  </a:lnTo>
                  <a:lnTo>
                    <a:pt x="10" y="84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09"/>
            <p:cNvSpPr/>
            <p:nvPr/>
          </p:nvSpPr>
          <p:spPr>
            <a:xfrm rot="8488200">
              <a:off x="1129320" y="4254120"/>
              <a:ext cx="646920" cy="8388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56" h="190">
                  <a:moveTo>
                    <a:pt x="829" y="190"/>
                  </a:moveTo>
                  <a:lnTo>
                    <a:pt x="1150" y="186"/>
                  </a:lnTo>
                  <a:lnTo>
                    <a:pt x="1412" y="165"/>
                  </a:lnTo>
                  <a:lnTo>
                    <a:pt x="1513" y="150"/>
                  </a:lnTo>
                  <a:lnTo>
                    <a:pt x="1591" y="135"/>
                  </a:lnTo>
                  <a:lnTo>
                    <a:pt x="1639" y="116"/>
                  </a:lnTo>
                  <a:lnTo>
                    <a:pt x="1656" y="97"/>
                  </a:lnTo>
                  <a:lnTo>
                    <a:pt x="1639" y="78"/>
                  </a:lnTo>
                  <a:lnTo>
                    <a:pt x="1618" y="68"/>
                  </a:lnTo>
                  <a:lnTo>
                    <a:pt x="1591" y="59"/>
                  </a:lnTo>
                  <a:lnTo>
                    <a:pt x="1555" y="51"/>
                  </a:lnTo>
                  <a:lnTo>
                    <a:pt x="1513" y="44"/>
                  </a:lnTo>
                  <a:lnTo>
                    <a:pt x="1466" y="36"/>
                  </a:lnTo>
                  <a:lnTo>
                    <a:pt x="1412" y="28"/>
                  </a:lnTo>
                  <a:lnTo>
                    <a:pt x="1353" y="23"/>
                  </a:lnTo>
                  <a:lnTo>
                    <a:pt x="1289" y="17"/>
                  </a:lnTo>
                  <a:lnTo>
                    <a:pt x="1150" y="8"/>
                  </a:lnTo>
                  <a:lnTo>
                    <a:pt x="994" y="4"/>
                  </a:lnTo>
                  <a:lnTo>
                    <a:pt x="829" y="0"/>
                  </a:lnTo>
                  <a:lnTo>
                    <a:pt x="506" y="8"/>
                  </a:lnTo>
                  <a:lnTo>
                    <a:pt x="243" y="28"/>
                  </a:lnTo>
                  <a:lnTo>
                    <a:pt x="143" y="44"/>
                  </a:lnTo>
                  <a:lnTo>
                    <a:pt x="65" y="59"/>
                  </a:lnTo>
                  <a:lnTo>
                    <a:pt x="17" y="78"/>
                  </a:lnTo>
                  <a:lnTo>
                    <a:pt x="0" y="97"/>
                  </a:lnTo>
                  <a:lnTo>
                    <a:pt x="17" y="116"/>
                  </a:lnTo>
                  <a:lnTo>
                    <a:pt x="38" y="125"/>
                  </a:lnTo>
                  <a:lnTo>
                    <a:pt x="65" y="135"/>
                  </a:lnTo>
                  <a:lnTo>
                    <a:pt x="101" y="142"/>
                  </a:lnTo>
                  <a:lnTo>
                    <a:pt x="143" y="150"/>
                  </a:lnTo>
                  <a:lnTo>
                    <a:pt x="188" y="158"/>
                  </a:lnTo>
                  <a:lnTo>
                    <a:pt x="243" y="165"/>
                  </a:lnTo>
                  <a:lnTo>
                    <a:pt x="302" y="171"/>
                  </a:lnTo>
                  <a:lnTo>
                    <a:pt x="365" y="177"/>
                  </a:lnTo>
                  <a:lnTo>
                    <a:pt x="506" y="186"/>
                  </a:lnTo>
                  <a:lnTo>
                    <a:pt x="662" y="190"/>
                  </a:lnTo>
                  <a:lnTo>
                    <a:pt x="829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10"/>
            <p:cNvSpPr/>
            <p:nvPr/>
          </p:nvSpPr>
          <p:spPr>
            <a:xfrm rot="8488200">
              <a:off x="1700640" y="4736880"/>
              <a:ext cx="365040" cy="918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35" h="209">
                  <a:moveTo>
                    <a:pt x="0" y="0"/>
                  </a:moveTo>
                  <a:lnTo>
                    <a:pt x="935" y="36"/>
                  </a:lnTo>
                  <a:lnTo>
                    <a:pt x="909" y="209"/>
                  </a:lnTo>
                  <a:lnTo>
                    <a:pt x="17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990720" y="2209680"/>
            <a:ext cx="7137360" cy="3022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indent="291960"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to pay for small purcha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91960"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mployee is assigned as the fund custodia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d to disburse fun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91960"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bursements from the fund are recorded on petty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ceip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91960"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nd is replenished when it is depleted, or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, at the end of each accounting peri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066320" y="2209680"/>
            <a:ext cx="716292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payments are required, in most companies, for items such as postage, courier fees, repairs and supp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4"/>
          <p:cNvGraphicFramePr/>
          <p:nvPr/>
        </p:nvGraphicFramePr>
        <p:xfrm>
          <a:off x="3048120" y="5105520"/>
          <a:ext cx="28954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5105520"/>
                    <a:ext cx="289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5"/>
          <p:cNvGraphicFramePr/>
          <p:nvPr/>
        </p:nvGraphicFramePr>
        <p:xfrm>
          <a:off x="3200400" y="4800600"/>
          <a:ext cx="88884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800600"/>
                    <a:ext cx="8888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974520" cy="14637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"/>
          <p:cNvPicPr/>
          <p:nvPr/>
        </p:nvPicPr>
        <p:blipFill>
          <a:blip r:embed="rId2"/>
          <a:stretch/>
        </p:blipFill>
        <p:spPr>
          <a:xfrm>
            <a:off x="6400800" y="1752480"/>
            <a:ext cx="960480" cy="139860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5"/>
          <p:cNvGrpSpPr/>
          <p:nvPr/>
        </p:nvGrpSpPr>
        <p:grpSpPr>
          <a:xfrm>
            <a:off x="2895480" y="1969920"/>
            <a:ext cx="2286000" cy="877680"/>
            <a:chOff x="2895480" y="1969920"/>
            <a:chExt cx="2286000" cy="877680"/>
          </a:xfrm>
        </p:grpSpPr>
        <p:graphicFrame>
          <p:nvGraphicFramePr>
            <p:cNvPr id="561" name="Object 6"/>
            <p:cNvGraphicFramePr/>
            <p:nvPr/>
          </p:nvGraphicFramePr>
          <p:xfrm>
            <a:off x="2895480" y="1969920"/>
            <a:ext cx="2286000" cy="87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969920"/>
                      <a:ext cx="22860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3" name="Rectangle 7"/>
            <p:cNvSpPr/>
            <p:nvPr/>
          </p:nvSpPr>
          <p:spPr>
            <a:xfrm>
              <a:off x="3263400" y="2133360"/>
              <a:ext cx="1228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etty Cas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Rectangle 8"/>
          <p:cNvSpPr/>
          <p:nvPr/>
        </p:nvSpPr>
        <p:spPr>
          <a:xfrm>
            <a:off x="735840" y="33004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6325200" y="3276720"/>
            <a:ext cx="12985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ty 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"/>
          <p:cNvSpPr/>
          <p:nvPr/>
        </p:nvSpPr>
        <p:spPr>
          <a:xfrm>
            <a:off x="2133720" y="2514600"/>
            <a:ext cx="60948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334120" y="2514600"/>
            <a:ext cx="7617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3"/>
          <p:cNvSpPr/>
          <p:nvPr/>
        </p:nvSpPr>
        <p:spPr>
          <a:xfrm>
            <a:off x="1981080" y="5257800"/>
            <a:ext cx="60984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4" descr=""/>
          <p:cNvPicPr/>
          <p:nvPr/>
        </p:nvPicPr>
        <p:blipFill>
          <a:blip r:embed="rId5"/>
          <a:stretch/>
        </p:blipFill>
        <p:spPr>
          <a:xfrm>
            <a:off x="990720" y="4495680"/>
            <a:ext cx="833400" cy="146376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5"/>
          <p:cNvSpPr/>
          <p:nvPr/>
        </p:nvSpPr>
        <p:spPr>
          <a:xfrm>
            <a:off x="684000" y="601992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6"/>
          <a:stretch/>
        </p:blipFill>
        <p:spPr>
          <a:xfrm>
            <a:off x="2666880" y="3962520"/>
            <a:ext cx="6248520" cy="247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72" name="Rectangle 19"/>
          <p:cNvSpPr/>
          <p:nvPr/>
        </p:nvSpPr>
        <p:spPr>
          <a:xfrm>
            <a:off x="2743200" y="4038480"/>
            <a:ext cx="6095880" cy="236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"/>
          <p:cNvSpPr/>
          <p:nvPr/>
        </p:nvSpPr>
        <p:spPr>
          <a:xfrm flipH="1">
            <a:off x="2209680" y="3809880"/>
            <a:ext cx="3733920" cy="12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884520" cy="14749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4"/>
          <p:cNvGrpSpPr/>
          <p:nvPr/>
        </p:nvGrpSpPr>
        <p:grpSpPr>
          <a:xfrm>
            <a:off x="2438280" y="3862440"/>
            <a:ext cx="2286000" cy="877680"/>
            <a:chOff x="2438280" y="3862440"/>
            <a:chExt cx="2286000" cy="877680"/>
          </a:xfrm>
        </p:grpSpPr>
        <p:graphicFrame>
          <p:nvGraphicFramePr>
            <p:cNvPr id="578" name="Object 5"/>
            <p:cNvGraphicFramePr/>
            <p:nvPr/>
          </p:nvGraphicFramePr>
          <p:xfrm>
            <a:off x="2438280" y="3862440"/>
            <a:ext cx="2286000" cy="87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9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38280" y="3862440"/>
                      <a:ext cx="22860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0" name="Rectangle 6"/>
            <p:cNvSpPr/>
            <p:nvPr/>
          </p:nvSpPr>
          <p:spPr>
            <a:xfrm>
              <a:off x="2806200" y="4025880"/>
              <a:ext cx="1228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etty Cas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1" name="Picture 7" descr=""/>
          <p:cNvPicPr/>
          <p:nvPr/>
        </p:nvPicPr>
        <p:blipFill>
          <a:blip r:embed="rId4"/>
          <a:stretch/>
        </p:blipFill>
        <p:spPr>
          <a:xfrm>
            <a:off x="609480" y="5029200"/>
            <a:ext cx="1668600" cy="1239840"/>
          </a:xfrm>
          <a:prstGeom prst="rect">
            <a:avLst/>
          </a:prstGeom>
          <a:ln w="0">
            <a:noFill/>
          </a:ln>
        </p:spPr>
      </p:pic>
      <p:sp>
        <p:nvSpPr>
          <p:cNvPr id="582" name="Line 8"/>
          <p:cNvSpPr/>
          <p:nvPr/>
        </p:nvSpPr>
        <p:spPr>
          <a:xfrm flipH="1">
            <a:off x="2285640" y="4114800"/>
            <a:ext cx="5334120" cy="1981080"/>
          </a:xfrm>
          <a:prstGeom prst="line">
            <a:avLst/>
          </a:prstGeom>
          <a:ln w="507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10"/>
          <p:cNvGrpSpPr/>
          <p:nvPr/>
        </p:nvGrpSpPr>
        <p:grpSpPr>
          <a:xfrm>
            <a:off x="7315200" y="2666880"/>
            <a:ext cx="1441440" cy="1206360"/>
            <a:chOff x="7315200" y="2666880"/>
            <a:chExt cx="1441440" cy="1206360"/>
          </a:xfrm>
        </p:grpSpPr>
        <p:pic>
          <p:nvPicPr>
            <p:cNvPr id="584" name="Picture 11" descr=""/>
            <p:cNvPicPr/>
            <p:nvPr/>
          </p:nvPicPr>
          <p:blipFill>
            <a:blip r:embed="rId5"/>
            <a:stretch/>
          </p:blipFill>
          <p:spPr>
            <a:xfrm>
              <a:off x="7315200" y="2666880"/>
              <a:ext cx="1441440" cy="120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5" name="Object 12"/>
            <p:cNvGraphicFramePr/>
            <p:nvPr/>
          </p:nvGraphicFramePr>
          <p:xfrm>
            <a:off x="7940880" y="3159000"/>
            <a:ext cx="745920" cy="320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86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940880" y="3159000"/>
                      <a:ext cx="7459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7" name="Object 13"/>
            <p:cNvGraphicFramePr/>
            <p:nvPr/>
          </p:nvGraphicFramePr>
          <p:xfrm>
            <a:off x="7985160" y="2930400"/>
            <a:ext cx="746280" cy="320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8" name="Object 1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985160" y="2930400"/>
                      <a:ext cx="74628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89" name="Object 14"/>
          <p:cNvGraphicFramePr/>
          <p:nvPr/>
        </p:nvGraphicFramePr>
        <p:xfrm>
          <a:off x="4876920" y="4419720"/>
          <a:ext cx="1968480" cy="84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0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6920" y="4419720"/>
                    <a:ext cx="19684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Rectangle 16"/>
          <p:cNvSpPr/>
          <p:nvPr/>
        </p:nvSpPr>
        <p:spPr>
          <a:xfrm>
            <a:off x="6170760" y="3276720"/>
            <a:ext cx="111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2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2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9144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23"/>
          <p:cNvGrpSpPr/>
          <p:nvPr/>
        </p:nvGrpSpPr>
        <p:grpSpPr>
          <a:xfrm>
            <a:off x="6539760" y="5181480"/>
            <a:ext cx="912960" cy="1170720"/>
            <a:chOff x="6539760" y="5181480"/>
            <a:chExt cx="912960" cy="1170720"/>
          </a:xfrm>
        </p:grpSpPr>
        <p:pic>
          <p:nvPicPr>
            <p:cNvPr id="596" name="Picture 24" descr=""/>
            <p:cNvPicPr/>
            <p:nvPr/>
          </p:nvPicPr>
          <p:blipFill>
            <a:blip r:embed="rId2"/>
            <a:stretch/>
          </p:blipFill>
          <p:spPr>
            <a:xfrm>
              <a:off x="6659640" y="5181480"/>
              <a:ext cx="67320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Rectangle 25"/>
            <p:cNvSpPr/>
            <p:nvPr/>
          </p:nvSpPr>
          <p:spPr>
            <a:xfrm>
              <a:off x="6740280" y="540540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1¢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6"/>
            <p:cNvSpPr/>
            <p:nvPr/>
          </p:nvSpPr>
          <p:spPr>
            <a:xfrm>
              <a:off x="6539760" y="601992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mp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7732800" y="5105520"/>
            <a:ext cx="1106280" cy="1246680"/>
            <a:chOff x="7732800" y="5105520"/>
            <a:chExt cx="1106280" cy="1246680"/>
          </a:xfrm>
        </p:grpSpPr>
        <p:pic>
          <p:nvPicPr>
            <p:cNvPr id="600" name="Picture 28" descr=""/>
            <p:cNvPicPr/>
            <p:nvPr/>
          </p:nvPicPr>
          <p:blipFill>
            <a:blip r:embed="rId3"/>
            <a:stretch/>
          </p:blipFill>
          <p:spPr>
            <a:xfrm>
              <a:off x="7732800" y="5105520"/>
              <a:ext cx="1106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29"/>
            <p:cNvSpPr/>
            <p:nvPr/>
          </p:nvSpPr>
          <p:spPr>
            <a:xfrm>
              <a:off x="7834680" y="6019920"/>
              <a:ext cx="90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ri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2" name="Object 30"/>
          <p:cNvGraphicFramePr/>
          <p:nvPr/>
        </p:nvGraphicFramePr>
        <p:xfrm>
          <a:off x="7772400" y="3124080"/>
          <a:ext cx="1074600" cy="46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3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3124080"/>
                    <a:ext cx="10746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4" name="Group 31"/>
          <p:cNvGrpSpPr/>
          <p:nvPr/>
        </p:nvGrpSpPr>
        <p:grpSpPr>
          <a:xfrm>
            <a:off x="7315200" y="1752480"/>
            <a:ext cx="1441440" cy="1206360"/>
            <a:chOff x="7315200" y="1752480"/>
            <a:chExt cx="1441440" cy="1206360"/>
          </a:xfrm>
        </p:grpSpPr>
        <p:pic>
          <p:nvPicPr>
            <p:cNvPr id="605" name="Picture 32" descr=""/>
            <p:cNvPicPr/>
            <p:nvPr/>
          </p:nvPicPr>
          <p:blipFill>
            <a:blip r:embed="rId6"/>
            <a:stretch/>
          </p:blipFill>
          <p:spPr>
            <a:xfrm>
              <a:off x="7315200" y="1752480"/>
              <a:ext cx="1441440" cy="120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6" name="Object 33"/>
            <p:cNvGraphicFramePr/>
            <p:nvPr/>
          </p:nvGraphicFramePr>
          <p:xfrm>
            <a:off x="7940880" y="2244600"/>
            <a:ext cx="745920" cy="32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7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40880" y="2244600"/>
                      <a:ext cx="7459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8" name="Rectangle 34"/>
          <p:cNvSpPr/>
          <p:nvPr/>
        </p:nvSpPr>
        <p:spPr>
          <a:xfrm>
            <a:off x="6018480" y="3200400"/>
            <a:ext cx="111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5"/>
          <p:cNvSpPr/>
          <p:nvPr/>
        </p:nvSpPr>
        <p:spPr>
          <a:xfrm>
            <a:off x="609480" y="2286000"/>
            <a:ext cx="396252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etty cash fund is used only for business expen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33"/>
          <p:cNvGrpSpPr/>
          <p:nvPr/>
        </p:nvGrpSpPr>
        <p:grpSpPr>
          <a:xfrm>
            <a:off x="5455800" y="5149800"/>
            <a:ext cx="1016640" cy="1246680"/>
            <a:chOff x="5455800" y="5149800"/>
            <a:chExt cx="1016640" cy="1246680"/>
          </a:xfrm>
        </p:grpSpPr>
        <p:pic>
          <p:nvPicPr>
            <p:cNvPr id="611" name="Picture 7" descr="C:\Users\DoddandSusan\AppData\Local\Microsoft\Windows\Temporary Internet Files\Content.IE5\BAV1WMCV\MC900279228[1].wmf"/>
            <p:cNvPicPr/>
            <p:nvPr/>
          </p:nvPicPr>
          <p:blipFill>
            <a:blip r:embed="rId9"/>
            <a:stretch/>
          </p:blipFill>
          <p:spPr>
            <a:xfrm>
              <a:off x="5559480" y="5149800"/>
              <a:ext cx="809280" cy="9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6"/>
            <p:cNvSpPr/>
            <p:nvPr/>
          </p:nvSpPr>
          <p:spPr>
            <a:xfrm>
              <a:off x="5455800" y="6064200"/>
              <a:ext cx="1016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34"/>
          <p:cNvGrpSpPr/>
          <p:nvPr/>
        </p:nvGrpSpPr>
        <p:grpSpPr>
          <a:xfrm>
            <a:off x="3584880" y="4952880"/>
            <a:ext cx="1856160" cy="1443600"/>
            <a:chOff x="3584880" y="4952880"/>
            <a:chExt cx="1856160" cy="1443600"/>
          </a:xfrm>
        </p:grpSpPr>
        <p:sp>
          <p:nvSpPr>
            <p:cNvPr id="614" name="Rectangle 9"/>
            <p:cNvSpPr/>
            <p:nvPr/>
          </p:nvSpPr>
          <p:spPr>
            <a:xfrm>
              <a:off x="3584880" y="6064200"/>
              <a:ext cx="1856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ation-i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8" descr="C:\Users\DoddandSusan\AppData\Local\Microsoft\Windows\Temporary Internet Files\Content.IE5\BAV1WMCV\MC900434820[1].png"/>
            <p:cNvPicPr/>
            <p:nvPr/>
          </p:nvPicPr>
          <p:blipFill>
            <a:blip r:embed="rId10"/>
            <a:stretch/>
          </p:blipFill>
          <p:spPr>
            <a:xfrm>
              <a:off x="3865680" y="4952880"/>
              <a:ext cx="1294920" cy="12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Line 11"/>
          <p:cNvSpPr/>
          <p:nvPr/>
        </p:nvSpPr>
        <p:spPr>
          <a:xfrm flipH="1">
            <a:off x="7086240" y="3657600"/>
            <a:ext cx="121932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8305920" y="3657600"/>
            <a:ext cx="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H="1">
            <a:off x="6324480" y="3657600"/>
            <a:ext cx="1981440" cy="1371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1"/>
          <p:cNvSpPr/>
          <p:nvPr/>
        </p:nvSpPr>
        <p:spPr>
          <a:xfrm flipH="1">
            <a:off x="4876560" y="3657600"/>
            <a:ext cx="3429000" cy="1523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"/>
          <p:cNvSpPr/>
          <p:nvPr/>
        </p:nvSpPr>
        <p:spPr>
          <a:xfrm>
            <a:off x="304920" y="533520"/>
            <a:ext cx="883908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Screen Shot 2014-11-04 at 1.11.23 PM.png"/>
          <p:cNvPicPr/>
          <p:nvPr/>
        </p:nvPicPr>
        <p:blipFill>
          <a:blip r:embed="rId1"/>
          <a:stretch/>
        </p:blipFill>
        <p:spPr>
          <a:xfrm>
            <a:off x="1295280" y="1905120"/>
            <a:ext cx="6553440" cy="36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 Box 12"/>
          <p:cNvSpPr/>
          <p:nvPr/>
        </p:nvSpPr>
        <p:spPr>
          <a:xfrm>
            <a:off x="1523880" y="1981080"/>
            <a:ext cx="14479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2362320" y="3200400"/>
            <a:ext cx="1676160" cy="337320"/>
          </a:xfrm>
          <a:prstGeom prst="rect">
            <a:avLst/>
          </a:prstGeom>
          <a:solidFill>
            <a:srgbClr val="71e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ug. 1, 20x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6553080" y="2819520"/>
            <a:ext cx="609840" cy="380880"/>
          </a:xfrm>
          <a:prstGeom prst="rect">
            <a:avLst/>
          </a:prstGeom>
          <a:noFill/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914400" y="5791320"/>
            <a:ext cx="7238880" cy="39888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pre-numbered receipt is completed for each disbursement ma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3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4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lenish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4"/>
          <p:cNvSpPr/>
          <p:nvPr/>
        </p:nvSpPr>
        <p:spPr>
          <a:xfrm flipH="1">
            <a:off x="2286000" y="2971800"/>
            <a:ext cx="3581280" cy="0"/>
          </a:xfrm>
          <a:prstGeom prst="line">
            <a:avLst/>
          </a:prstGeom>
          <a:ln w="507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5"/>
          <p:cNvSpPr/>
          <p:nvPr/>
        </p:nvSpPr>
        <p:spPr>
          <a:xfrm flipH="1">
            <a:off x="2362320" y="2133720"/>
            <a:ext cx="358128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6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909720" cy="1387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7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884160" cy="13986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28"/>
          <p:cNvSpPr/>
          <p:nvPr/>
        </p:nvSpPr>
        <p:spPr>
          <a:xfrm>
            <a:off x="3505320" y="1676520"/>
            <a:ext cx="1365120" cy="838080"/>
          </a:xfrm>
          <a:prstGeom prst="rect">
            <a:avLst/>
          </a:prstGeom>
          <a:solidFill>
            <a:srgbClr val="f6e9b4"/>
          </a:solidFill>
          <a:ln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837360" y="3276720"/>
            <a:ext cx="1411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n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Object 30"/>
          <p:cNvGraphicFramePr/>
          <p:nvPr/>
        </p:nvGraphicFramePr>
        <p:xfrm>
          <a:off x="3505320" y="2743200"/>
          <a:ext cx="13716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743200"/>
                    <a:ext cx="1371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7" name="Group 31"/>
          <p:cNvGrpSpPr/>
          <p:nvPr/>
        </p:nvGrpSpPr>
        <p:grpSpPr>
          <a:xfrm>
            <a:off x="7467480" y="1785960"/>
            <a:ext cx="1441440" cy="1206360"/>
            <a:chOff x="7467480" y="1785960"/>
            <a:chExt cx="1441440" cy="1206360"/>
          </a:xfrm>
        </p:grpSpPr>
        <p:pic>
          <p:nvPicPr>
            <p:cNvPr id="638" name="Picture 32" descr=""/>
            <p:cNvPicPr/>
            <p:nvPr/>
          </p:nvPicPr>
          <p:blipFill>
            <a:blip r:embed="rId5"/>
            <a:stretch/>
          </p:blipFill>
          <p:spPr>
            <a:xfrm>
              <a:off x="7467480" y="1785960"/>
              <a:ext cx="1441440" cy="120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39" name="Object 33"/>
            <p:cNvGraphicFramePr/>
            <p:nvPr/>
          </p:nvGraphicFramePr>
          <p:xfrm>
            <a:off x="8093160" y="2278080"/>
            <a:ext cx="745920" cy="320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40" name="Object 3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93160" y="2278080"/>
                      <a:ext cx="7459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1" name="Rectangle 34"/>
          <p:cNvSpPr/>
          <p:nvPr/>
        </p:nvSpPr>
        <p:spPr>
          <a:xfrm>
            <a:off x="3669840" y="275760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5"/>
          <p:cNvSpPr/>
          <p:nvPr/>
        </p:nvSpPr>
        <p:spPr>
          <a:xfrm>
            <a:off x="3063600" y="3193920"/>
            <a:ext cx="2246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To reimbur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petty cash f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36"/>
          <p:cNvSpPr/>
          <p:nvPr/>
        </p:nvSpPr>
        <p:spPr>
          <a:xfrm>
            <a:off x="533520" y="48769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a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Ca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Over and Sh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if nee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7"/>
          <p:cNvSpPr/>
          <p:nvPr/>
        </p:nvSpPr>
        <p:spPr>
          <a:xfrm>
            <a:off x="6247080" y="3276720"/>
            <a:ext cx="111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Object 38"/>
          <p:cNvGraphicFramePr/>
          <p:nvPr/>
        </p:nvGraphicFramePr>
        <p:xfrm>
          <a:off x="4724280" y="4572000"/>
          <a:ext cx="4191120" cy="16002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646" name="Object 3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4572000"/>
                    <a:ext cx="4191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Line 39"/>
          <p:cNvSpPr/>
          <p:nvPr/>
        </p:nvSpPr>
        <p:spPr>
          <a:xfrm>
            <a:off x="4038480" y="5410080"/>
            <a:ext cx="685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40" descr=""/>
          <p:cNvPicPr/>
          <p:nvPr/>
        </p:nvPicPr>
        <p:blipFill>
          <a:blip r:embed="rId10"/>
          <a:stretch/>
        </p:blipFill>
        <p:spPr>
          <a:xfrm>
            <a:off x="3124080" y="4419720"/>
            <a:ext cx="833400" cy="15397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41"/>
          <p:cNvSpPr/>
          <p:nvPr/>
        </p:nvSpPr>
        <p:spPr>
          <a:xfrm>
            <a:off x="2665080" y="609588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C:\Users\DoddandSusan\AppData\Local\Microsoft\Windows\Temporary Internet Files\Content.IE5\5E8N2X5D\MC900279118[1].wmf"/>
          <p:cNvPicPr/>
          <p:nvPr/>
        </p:nvPicPr>
        <p:blipFill>
          <a:blip r:embed="rId11"/>
          <a:stretch/>
        </p:blipFill>
        <p:spPr>
          <a:xfrm>
            <a:off x="3886200" y="1897200"/>
            <a:ext cx="685800" cy="617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990720" y="1828800"/>
            <a:ext cx="73152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on Co. maintains a petty cash fund of $400.  The following is the journal entry to establish the petty cash fund on July 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Object 8"/>
          <p:cNvGraphicFramePr/>
          <p:nvPr/>
        </p:nvGraphicFramePr>
        <p:xfrm>
          <a:off x="990720" y="3352680"/>
          <a:ext cx="75438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7543800" cy="2362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56" name="Text Box 9"/>
          <p:cNvSpPr/>
          <p:nvPr/>
        </p:nvSpPr>
        <p:spPr>
          <a:xfrm>
            <a:off x="990720" y="3975120"/>
            <a:ext cx="7467480" cy="9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 1     Petty Cash                                                    4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Cash                                                                            400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record establishment of petty cash fu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1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600200" y="914400"/>
            <a:ext cx="624852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pic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1371600" y="3200400"/>
            <a:ext cx="66088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l Contro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809880" y="5715000"/>
            <a:ext cx="129564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4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4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838080" y="1828800"/>
            <a:ext cx="74678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are the petty cash transactions the month of Jul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523880" y="3048120"/>
            <a:ext cx="5791320" cy="301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 2   Seminar for CEO……………..…….......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79.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 9   Customer’s shipment ………..………..   55.00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10  Postage stamps………………………….  14.7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14  Marketing meeting………………………   44.67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22  Printer ink purchase…………………….  17.7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26  Finance conference……………..………  48.75       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 these receipts, by account, by preparing a </a:t>
            </a:r>
            <a:r>
              <a:rPr b="1" lang="en-US" sz="1600" spc="-1" strike="noStrike" u="sng">
                <a:solidFill>
                  <a:srgbClr val="2525ff"/>
                </a:solidFill>
                <a:uFillTx/>
                <a:latin typeface="Arial"/>
              </a:rPr>
              <a:t>Petty Cash Re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838080" y="1600200"/>
            <a:ext cx="746784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on Co. maintains a petty cash fund of $400.  The following is the </a:t>
            </a:r>
            <a:r>
              <a:rPr b="1" i="1" lang="en-US" sz="1600" spc="-1" strike="noStrike" u="sng">
                <a:solidFill>
                  <a:srgbClr val="2525ff"/>
                </a:solidFill>
                <a:uFillTx/>
                <a:latin typeface="Arial"/>
              </a:rPr>
              <a:t>Petty Cash Re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the month of Jul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914400" y="2819520"/>
            <a:ext cx="7315200" cy="350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vel Expens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 2  Seminar for CEO………………………………………….......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79.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stomer Business Lunch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14  Marketing meeting………………………………. $44.67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26  Finance conference………………………………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48.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93.42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press Mail Posta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 9   Customer’s shipment ………………………………………..  55.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scellaneous Office Suppli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10  Postage stamps…………………………………..$14.7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22  Printer ink purchase……………………………..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17.7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32.4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receipts………………………………………………………………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260.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summarizing the receipts, they are turned in for reimbursement.</a:t>
            </a:r>
            <a:br>
              <a:rPr sz="1600"/>
            </a:br>
            <a:r>
              <a:rPr b="1" lang="en-US" sz="1600" spc="-1" strike="noStrike">
                <a:solidFill>
                  <a:srgbClr val="2525ff"/>
                </a:solidFill>
                <a:latin typeface="Arial"/>
              </a:rPr>
              <a:t> The petty fund balance on July 31 was $137.80.</a:t>
            </a:r>
            <a:r>
              <a:rPr b="0" lang="en-US" sz="1600" spc="-1" strike="noStrike">
                <a:solidFill>
                  <a:srgbClr val="3170e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533520" y="5486400"/>
            <a:ext cx="8153280" cy="39888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prepare the journal entry to replenish the petty cash fu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2133720" y="2743200"/>
            <a:ext cx="48006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maining……………...$ 137.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pts………………………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260.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……………………………$ 398.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d Balance………...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400.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age……………………..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    (2.0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2362320" y="1828800"/>
            <a:ext cx="434340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 Reconcil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6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1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50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2133720" y="1828800"/>
            <a:ext cx="487656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 Replenishment Journal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0"/>
          <p:cNvGraphicFramePr/>
          <p:nvPr/>
        </p:nvGraphicFramePr>
        <p:xfrm>
          <a:off x="533520" y="2971800"/>
          <a:ext cx="8076960" cy="304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8076960" cy="304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75" name="Text Box 11"/>
          <p:cNvSpPr/>
          <p:nvPr/>
        </p:nvSpPr>
        <p:spPr>
          <a:xfrm>
            <a:off x="762120" y="3733920"/>
            <a:ext cx="78483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31       Travel Expense                                                       79.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tainment Expense                                         93.4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age Expense                                                   55.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Supplies Expense                                       32.4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 Over &amp; Short                                                   2.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                                                                                       262.2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o replenish the petty cash fund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2"/>
          <p:cNvSpPr/>
          <p:nvPr/>
        </p:nvSpPr>
        <p:spPr>
          <a:xfrm>
            <a:off x="838080" y="5105520"/>
            <a:ext cx="8384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2362320" y="3657600"/>
            <a:ext cx="48765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 replenishment..………..$ 262.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maining………………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37.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d Balance…………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 400.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1981080" y="2286000"/>
            <a:ext cx="563904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 Reconciliation After Replenish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4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838080" y="1981080"/>
            <a:ext cx="7467840" cy="116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asionally, the petty cash fund authorization may require a chan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our petty cash fund needs an increase of $10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"/>
          <p:cNvGrpSpPr/>
          <p:nvPr/>
        </p:nvGrpSpPr>
        <p:grpSpPr>
          <a:xfrm>
            <a:off x="533520" y="3962520"/>
            <a:ext cx="8229600" cy="2427120"/>
            <a:chOff x="533520" y="3962520"/>
            <a:chExt cx="8229600" cy="2427120"/>
          </a:xfrm>
        </p:grpSpPr>
        <p:graphicFrame>
          <p:nvGraphicFramePr>
            <p:cNvPr id="685" name="Object 6"/>
            <p:cNvGraphicFramePr/>
            <p:nvPr/>
          </p:nvGraphicFramePr>
          <p:xfrm>
            <a:off x="533520" y="3962520"/>
            <a:ext cx="8229600" cy="2427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8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962520"/>
                      <a:ext cx="8229600" cy="2427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687" name="Text Box 7"/>
            <p:cNvSpPr/>
            <p:nvPr/>
          </p:nvSpPr>
          <p:spPr>
            <a:xfrm>
              <a:off x="1905120" y="4751280"/>
              <a:ext cx="914400" cy="274680"/>
            </a:xfrm>
            <a:prstGeom prst="rect">
              <a:avLst/>
            </a:prstGeom>
            <a:solidFill>
              <a:srgbClr val="ed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8"/>
            <p:cNvSpPr/>
            <p:nvPr/>
          </p:nvSpPr>
          <p:spPr>
            <a:xfrm>
              <a:off x="1828800" y="4751280"/>
              <a:ext cx="1371600" cy="27468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9"/>
            <p:cNvSpPr/>
            <p:nvPr/>
          </p:nvSpPr>
          <p:spPr>
            <a:xfrm>
              <a:off x="2057400" y="5037840"/>
              <a:ext cx="1371600" cy="27324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0"/>
            <p:cNvSpPr/>
            <p:nvPr/>
          </p:nvSpPr>
          <p:spPr>
            <a:xfrm>
              <a:off x="6172200" y="4751280"/>
              <a:ext cx="990720" cy="27468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"/>
            <p:cNvSpPr/>
            <p:nvPr/>
          </p:nvSpPr>
          <p:spPr>
            <a:xfrm>
              <a:off x="7391520" y="5037840"/>
              <a:ext cx="990720" cy="27324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2"/>
            <p:cNvSpPr/>
            <p:nvPr/>
          </p:nvSpPr>
          <p:spPr>
            <a:xfrm>
              <a:off x="685800" y="4751280"/>
              <a:ext cx="990720" cy="27468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3"/>
          <p:cNvSpPr/>
          <p:nvPr/>
        </p:nvSpPr>
        <p:spPr>
          <a:xfrm>
            <a:off x="762120" y="4724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31       Petty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increase the petty cash fu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0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2286000" y="106668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pic 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9"/>
          <p:cNvSpPr/>
          <p:nvPr/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"/>
          <p:cNvSpPr/>
          <p:nvPr/>
        </p:nvSpPr>
        <p:spPr>
          <a:xfrm>
            <a:off x="1219320" y="3276720"/>
            <a:ext cx="6608520" cy="644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k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1"/>
          <p:cNvSpPr/>
          <p:nvPr/>
        </p:nvSpPr>
        <p:spPr>
          <a:xfrm>
            <a:off x="4114800" y="5638680"/>
            <a:ext cx="121932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91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"/>
          <p:cNvSpPr/>
          <p:nvPr/>
        </p:nvSpPr>
        <p:spPr>
          <a:xfrm>
            <a:off x="1752480" y="2209680"/>
            <a:ext cx="6477120" cy="1257480"/>
          </a:xfrm>
          <a:prstGeom prst="wedgeRoundRectCallout">
            <a:avLst>
              <a:gd name="adj1" fmla="val -37277"/>
              <a:gd name="adj2" fmla="val 7840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nk reconcil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isting of the items and amounts that cause the cash balance reported in the bank statement to differ from the balance of the cash account in the general ledg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3"/>
          <p:cNvGrpSpPr/>
          <p:nvPr/>
        </p:nvGrpSpPr>
        <p:grpSpPr>
          <a:xfrm>
            <a:off x="1523880" y="3657600"/>
            <a:ext cx="1219320" cy="1600200"/>
            <a:chOff x="1523880" y="3657600"/>
            <a:chExt cx="1219320" cy="1600200"/>
          </a:xfrm>
        </p:grpSpPr>
        <p:sp>
          <p:nvSpPr>
            <p:cNvPr id="709" name="Freeform 4"/>
            <p:cNvSpPr/>
            <p:nvPr/>
          </p:nvSpPr>
          <p:spPr>
            <a:xfrm>
              <a:off x="1553400" y="4205160"/>
              <a:ext cx="1158480" cy="1047240"/>
            </a:xfrm>
            <a:custGeom>
              <a:avLst/>
              <a:gdLst/>
              <a:ahLst/>
              <a:rect l="l" t="t" r="r" b="b"/>
              <a:pathLst>
                <a:path w="3052" h="2815">
                  <a:moveTo>
                    <a:pt x="1404" y="98"/>
                  </a:moveTo>
                  <a:lnTo>
                    <a:pt x="1190" y="163"/>
                  </a:lnTo>
                  <a:lnTo>
                    <a:pt x="952" y="243"/>
                  </a:lnTo>
                  <a:lnTo>
                    <a:pt x="785" y="319"/>
                  </a:lnTo>
                  <a:lnTo>
                    <a:pt x="673" y="406"/>
                  </a:lnTo>
                  <a:lnTo>
                    <a:pt x="582" y="576"/>
                  </a:lnTo>
                  <a:lnTo>
                    <a:pt x="551" y="796"/>
                  </a:lnTo>
                  <a:lnTo>
                    <a:pt x="500" y="958"/>
                  </a:lnTo>
                  <a:lnTo>
                    <a:pt x="435" y="1028"/>
                  </a:lnTo>
                  <a:lnTo>
                    <a:pt x="412" y="1121"/>
                  </a:lnTo>
                  <a:lnTo>
                    <a:pt x="390" y="1184"/>
                  </a:lnTo>
                  <a:lnTo>
                    <a:pt x="314" y="1231"/>
                  </a:lnTo>
                  <a:lnTo>
                    <a:pt x="226" y="1336"/>
                  </a:lnTo>
                  <a:lnTo>
                    <a:pt x="180" y="1452"/>
                  </a:lnTo>
                  <a:lnTo>
                    <a:pt x="141" y="1672"/>
                  </a:lnTo>
                  <a:lnTo>
                    <a:pt x="8" y="1777"/>
                  </a:lnTo>
                  <a:lnTo>
                    <a:pt x="0" y="1898"/>
                  </a:lnTo>
                  <a:lnTo>
                    <a:pt x="47" y="2358"/>
                  </a:lnTo>
                  <a:lnTo>
                    <a:pt x="175" y="2486"/>
                  </a:lnTo>
                  <a:lnTo>
                    <a:pt x="325" y="2556"/>
                  </a:lnTo>
                  <a:lnTo>
                    <a:pt x="454" y="2590"/>
                  </a:lnTo>
                  <a:lnTo>
                    <a:pt x="466" y="2636"/>
                  </a:lnTo>
                  <a:lnTo>
                    <a:pt x="564" y="2649"/>
                  </a:lnTo>
                  <a:lnTo>
                    <a:pt x="601" y="2815"/>
                  </a:lnTo>
                  <a:lnTo>
                    <a:pt x="2680" y="2807"/>
                  </a:lnTo>
                  <a:lnTo>
                    <a:pt x="3052" y="528"/>
                  </a:lnTo>
                  <a:lnTo>
                    <a:pt x="2855" y="336"/>
                  </a:lnTo>
                  <a:lnTo>
                    <a:pt x="2518" y="243"/>
                  </a:lnTo>
                  <a:lnTo>
                    <a:pt x="2205" y="0"/>
                  </a:lnTo>
                  <a:lnTo>
                    <a:pt x="1828" y="0"/>
                  </a:lnTo>
                  <a:lnTo>
                    <a:pt x="1404" y="98"/>
                  </a:lnTo>
                  <a:close/>
                </a:path>
              </a:pathLst>
            </a:custGeom>
            <a:solidFill>
              <a:srgbClr val="a3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"/>
            <p:cNvSpPr/>
            <p:nvPr/>
          </p:nvSpPr>
          <p:spPr>
            <a:xfrm>
              <a:off x="2267640" y="4557240"/>
              <a:ext cx="153360" cy="231480"/>
            </a:xfrm>
            <a:custGeom>
              <a:avLst/>
              <a:gdLst/>
              <a:ahLst/>
              <a:rect l="l" t="t" r="r" b="b"/>
              <a:pathLst>
                <a:path w="404" h="622">
                  <a:moveTo>
                    <a:pt x="288" y="34"/>
                  </a:moveTo>
                  <a:lnTo>
                    <a:pt x="226" y="169"/>
                  </a:lnTo>
                  <a:lnTo>
                    <a:pt x="207" y="221"/>
                  </a:lnTo>
                  <a:lnTo>
                    <a:pt x="68" y="373"/>
                  </a:lnTo>
                  <a:lnTo>
                    <a:pt x="0" y="506"/>
                  </a:lnTo>
                  <a:lnTo>
                    <a:pt x="57" y="559"/>
                  </a:lnTo>
                  <a:lnTo>
                    <a:pt x="62" y="622"/>
                  </a:lnTo>
                  <a:lnTo>
                    <a:pt x="195" y="506"/>
                  </a:lnTo>
                  <a:lnTo>
                    <a:pt x="138" y="435"/>
                  </a:lnTo>
                  <a:lnTo>
                    <a:pt x="283" y="314"/>
                  </a:lnTo>
                  <a:lnTo>
                    <a:pt x="347" y="70"/>
                  </a:lnTo>
                  <a:lnTo>
                    <a:pt x="404" y="0"/>
                  </a:lnTo>
                  <a:lnTo>
                    <a:pt x="288" y="34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"/>
            <p:cNvSpPr/>
            <p:nvPr/>
          </p:nvSpPr>
          <p:spPr>
            <a:xfrm>
              <a:off x="1937520" y="4391280"/>
              <a:ext cx="276120" cy="427680"/>
            </a:xfrm>
            <a:custGeom>
              <a:avLst/>
              <a:gdLst/>
              <a:ahLst/>
              <a:rect l="l" t="t" r="r" b="b"/>
              <a:pathLst>
                <a:path w="730" h="1150">
                  <a:moveTo>
                    <a:pt x="730" y="0"/>
                  </a:moveTo>
                  <a:lnTo>
                    <a:pt x="336" y="517"/>
                  </a:lnTo>
                  <a:lnTo>
                    <a:pt x="0" y="1150"/>
                  </a:lnTo>
                  <a:lnTo>
                    <a:pt x="139" y="767"/>
                  </a:lnTo>
                  <a:lnTo>
                    <a:pt x="314" y="493"/>
                  </a:lnTo>
                  <a:lnTo>
                    <a:pt x="551" y="179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7"/>
            <p:cNvSpPr/>
            <p:nvPr/>
          </p:nvSpPr>
          <p:spPr>
            <a:xfrm>
              <a:off x="2024640" y="4936320"/>
              <a:ext cx="149400" cy="168120"/>
            </a:xfrm>
            <a:custGeom>
              <a:avLst/>
              <a:gdLst/>
              <a:ahLst/>
              <a:rect l="l" t="t" r="r" b="b"/>
              <a:pathLst>
                <a:path w="393" h="453">
                  <a:moveTo>
                    <a:pt x="0" y="0"/>
                  </a:moveTo>
                  <a:lnTo>
                    <a:pt x="0" y="99"/>
                  </a:lnTo>
                  <a:lnTo>
                    <a:pt x="82" y="181"/>
                  </a:lnTo>
                  <a:lnTo>
                    <a:pt x="184" y="297"/>
                  </a:lnTo>
                  <a:lnTo>
                    <a:pt x="314" y="453"/>
                  </a:lnTo>
                  <a:lnTo>
                    <a:pt x="300" y="291"/>
                  </a:lnTo>
                  <a:lnTo>
                    <a:pt x="393" y="337"/>
                  </a:lnTo>
                  <a:lnTo>
                    <a:pt x="376" y="198"/>
                  </a:lnTo>
                  <a:lnTo>
                    <a:pt x="272" y="116"/>
                  </a:lnTo>
                  <a:lnTo>
                    <a:pt x="260" y="249"/>
                  </a:lnTo>
                  <a:lnTo>
                    <a:pt x="104" y="34"/>
                  </a:lnTo>
                  <a:lnTo>
                    <a:pt x="5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1784880" y="4909320"/>
              <a:ext cx="180360" cy="73440"/>
            </a:xfrm>
            <a:custGeom>
              <a:avLst/>
              <a:gdLst/>
              <a:ahLst/>
              <a:rect l="l" t="t" r="r" b="b"/>
              <a:pathLst>
                <a:path w="475" h="197">
                  <a:moveTo>
                    <a:pt x="17" y="59"/>
                  </a:moveTo>
                  <a:lnTo>
                    <a:pt x="192" y="82"/>
                  </a:lnTo>
                  <a:lnTo>
                    <a:pt x="319" y="87"/>
                  </a:lnTo>
                  <a:lnTo>
                    <a:pt x="475" y="197"/>
                  </a:lnTo>
                  <a:lnTo>
                    <a:pt x="452" y="99"/>
                  </a:lnTo>
                  <a:lnTo>
                    <a:pt x="458" y="11"/>
                  </a:lnTo>
                  <a:lnTo>
                    <a:pt x="302" y="36"/>
                  </a:lnTo>
                  <a:lnTo>
                    <a:pt x="156" y="24"/>
                  </a:lnTo>
                  <a:lnTo>
                    <a:pt x="46" y="0"/>
                  </a:lnTo>
                  <a:lnTo>
                    <a:pt x="0" y="24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"/>
            <p:cNvSpPr/>
            <p:nvPr/>
          </p:nvSpPr>
          <p:spPr>
            <a:xfrm>
              <a:off x="1760760" y="4661280"/>
              <a:ext cx="39240" cy="200880"/>
            </a:xfrm>
            <a:custGeom>
              <a:avLst/>
              <a:gdLst/>
              <a:ahLst/>
              <a:rect l="l" t="t" r="r" b="b"/>
              <a:pathLst>
                <a:path w="105" h="539">
                  <a:moveTo>
                    <a:pt x="25" y="0"/>
                  </a:moveTo>
                  <a:lnTo>
                    <a:pt x="37" y="93"/>
                  </a:lnTo>
                  <a:lnTo>
                    <a:pt x="105" y="254"/>
                  </a:lnTo>
                  <a:lnTo>
                    <a:pt x="59" y="412"/>
                  </a:lnTo>
                  <a:lnTo>
                    <a:pt x="37" y="539"/>
                  </a:lnTo>
                  <a:lnTo>
                    <a:pt x="0" y="214"/>
                  </a:lnTo>
                  <a:lnTo>
                    <a:pt x="6" y="7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0"/>
            <p:cNvSpPr/>
            <p:nvPr/>
          </p:nvSpPr>
          <p:spPr>
            <a:xfrm>
              <a:off x="1553400" y="4700160"/>
              <a:ext cx="85680" cy="181440"/>
            </a:xfrm>
            <a:custGeom>
              <a:avLst/>
              <a:gdLst/>
              <a:ahLst/>
              <a:rect l="l" t="t" r="r" b="b"/>
              <a:pathLst>
                <a:path w="226" h="489">
                  <a:moveTo>
                    <a:pt x="215" y="105"/>
                  </a:moveTo>
                  <a:lnTo>
                    <a:pt x="226" y="255"/>
                  </a:lnTo>
                  <a:lnTo>
                    <a:pt x="186" y="348"/>
                  </a:lnTo>
                  <a:lnTo>
                    <a:pt x="209" y="407"/>
                  </a:lnTo>
                  <a:lnTo>
                    <a:pt x="87" y="418"/>
                  </a:lnTo>
                  <a:lnTo>
                    <a:pt x="0" y="489"/>
                  </a:lnTo>
                  <a:lnTo>
                    <a:pt x="0" y="418"/>
                  </a:lnTo>
                  <a:lnTo>
                    <a:pt x="53" y="378"/>
                  </a:lnTo>
                  <a:lnTo>
                    <a:pt x="135" y="331"/>
                  </a:lnTo>
                  <a:lnTo>
                    <a:pt x="175" y="116"/>
                  </a:lnTo>
                  <a:lnTo>
                    <a:pt x="226" y="0"/>
                  </a:lnTo>
                  <a:lnTo>
                    <a:pt x="215" y="105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1"/>
            <p:cNvSpPr/>
            <p:nvPr/>
          </p:nvSpPr>
          <p:spPr>
            <a:xfrm>
              <a:off x="1670400" y="4661280"/>
              <a:ext cx="46080" cy="110160"/>
            </a:xfrm>
            <a:custGeom>
              <a:avLst/>
              <a:gdLst/>
              <a:ahLst/>
              <a:rect l="l" t="t" r="r" b="b"/>
              <a:pathLst>
                <a:path w="121" h="296">
                  <a:moveTo>
                    <a:pt x="59" y="0"/>
                  </a:moveTo>
                  <a:lnTo>
                    <a:pt x="116" y="127"/>
                  </a:lnTo>
                  <a:lnTo>
                    <a:pt x="121" y="296"/>
                  </a:lnTo>
                  <a:lnTo>
                    <a:pt x="59" y="214"/>
                  </a:lnTo>
                  <a:lnTo>
                    <a:pt x="0" y="76"/>
                  </a:lnTo>
                  <a:lnTo>
                    <a:pt x="11" y="1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1767240" y="4244040"/>
              <a:ext cx="316440" cy="241560"/>
            </a:xfrm>
            <a:custGeom>
              <a:avLst/>
              <a:gdLst/>
              <a:ahLst/>
              <a:rect l="l" t="t" r="r" b="b"/>
              <a:pathLst>
                <a:path w="835" h="650">
                  <a:moveTo>
                    <a:pt x="538" y="297"/>
                  </a:moveTo>
                  <a:lnTo>
                    <a:pt x="725" y="175"/>
                  </a:lnTo>
                  <a:lnTo>
                    <a:pt x="789" y="150"/>
                  </a:lnTo>
                  <a:lnTo>
                    <a:pt x="835" y="82"/>
                  </a:lnTo>
                  <a:lnTo>
                    <a:pt x="835" y="0"/>
                  </a:lnTo>
                  <a:lnTo>
                    <a:pt x="591" y="65"/>
                  </a:lnTo>
                  <a:lnTo>
                    <a:pt x="312" y="169"/>
                  </a:lnTo>
                  <a:lnTo>
                    <a:pt x="202" y="221"/>
                  </a:lnTo>
                  <a:lnTo>
                    <a:pt x="92" y="308"/>
                  </a:lnTo>
                  <a:lnTo>
                    <a:pt x="23" y="494"/>
                  </a:lnTo>
                  <a:lnTo>
                    <a:pt x="0" y="650"/>
                  </a:lnTo>
                  <a:lnTo>
                    <a:pt x="116" y="418"/>
                  </a:lnTo>
                  <a:lnTo>
                    <a:pt x="244" y="319"/>
                  </a:lnTo>
                  <a:lnTo>
                    <a:pt x="371" y="285"/>
                  </a:lnTo>
                  <a:lnTo>
                    <a:pt x="441" y="297"/>
                  </a:lnTo>
                  <a:lnTo>
                    <a:pt x="481" y="319"/>
                  </a:lnTo>
                  <a:lnTo>
                    <a:pt x="538" y="297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3"/>
            <p:cNvSpPr/>
            <p:nvPr/>
          </p:nvSpPr>
          <p:spPr>
            <a:xfrm>
              <a:off x="1826640" y="4350240"/>
              <a:ext cx="189720" cy="546120"/>
            </a:xfrm>
            <a:custGeom>
              <a:avLst/>
              <a:gdLst/>
              <a:ahLst/>
              <a:rect l="l" t="t" r="r" b="b"/>
              <a:pathLst>
                <a:path w="500" h="1470">
                  <a:moveTo>
                    <a:pt x="65" y="244"/>
                  </a:moveTo>
                  <a:lnTo>
                    <a:pt x="0" y="551"/>
                  </a:lnTo>
                  <a:lnTo>
                    <a:pt x="6" y="998"/>
                  </a:lnTo>
                  <a:lnTo>
                    <a:pt x="99" y="1470"/>
                  </a:lnTo>
                  <a:lnTo>
                    <a:pt x="187" y="1376"/>
                  </a:lnTo>
                  <a:lnTo>
                    <a:pt x="255" y="1196"/>
                  </a:lnTo>
                  <a:lnTo>
                    <a:pt x="244" y="894"/>
                  </a:lnTo>
                  <a:lnTo>
                    <a:pt x="280" y="616"/>
                  </a:lnTo>
                  <a:lnTo>
                    <a:pt x="435" y="226"/>
                  </a:lnTo>
                  <a:lnTo>
                    <a:pt x="500" y="0"/>
                  </a:lnTo>
                  <a:lnTo>
                    <a:pt x="285" y="162"/>
                  </a:lnTo>
                  <a:lnTo>
                    <a:pt x="209" y="221"/>
                  </a:lnTo>
                  <a:lnTo>
                    <a:pt x="285" y="365"/>
                  </a:lnTo>
                  <a:lnTo>
                    <a:pt x="145" y="302"/>
                  </a:lnTo>
                  <a:lnTo>
                    <a:pt x="65" y="244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4"/>
            <p:cNvSpPr/>
            <p:nvPr/>
          </p:nvSpPr>
          <p:spPr>
            <a:xfrm>
              <a:off x="1719720" y="4890960"/>
              <a:ext cx="75600" cy="190440"/>
            </a:xfrm>
            <a:custGeom>
              <a:avLst/>
              <a:gdLst/>
              <a:ahLst/>
              <a:rect l="l" t="t" r="r" b="b"/>
              <a:pathLst>
                <a:path w="200" h="514">
                  <a:moveTo>
                    <a:pt x="200" y="16"/>
                  </a:moveTo>
                  <a:lnTo>
                    <a:pt x="144" y="82"/>
                  </a:lnTo>
                  <a:lnTo>
                    <a:pt x="104" y="132"/>
                  </a:lnTo>
                  <a:lnTo>
                    <a:pt x="80" y="225"/>
                  </a:lnTo>
                  <a:lnTo>
                    <a:pt x="57" y="514"/>
                  </a:lnTo>
                  <a:lnTo>
                    <a:pt x="19" y="470"/>
                  </a:lnTo>
                  <a:lnTo>
                    <a:pt x="0" y="402"/>
                  </a:lnTo>
                  <a:lnTo>
                    <a:pt x="11" y="192"/>
                  </a:lnTo>
                  <a:lnTo>
                    <a:pt x="38" y="139"/>
                  </a:lnTo>
                  <a:lnTo>
                    <a:pt x="112" y="40"/>
                  </a:lnTo>
                  <a:lnTo>
                    <a:pt x="160" y="0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5"/>
            <p:cNvSpPr/>
            <p:nvPr/>
          </p:nvSpPr>
          <p:spPr>
            <a:xfrm>
              <a:off x="1525320" y="4864680"/>
              <a:ext cx="254880" cy="257400"/>
            </a:xfrm>
            <a:custGeom>
              <a:avLst/>
              <a:gdLst/>
              <a:ahLst/>
              <a:rect l="l" t="t" r="r" b="b"/>
              <a:pathLst>
                <a:path w="673" h="692">
                  <a:moveTo>
                    <a:pt x="673" y="74"/>
                  </a:moveTo>
                  <a:lnTo>
                    <a:pt x="606" y="146"/>
                  </a:lnTo>
                  <a:lnTo>
                    <a:pt x="534" y="243"/>
                  </a:lnTo>
                  <a:lnTo>
                    <a:pt x="511" y="335"/>
                  </a:lnTo>
                  <a:lnTo>
                    <a:pt x="517" y="441"/>
                  </a:lnTo>
                  <a:lnTo>
                    <a:pt x="515" y="483"/>
                  </a:lnTo>
                  <a:lnTo>
                    <a:pt x="273" y="616"/>
                  </a:lnTo>
                  <a:lnTo>
                    <a:pt x="235" y="692"/>
                  </a:lnTo>
                  <a:lnTo>
                    <a:pt x="180" y="681"/>
                  </a:lnTo>
                  <a:lnTo>
                    <a:pt x="95" y="597"/>
                  </a:lnTo>
                  <a:lnTo>
                    <a:pt x="59" y="544"/>
                  </a:lnTo>
                  <a:lnTo>
                    <a:pt x="25" y="441"/>
                  </a:lnTo>
                  <a:lnTo>
                    <a:pt x="0" y="394"/>
                  </a:lnTo>
                  <a:lnTo>
                    <a:pt x="4" y="302"/>
                  </a:lnTo>
                  <a:lnTo>
                    <a:pt x="49" y="232"/>
                  </a:lnTo>
                  <a:lnTo>
                    <a:pt x="59" y="126"/>
                  </a:lnTo>
                  <a:lnTo>
                    <a:pt x="99" y="59"/>
                  </a:lnTo>
                  <a:lnTo>
                    <a:pt x="226" y="6"/>
                  </a:lnTo>
                  <a:lnTo>
                    <a:pt x="287" y="0"/>
                  </a:lnTo>
                  <a:lnTo>
                    <a:pt x="353" y="2"/>
                  </a:lnTo>
                  <a:lnTo>
                    <a:pt x="560" y="48"/>
                  </a:lnTo>
                  <a:lnTo>
                    <a:pt x="673" y="74"/>
                  </a:lnTo>
                  <a:close/>
                </a:path>
              </a:pathLst>
            </a:custGeom>
            <a:solidFill>
              <a:srgbClr val="cc6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1531800" y="4872240"/>
              <a:ext cx="234360" cy="106920"/>
            </a:xfrm>
            <a:custGeom>
              <a:avLst/>
              <a:gdLst/>
              <a:ahLst/>
              <a:rect l="l" t="t" r="r" b="b"/>
              <a:pathLst>
                <a:path w="617" h="287">
                  <a:moveTo>
                    <a:pt x="583" y="76"/>
                  </a:moveTo>
                  <a:lnTo>
                    <a:pt x="346" y="61"/>
                  </a:lnTo>
                  <a:lnTo>
                    <a:pt x="220" y="68"/>
                  </a:lnTo>
                  <a:lnTo>
                    <a:pt x="161" y="106"/>
                  </a:lnTo>
                  <a:lnTo>
                    <a:pt x="127" y="154"/>
                  </a:lnTo>
                  <a:lnTo>
                    <a:pt x="0" y="287"/>
                  </a:lnTo>
                  <a:lnTo>
                    <a:pt x="152" y="95"/>
                  </a:lnTo>
                  <a:lnTo>
                    <a:pt x="196" y="29"/>
                  </a:lnTo>
                  <a:lnTo>
                    <a:pt x="104" y="49"/>
                  </a:lnTo>
                  <a:lnTo>
                    <a:pt x="220" y="0"/>
                  </a:lnTo>
                  <a:lnTo>
                    <a:pt x="319" y="0"/>
                  </a:lnTo>
                  <a:lnTo>
                    <a:pt x="473" y="27"/>
                  </a:lnTo>
                  <a:lnTo>
                    <a:pt x="617" y="55"/>
                  </a:lnTo>
                  <a:lnTo>
                    <a:pt x="583" y="76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7"/>
            <p:cNvSpPr/>
            <p:nvPr/>
          </p:nvSpPr>
          <p:spPr>
            <a:xfrm>
              <a:off x="1541880" y="4978440"/>
              <a:ext cx="28440" cy="69840"/>
            </a:xfrm>
            <a:custGeom>
              <a:avLst/>
              <a:gdLst/>
              <a:ahLst/>
              <a:rect l="l" t="t" r="r" b="b"/>
              <a:pathLst>
                <a:path w="76" h="188">
                  <a:moveTo>
                    <a:pt x="76" y="0"/>
                  </a:moveTo>
                  <a:lnTo>
                    <a:pt x="11" y="133"/>
                  </a:lnTo>
                  <a:lnTo>
                    <a:pt x="11" y="188"/>
                  </a:lnTo>
                  <a:lnTo>
                    <a:pt x="0" y="137"/>
                  </a:lnTo>
                  <a:lnTo>
                    <a:pt x="20" y="55"/>
                  </a:lnTo>
                  <a:lnTo>
                    <a:pt x="57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8"/>
            <p:cNvSpPr/>
            <p:nvPr/>
          </p:nvSpPr>
          <p:spPr>
            <a:xfrm>
              <a:off x="1645200" y="4880880"/>
              <a:ext cx="107640" cy="146520"/>
            </a:xfrm>
            <a:custGeom>
              <a:avLst/>
              <a:gdLst/>
              <a:ahLst/>
              <a:rect l="l" t="t" r="r" b="b"/>
              <a:pathLst>
                <a:path w="285" h="393">
                  <a:moveTo>
                    <a:pt x="230" y="0"/>
                  </a:moveTo>
                  <a:lnTo>
                    <a:pt x="179" y="9"/>
                  </a:lnTo>
                  <a:lnTo>
                    <a:pt x="131" y="30"/>
                  </a:lnTo>
                  <a:lnTo>
                    <a:pt x="92" y="51"/>
                  </a:lnTo>
                  <a:lnTo>
                    <a:pt x="57" y="91"/>
                  </a:lnTo>
                  <a:lnTo>
                    <a:pt x="40" y="104"/>
                  </a:lnTo>
                  <a:lnTo>
                    <a:pt x="8" y="156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8" y="251"/>
                  </a:lnTo>
                  <a:lnTo>
                    <a:pt x="16" y="294"/>
                  </a:lnTo>
                  <a:lnTo>
                    <a:pt x="50" y="348"/>
                  </a:lnTo>
                  <a:lnTo>
                    <a:pt x="73" y="365"/>
                  </a:lnTo>
                  <a:lnTo>
                    <a:pt x="122" y="393"/>
                  </a:lnTo>
                  <a:lnTo>
                    <a:pt x="194" y="386"/>
                  </a:lnTo>
                  <a:lnTo>
                    <a:pt x="124" y="306"/>
                  </a:lnTo>
                  <a:lnTo>
                    <a:pt x="105" y="237"/>
                  </a:lnTo>
                  <a:lnTo>
                    <a:pt x="124" y="127"/>
                  </a:lnTo>
                  <a:lnTo>
                    <a:pt x="209" y="38"/>
                  </a:lnTo>
                  <a:lnTo>
                    <a:pt x="285" y="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9"/>
            <p:cNvSpPr/>
            <p:nvPr/>
          </p:nvSpPr>
          <p:spPr>
            <a:xfrm>
              <a:off x="1647360" y="4923720"/>
              <a:ext cx="29520" cy="49680"/>
            </a:xfrm>
            <a:custGeom>
              <a:avLst/>
              <a:gdLst/>
              <a:ahLst/>
              <a:rect l="l" t="t" r="r" b="b"/>
              <a:pathLst>
                <a:path w="78" h="133">
                  <a:moveTo>
                    <a:pt x="40" y="7"/>
                  </a:moveTo>
                  <a:lnTo>
                    <a:pt x="63" y="0"/>
                  </a:lnTo>
                  <a:lnTo>
                    <a:pt x="78" y="19"/>
                  </a:lnTo>
                  <a:lnTo>
                    <a:pt x="78" y="53"/>
                  </a:lnTo>
                  <a:lnTo>
                    <a:pt x="68" y="91"/>
                  </a:lnTo>
                  <a:lnTo>
                    <a:pt x="51" y="120"/>
                  </a:lnTo>
                  <a:lnTo>
                    <a:pt x="30" y="133"/>
                  </a:lnTo>
                  <a:lnTo>
                    <a:pt x="9" y="125"/>
                  </a:lnTo>
                  <a:lnTo>
                    <a:pt x="0" y="108"/>
                  </a:lnTo>
                  <a:lnTo>
                    <a:pt x="0" y="78"/>
                  </a:lnTo>
                  <a:lnTo>
                    <a:pt x="4" y="45"/>
                  </a:lnTo>
                  <a:lnTo>
                    <a:pt x="21" y="19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2068200" y="4770000"/>
              <a:ext cx="236880" cy="150120"/>
            </a:xfrm>
            <a:custGeom>
              <a:avLst/>
              <a:gdLst/>
              <a:ahLst/>
              <a:rect l="l" t="t" r="r" b="b"/>
              <a:pathLst>
                <a:path w="623" h="403">
                  <a:moveTo>
                    <a:pt x="486" y="0"/>
                  </a:moveTo>
                  <a:lnTo>
                    <a:pt x="534" y="0"/>
                  </a:lnTo>
                  <a:lnTo>
                    <a:pt x="549" y="19"/>
                  </a:lnTo>
                  <a:lnTo>
                    <a:pt x="545" y="44"/>
                  </a:lnTo>
                  <a:lnTo>
                    <a:pt x="500" y="88"/>
                  </a:lnTo>
                  <a:lnTo>
                    <a:pt x="595" y="88"/>
                  </a:lnTo>
                  <a:lnTo>
                    <a:pt x="623" y="105"/>
                  </a:lnTo>
                  <a:lnTo>
                    <a:pt x="620" y="128"/>
                  </a:lnTo>
                  <a:lnTo>
                    <a:pt x="608" y="160"/>
                  </a:lnTo>
                  <a:lnTo>
                    <a:pt x="587" y="173"/>
                  </a:lnTo>
                  <a:lnTo>
                    <a:pt x="599" y="194"/>
                  </a:lnTo>
                  <a:lnTo>
                    <a:pt x="591" y="221"/>
                  </a:lnTo>
                  <a:lnTo>
                    <a:pt x="568" y="244"/>
                  </a:lnTo>
                  <a:lnTo>
                    <a:pt x="536" y="259"/>
                  </a:lnTo>
                  <a:lnTo>
                    <a:pt x="494" y="270"/>
                  </a:lnTo>
                  <a:lnTo>
                    <a:pt x="458" y="274"/>
                  </a:lnTo>
                  <a:lnTo>
                    <a:pt x="443" y="318"/>
                  </a:lnTo>
                  <a:lnTo>
                    <a:pt x="416" y="341"/>
                  </a:lnTo>
                  <a:lnTo>
                    <a:pt x="310" y="403"/>
                  </a:lnTo>
                  <a:lnTo>
                    <a:pt x="0" y="390"/>
                  </a:lnTo>
                  <a:lnTo>
                    <a:pt x="114" y="227"/>
                  </a:lnTo>
                  <a:lnTo>
                    <a:pt x="274" y="69"/>
                  </a:lnTo>
                  <a:lnTo>
                    <a:pt x="437" y="1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cc6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1"/>
            <p:cNvSpPr/>
            <p:nvPr/>
          </p:nvSpPr>
          <p:spPr>
            <a:xfrm>
              <a:off x="2092320" y="4808160"/>
              <a:ext cx="166680" cy="101880"/>
            </a:xfrm>
            <a:custGeom>
              <a:avLst/>
              <a:gdLst/>
              <a:ahLst/>
              <a:rect l="l" t="t" r="r" b="b"/>
              <a:pathLst>
                <a:path w="441" h="274">
                  <a:moveTo>
                    <a:pt x="433" y="11"/>
                  </a:moveTo>
                  <a:lnTo>
                    <a:pt x="330" y="23"/>
                  </a:lnTo>
                  <a:lnTo>
                    <a:pt x="273" y="46"/>
                  </a:lnTo>
                  <a:lnTo>
                    <a:pt x="213" y="105"/>
                  </a:lnTo>
                  <a:lnTo>
                    <a:pt x="146" y="148"/>
                  </a:lnTo>
                  <a:lnTo>
                    <a:pt x="114" y="209"/>
                  </a:lnTo>
                  <a:lnTo>
                    <a:pt x="152" y="188"/>
                  </a:lnTo>
                  <a:lnTo>
                    <a:pt x="233" y="141"/>
                  </a:lnTo>
                  <a:lnTo>
                    <a:pt x="302" y="124"/>
                  </a:lnTo>
                  <a:lnTo>
                    <a:pt x="384" y="122"/>
                  </a:lnTo>
                  <a:lnTo>
                    <a:pt x="306" y="148"/>
                  </a:lnTo>
                  <a:lnTo>
                    <a:pt x="224" y="200"/>
                  </a:lnTo>
                  <a:lnTo>
                    <a:pt x="116" y="272"/>
                  </a:lnTo>
                  <a:lnTo>
                    <a:pt x="0" y="274"/>
                  </a:lnTo>
                  <a:lnTo>
                    <a:pt x="76" y="179"/>
                  </a:lnTo>
                  <a:lnTo>
                    <a:pt x="169" y="95"/>
                  </a:lnTo>
                  <a:lnTo>
                    <a:pt x="273" y="25"/>
                  </a:lnTo>
                  <a:lnTo>
                    <a:pt x="336" y="11"/>
                  </a:lnTo>
                  <a:lnTo>
                    <a:pt x="441" y="0"/>
                  </a:lnTo>
                  <a:lnTo>
                    <a:pt x="433" y="11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2"/>
            <p:cNvSpPr/>
            <p:nvPr/>
          </p:nvSpPr>
          <p:spPr>
            <a:xfrm>
              <a:off x="2154600" y="4780440"/>
              <a:ext cx="76680" cy="58680"/>
            </a:xfrm>
            <a:custGeom>
              <a:avLst/>
              <a:gdLst/>
              <a:ahLst/>
              <a:rect l="l" t="t" r="r" b="b"/>
              <a:pathLst>
                <a:path w="203" h="158">
                  <a:moveTo>
                    <a:pt x="203" y="7"/>
                  </a:moveTo>
                  <a:lnTo>
                    <a:pt x="63" y="80"/>
                  </a:lnTo>
                  <a:lnTo>
                    <a:pt x="0" y="158"/>
                  </a:lnTo>
                  <a:lnTo>
                    <a:pt x="53" y="66"/>
                  </a:lnTo>
                  <a:lnTo>
                    <a:pt x="183" y="7"/>
                  </a:lnTo>
                  <a:lnTo>
                    <a:pt x="202" y="0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3"/>
            <p:cNvSpPr/>
            <p:nvPr/>
          </p:nvSpPr>
          <p:spPr>
            <a:xfrm>
              <a:off x="2201760" y="4872960"/>
              <a:ext cx="23400" cy="2052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57" y="0"/>
                  </a:moveTo>
                  <a:lnTo>
                    <a:pt x="60" y="11"/>
                  </a:lnTo>
                  <a:lnTo>
                    <a:pt x="55" y="30"/>
                  </a:lnTo>
                  <a:lnTo>
                    <a:pt x="38" y="49"/>
                  </a:lnTo>
                  <a:lnTo>
                    <a:pt x="22" y="55"/>
                  </a:lnTo>
                  <a:lnTo>
                    <a:pt x="11" y="53"/>
                  </a:lnTo>
                  <a:lnTo>
                    <a:pt x="3" y="46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4"/>
            <p:cNvSpPr/>
            <p:nvPr/>
          </p:nvSpPr>
          <p:spPr>
            <a:xfrm>
              <a:off x="2254680" y="4838040"/>
              <a:ext cx="30960" cy="2124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84" y="0"/>
                  </a:moveTo>
                  <a:lnTo>
                    <a:pt x="82" y="23"/>
                  </a:lnTo>
                  <a:lnTo>
                    <a:pt x="74" y="42"/>
                  </a:lnTo>
                  <a:lnTo>
                    <a:pt x="57" y="53"/>
                  </a:lnTo>
                  <a:lnTo>
                    <a:pt x="36" y="57"/>
                  </a:lnTo>
                  <a:lnTo>
                    <a:pt x="14" y="55"/>
                  </a:lnTo>
                  <a:lnTo>
                    <a:pt x="4" y="45"/>
                  </a:lnTo>
                  <a:lnTo>
                    <a:pt x="0" y="30"/>
                  </a:lnTo>
                  <a:lnTo>
                    <a:pt x="2" y="15"/>
                  </a:lnTo>
                  <a:lnTo>
                    <a:pt x="42" y="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5"/>
            <p:cNvSpPr/>
            <p:nvPr/>
          </p:nvSpPr>
          <p:spPr>
            <a:xfrm>
              <a:off x="2261880" y="4804560"/>
              <a:ext cx="35640" cy="2160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92" y="3"/>
                  </a:moveTo>
                  <a:lnTo>
                    <a:pt x="93" y="20"/>
                  </a:lnTo>
                  <a:lnTo>
                    <a:pt x="84" y="43"/>
                  </a:lnTo>
                  <a:lnTo>
                    <a:pt x="59" y="57"/>
                  </a:lnTo>
                  <a:lnTo>
                    <a:pt x="27" y="58"/>
                  </a:lnTo>
                  <a:lnTo>
                    <a:pt x="2" y="53"/>
                  </a:lnTo>
                  <a:lnTo>
                    <a:pt x="0" y="28"/>
                  </a:lnTo>
                  <a:lnTo>
                    <a:pt x="10" y="9"/>
                  </a:lnTo>
                  <a:lnTo>
                    <a:pt x="23" y="0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6"/>
            <p:cNvSpPr/>
            <p:nvPr/>
          </p:nvSpPr>
          <p:spPr>
            <a:xfrm>
              <a:off x="2235960" y="4770000"/>
              <a:ext cx="30240" cy="2376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8" y="0"/>
                  </a:moveTo>
                  <a:lnTo>
                    <a:pt x="80" y="21"/>
                  </a:lnTo>
                  <a:lnTo>
                    <a:pt x="74" y="38"/>
                  </a:lnTo>
                  <a:lnTo>
                    <a:pt x="55" y="52"/>
                  </a:lnTo>
                  <a:lnTo>
                    <a:pt x="26" y="63"/>
                  </a:lnTo>
                  <a:lnTo>
                    <a:pt x="7" y="55"/>
                  </a:lnTo>
                  <a:lnTo>
                    <a:pt x="0" y="44"/>
                  </a:lnTo>
                  <a:lnTo>
                    <a:pt x="0" y="17"/>
                  </a:lnTo>
                  <a:lnTo>
                    <a:pt x="55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7"/>
            <p:cNvSpPr/>
            <p:nvPr/>
          </p:nvSpPr>
          <p:spPr>
            <a:xfrm>
              <a:off x="1978560" y="4120560"/>
              <a:ext cx="425160" cy="456120"/>
            </a:xfrm>
            <a:custGeom>
              <a:avLst/>
              <a:gdLst/>
              <a:ahLst/>
              <a:rect l="l" t="t" r="r" b="b"/>
              <a:pathLst>
                <a:path w="1122" h="1226">
                  <a:moveTo>
                    <a:pt x="289" y="352"/>
                  </a:moveTo>
                  <a:lnTo>
                    <a:pt x="285" y="487"/>
                  </a:lnTo>
                  <a:lnTo>
                    <a:pt x="164" y="727"/>
                  </a:lnTo>
                  <a:lnTo>
                    <a:pt x="78" y="919"/>
                  </a:lnTo>
                  <a:lnTo>
                    <a:pt x="0" y="1226"/>
                  </a:lnTo>
                  <a:lnTo>
                    <a:pt x="399" y="907"/>
                  </a:lnTo>
                  <a:lnTo>
                    <a:pt x="538" y="751"/>
                  </a:lnTo>
                  <a:lnTo>
                    <a:pt x="662" y="599"/>
                  </a:lnTo>
                  <a:lnTo>
                    <a:pt x="909" y="379"/>
                  </a:lnTo>
                  <a:lnTo>
                    <a:pt x="1103" y="248"/>
                  </a:lnTo>
                  <a:lnTo>
                    <a:pt x="1122" y="120"/>
                  </a:lnTo>
                  <a:lnTo>
                    <a:pt x="1070" y="0"/>
                  </a:lnTo>
                  <a:lnTo>
                    <a:pt x="709" y="130"/>
                  </a:lnTo>
                  <a:lnTo>
                    <a:pt x="289" y="35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8"/>
            <p:cNvSpPr/>
            <p:nvPr/>
          </p:nvSpPr>
          <p:spPr>
            <a:xfrm>
              <a:off x="1951200" y="4295880"/>
              <a:ext cx="216000" cy="374040"/>
            </a:xfrm>
            <a:custGeom>
              <a:avLst/>
              <a:gdLst/>
              <a:ahLst/>
              <a:rect l="l" t="t" r="r" b="b"/>
              <a:pathLst>
                <a:path w="570" h="1005">
                  <a:moveTo>
                    <a:pt x="508" y="0"/>
                  </a:moveTo>
                  <a:lnTo>
                    <a:pt x="452" y="13"/>
                  </a:lnTo>
                  <a:lnTo>
                    <a:pt x="403" y="49"/>
                  </a:lnTo>
                  <a:lnTo>
                    <a:pt x="376" y="116"/>
                  </a:lnTo>
                  <a:lnTo>
                    <a:pt x="376" y="184"/>
                  </a:lnTo>
                  <a:lnTo>
                    <a:pt x="278" y="378"/>
                  </a:lnTo>
                  <a:lnTo>
                    <a:pt x="169" y="530"/>
                  </a:lnTo>
                  <a:lnTo>
                    <a:pt x="97" y="657"/>
                  </a:lnTo>
                  <a:lnTo>
                    <a:pt x="0" y="954"/>
                  </a:lnTo>
                  <a:lnTo>
                    <a:pt x="48" y="1005"/>
                  </a:lnTo>
                  <a:lnTo>
                    <a:pt x="110" y="954"/>
                  </a:lnTo>
                  <a:lnTo>
                    <a:pt x="190" y="834"/>
                  </a:lnTo>
                  <a:lnTo>
                    <a:pt x="357" y="604"/>
                  </a:lnTo>
                  <a:lnTo>
                    <a:pt x="479" y="441"/>
                  </a:lnTo>
                  <a:lnTo>
                    <a:pt x="502" y="188"/>
                  </a:lnTo>
                  <a:lnTo>
                    <a:pt x="570" y="89"/>
                  </a:lnTo>
                  <a:lnTo>
                    <a:pt x="540" y="45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9"/>
            <p:cNvSpPr/>
            <p:nvPr/>
          </p:nvSpPr>
          <p:spPr>
            <a:xfrm>
              <a:off x="1996560" y="3765240"/>
              <a:ext cx="364320" cy="528840"/>
            </a:xfrm>
            <a:custGeom>
              <a:avLst/>
              <a:gdLst/>
              <a:ahLst/>
              <a:rect l="l" t="t" r="r" b="b"/>
              <a:pathLst>
                <a:path w="960" h="1422">
                  <a:moveTo>
                    <a:pt x="99" y="38"/>
                  </a:moveTo>
                  <a:lnTo>
                    <a:pt x="72" y="112"/>
                  </a:lnTo>
                  <a:lnTo>
                    <a:pt x="57" y="187"/>
                  </a:lnTo>
                  <a:lnTo>
                    <a:pt x="19" y="466"/>
                  </a:lnTo>
                  <a:lnTo>
                    <a:pt x="4" y="667"/>
                  </a:lnTo>
                  <a:lnTo>
                    <a:pt x="0" y="812"/>
                  </a:lnTo>
                  <a:lnTo>
                    <a:pt x="28" y="972"/>
                  </a:lnTo>
                  <a:lnTo>
                    <a:pt x="127" y="1139"/>
                  </a:lnTo>
                  <a:lnTo>
                    <a:pt x="239" y="1310"/>
                  </a:lnTo>
                  <a:lnTo>
                    <a:pt x="334" y="1356"/>
                  </a:lnTo>
                  <a:lnTo>
                    <a:pt x="403" y="1422"/>
                  </a:lnTo>
                  <a:lnTo>
                    <a:pt x="635" y="1268"/>
                  </a:lnTo>
                  <a:lnTo>
                    <a:pt x="912" y="945"/>
                  </a:lnTo>
                  <a:lnTo>
                    <a:pt x="960" y="270"/>
                  </a:lnTo>
                  <a:lnTo>
                    <a:pt x="752" y="15"/>
                  </a:lnTo>
                  <a:lnTo>
                    <a:pt x="338" y="0"/>
                  </a:lnTo>
                  <a:lnTo>
                    <a:pt x="99" y="38"/>
                  </a:lnTo>
                  <a:close/>
                </a:path>
              </a:pathLst>
            </a:custGeom>
            <a:solidFill>
              <a:srgbClr val="cc6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0"/>
            <p:cNvSpPr/>
            <p:nvPr/>
          </p:nvSpPr>
          <p:spPr>
            <a:xfrm>
              <a:off x="2194200" y="4019760"/>
              <a:ext cx="63360" cy="6084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38" y="1"/>
                  </a:moveTo>
                  <a:lnTo>
                    <a:pt x="112" y="20"/>
                  </a:lnTo>
                  <a:lnTo>
                    <a:pt x="169" y="38"/>
                  </a:lnTo>
                  <a:lnTo>
                    <a:pt x="169" y="114"/>
                  </a:lnTo>
                  <a:lnTo>
                    <a:pt x="159" y="163"/>
                  </a:lnTo>
                  <a:lnTo>
                    <a:pt x="108" y="96"/>
                  </a:lnTo>
                  <a:lnTo>
                    <a:pt x="38" y="41"/>
                  </a:lnTo>
                  <a:lnTo>
                    <a:pt x="0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1"/>
            <p:cNvSpPr/>
            <p:nvPr/>
          </p:nvSpPr>
          <p:spPr>
            <a:xfrm>
              <a:off x="2070360" y="4138920"/>
              <a:ext cx="105480" cy="41400"/>
            </a:xfrm>
            <a:custGeom>
              <a:avLst/>
              <a:gdLst/>
              <a:ahLst/>
              <a:rect l="l" t="t" r="r" b="b"/>
              <a:pathLst>
                <a:path w="277" h="112">
                  <a:moveTo>
                    <a:pt x="38" y="30"/>
                  </a:moveTo>
                  <a:lnTo>
                    <a:pt x="76" y="59"/>
                  </a:lnTo>
                  <a:lnTo>
                    <a:pt x="135" y="72"/>
                  </a:lnTo>
                  <a:lnTo>
                    <a:pt x="222" y="61"/>
                  </a:lnTo>
                  <a:lnTo>
                    <a:pt x="277" y="34"/>
                  </a:lnTo>
                  <a:lnTo>
                    <a:pt x="211" y="97"/>
                  </a:lnTo>
                  <a:lnTo>
                    <a:pt x="154" y="112"/>
                  </a:lnTo>
                  <a:lnTo>
                    <a:pt x="95" y="110"/>
                  </a:lnTo>
                  <a:lnTo>
                    <a:pt x="38" y="78"/>
                  </a:lnTo>
                  <a:lnTo>
                    <a:pt x="0" y="0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2"/>
            <p:cNvSpPr/>
            <p:nvPr/>
          </p:nvSpPr>
          <p:spPr>
            <a:xfrm>
              <a:off x="2123640" y="3897000"/>
              <a:ext cx="20160" cy="5184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56" y="0"/>
                  </a:moveTo>
                  <a:lnTo>
                    <a:pt x="38" y="59"/>
                  </a:lnTo>
                  <a:lnTo>
                    <a:pt x="56" y="138"/>
                  </a:lnTo>
                  <a:lnTo>
                    <a:pt x="23" y="125"/>
                  </a:lnTo>
                  <a:lnTo>
                    <a:pt x="0" y="95"/>
                  </a:lnTo>
                  <a:lnTo>
                    <a:pt x="6" y="5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3"/>
            <p:cNvSpPr/>
            <p:nvPr/>
          </p:nvSpPr>
          <p:spPr>
            <a:xfrm>
              <a:off x="2040840" y="4068360"/>
              <a:ext cx="62280" cy="3996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163" y="40"/>
                  </a:moveTo>
                  <a:lnTo>
                    <a:pt x="140" y="78"/>
                  </a:lnTo>
                  <a:lnTo>
                    <a:pt x="99" y="97"/>
                  </a:lnTo>
                  <a:lnTo>
                    <a:pt x="32" y="91"/>
                  </a:lnTo>
                  <a:lnTo>
                    <a:pt x="2" y="106"/>
                  </a:lnTo>
                  <a:lnTo>
                    <a:pt x="0" y="62"/>
                  </a:lnTo>
                  <a:lnTo>
                    <a:pt x="19" y="26"/>
                  </a:lnTo>
                  <a:lnTo>
                    <a:pt x="51" y="0"/>
                  </a:lnTo>
                  <a:lnTo>
                    <a:pt x="106" y="26"/>
                  </a:lnTo>
                  <a:lnTo>
                    <a:pt x="163" y="4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4"/>
            <p:cNvSpPr/>
            <p:nvPr/>
          </p:nvSpPr>
          <p:spPr>
            <a:xfrm>
              <a:off x="2068920" y="3956400"/>
              <a:ext cx="35640" cy="110880"/>
            </a:xfrm>
            <a:custGeom>
              <a:avLst/>
              <a:gdLst/>
              <a:ahLst/>
              <a:rect l="l" t="t" r="r" b="b"/>
              <a:pathLst>
                <a:path w="93" h="299">
                  <a:moveTo>
                    <a:pt x="89" y="0"/>
                  </a:moveTo>
                  <a:lnTo>
                    <a:pt x="93" y="33"/>
                  </a:lnTo>
                  <a:lnTo>
                    <a:pt x="93" y="76"/>
                  </a:lnTo>
                  <a:lnTo>
                    <a:pt x="80" y="171"/>
                  </a:lnTo>
                  <a:lnTo>
                    <a:pt x="66" y="257"/>
                  </a:lnTo>
                  <a:lnTo>
                    <a:pt x="76" y="299"/>
                  </a:lnTo>
                  <a:lnTo>
                    <a:pt x="49" y="265"/>
                  </a:lnTo>
                  <a:lnTo>
                    <a:pt x="0" y="268"/>
                  </a:lnTo>
                  <a:lnTo>
                    <a:pt x="6" y="228"/>
                  </a:lnTo>
                  <a:lnTo>
                    <a:pt x="34" y="209"/>
                  </a:lnTo>
                  <a:lnTo>
                    <a:pt x="66" y="132"/>
                  </a:lnTo>
                  <a:lnTo>
                    <a:pt x="83" y="61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5"/>
            <p:cNvSpPr/>
            <p:nvPr/>
          </p:nvSpPr>
          <p:spPr>
            <a:xfrm>
              <a:off x="1994400" y="3786120"/>
              <a:ext cx="119880" cy="475200"/>
            </a:xfrm>
            <a:custGeom>
              <a:avLst/>
              <a:gdLst/>
              <a:ahLst/>
              <a:rect l="l" t="t" r="r" b="b"/>
              <a:pathLst>
                <a:path w="318" h="1278">
                  <a:moveTo>
                    <a:pt x="129" y="31"/>
                  </a:moveTo>
                  <a:lnTo>
                    <a:pt x="133" y="74"/>
                  </a:lnTo>
                  <a:lnTo>
                    <a:pt x="141" y="114"/>
                  </a:lnTo>
                  <a:lnTo>
                    <a:pt x="154" y="149"/>
                  </a:lnTo>
                  <a:lnTo>
                    <a:pt x="173" y="188"/>
                  </a:lnTo>
                  <a:lnTo>
                    <a:pt x="204" y="234"/>
                  </a:lnTo>
                  <a:lnTo>
                    <a:pt x="221" y="263"/>
                  </a:lnTo>
                  <a:lnTo>
                    <a:pt x="228" y="295"/>
                  </a:lnTo>
                  <a:lnTo>
                    <a:pt x="179" y="302"/>
                  </a:lnTo>
                  <a:lnTo>
                    <a:pt x="122" y="327"/>
                  </a:lnTo>
                  <a:lnTo>
                    <a:pt x="74" y="375"/>
                  </a:lnTo>
                  <a:lnTo>
                    <a:pt x="107" y="426"/>
                  </a:lnTo>
                  <a:lnTo>
                    <a:pt x="84" y="502"/>
                  </a:lnTo>
                  <a:lnTo>
                    <a:pt x="116" y="527"/>
                  </a:lnTo>
                  <a:lnTo>
                    <a:pt x="175" y="534"/>
                  </a:lnTo>
                  <a:lnTo>
                    <a:pt x="158" y="561"/>
                  </a:lnTo>
                  <a:lnTo>
                    <a:pt x="109" y="572"/>
                  </a:lnTo>
                  <a:lnTo>
                    <a:pt x="122" y="618"/>
                  </a:lnTo>
                  <a:lnTo>
                    <a:pt x="99" y="658"/>
                  </a:lnTo>
                  <a:lnTo>
                    <a:pt x="50" y="711"/>
                  </a:lnTo>
                  <a:lnTo>
                    <a:pt x="61" y="806"/>
                  </a:lnTo>
                  <a:lnTo>
                    <a:pt x="122" y="977"/>
                  </a:lnTo>
                  <a:lnTo>
                    <a:pt x="167" y="1061"/>
                  </a:lnTo>
                  <a:lnTo>
                    <a:pt x="232" y="1146"/>
                  </a:lnTo>
                  <a:lnTo>
                    <a:pt x="295" y="1139"/>
                  </a:lnTo>
                  <a:lnTo>
                    <a:pt x="289" y="1188"/>
                  </a:lnTo>
                  <a:lnTo>
                    <a:pt x="297" y="1224"/>
                  </a:lnTo>
                  <a:lnTo>
                    <a:pt x="318" y="1278"/>
                  </a:lnTo>
                  <a:lnTo>
                    <a:pt x="232" y="1230"/>
                  </a:lnTo>
                  <a:lnTo>
                    <a:pt x="181" y="1152"/>
                  </a:lnTo>
                  <a:lnTo>
                    <a:pt x="72" y="983"/>
                  </a:lnTo>
                  <a:lnTo>
                    <a:pt x="32" y="913"/>
                  </a:lnTo>
                  <a:lnTo>
                    <a:pt x="2" y="785"/>
                  </a:lnTo>
                  <a:lnTo>
                    <a:pt x="0" y="671"/>
                  </a:lnTo>
                  <a:lnTo>
                    <a:pt x="19" y="546"/>
                  </a:lnTo>
                  <a:lnTo>
                    <a:pt x="27" y="392"/>
                  </a:lnTo>
                  <a:lnTo>
                    <a:pt x="34" y="306"/>
                  </a:lnTo>
                  <a:lnTo>
                    <a:pt x="53" y="112"/>
                  </a:lnTo>
                  <a:lnTo>
                    <a:pt x="101" y="0"/>
                  </a:lnTo>
                  <a:lnTo>
                    <a:pt x="129" y="31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6"/>
            <p:cNvSpPr/>
            <p:nvPr/>
          </p:nvSpPr>
          <p:spPr>
            <a:xfrm>
              <a:off x="2188080" y="3970080"/>
              <a:ext cx="51480" cy="16920"/>
            </a:xfrm>
            <a:custGeom>
              <a:avLst/>
              <a:gdLst/>
              <a:ahLst/>
              <a:rect l="l" t="t" r="r" b="b"/>
              <a:pathLst>
                <a:path w="135" h="46">
                  <a:moveTo>
                    <a:pt x="0" y="25"/>
                  </a:moveTo>
                  <a:lnTo>
                    <a:pt x="46" y="37"/>
                  </a:lnTo>
                  <a:lnTo>
                    <a:pt x="118" y="46"/>
                  </a:lnTo>
                  <a:lnTo>
                    <a:pt x="135" y="2"/>
                  </a:lnTo>
                  <a:lnTo>
                    <a:pt x="57" y="0"/>
                  </a:lnTo>
                  <a:lnTo>
                    <a:pt x="14" y="1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7"/>
            <p:cNvSpPr/>
            <p:nvPr/>
          </p:nvSpPr>
          <p:spPr>
            <a:xfrm>
              <a:off x="2031840" y="3966480"/>
              <a:ext cx="47520" cy="1548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0" y="40"/>
                  </a:moveTo>
                  <a:lnTo>
                    <a:pt x="106" y="44"/>
                  </a:lnTo>
                  <a:lnTo>
                    <a:pt x="125" y="11"/>
                  </a:lnTo>
                  <a:lnTo>
                    <a:pt x="65" y="0"/>
                  </a:lnTo>
                  <a:lnTo>
                    <a:pt x="15" y="1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8"/>
            <p:cNvSpPr/>
            <p:nvPr/>
          </p:nvSpPr>
          <p:spPr>
            <a:xfrm>
              <a:off x="2209320" y="3968640"/>
              <a:ext cx="23400" cy="1620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3"/>
                  </a:moveTo>
                  <a:lnTo>
                    <a:pt x="5" y="28"/>
                  </a:lnTo>
                  <a:lnTo>
                    <a:pt x="17" y="43"/>
                  </a:lnTo>
                  <a:lnTo>
                    <a:pt x="57" y="43"/>
                  </a:lnTo>
                  <a:lnTo>
                    <a:pt x="6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4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"/>
            <p:cNvSpPr/>
            <p:nvPr/>
          </p:nvSpPr>
          <p:spPr>
            <a:xfrm>
              <a:off x="2048400" y="3965400"/>
              <a:ext cx="24120" cy="1620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0" y="6"/>
                  </a:moveTo>
                  <a:lnTo>
                    <a:pt x="7" y="34"/>
                  </a:lnTo>
                  <a:lnTo>
                    <a:pt x="23" y="46"/>
                  </a:lnTo>
                  <a:lnTo>
                    <a:pt x="62" y="40"/>
                  </a:lnTo>
                  <a:lnTo>
                    <a:pt x="64" y="10"/>
                  </a:lnTo>
                  <a:lnTo>
                    <a:pt x="4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4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0"/>
            <p:cNvSpPr/>
            <p:nvPr/>
          </p:nvSpPr>
          <p:spPr>
            <a:xfrm>
              <a:off x="2073600" y="4118760"/>
              <a:ext cx="124200" cy="39240"/>
            </a:xfrm>
            <a:custGeom>
              <a:avLst/>
              <a:gdLst/>
              <a:ahLst/>
              <a:rect l="l" t="t" r="r" b="b"/>
              <a:pathLst>
                <a:path w="327" h="106">
                  <a:moveTo>
                    <a:pt x="0" y="3"/>
                  </a:moveTo>
                  <a:lnTo>
                    <a:pt x="61" y="5"/>
                  </a:lnTo>
                  <a:lnTo>
                    <a:pt x="135" y="11"/>
                  </a:lnTo>
                  <a:lnTo>
                    <a:pt x="253" y="0"/>
                  </a:lnTo>
                  <a:lnTo>
                    <a:pt x="327" y="2"/>
                  </a:lnTo>
                  <a:lnTo>
                    <a:pt x="310" y="41"/>
                  </a:lnTo>
                  <a:lnTo>
                    <a:pt x="270" y="57"/>
                  </a:lnTo>
                  <a:lnTo>
                    <a:pt x="211" y="89"/>
                  </a:lnTo>
                  <a:lnTo>
                    <a:pt x="162" y="106"/>
                  </a:lnTo>
                  <a:lnTo>
                    <a:pt x="112" y="102"/>
                  </a:lnTo>
                  <a:lnTo>
                    <a:pt x="65" y="85"/>
                  </a:lnTo>
                  <a:lnTo>
                    <a:pt x="14" y="4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1"/>
            <p:cNvSpPr/>
            <p:nvPr/>
          </p:nvSpPr>
          <p:spPr>
            <a:xfrm>
              <a:off x="2075760" y="4118760"/>
              <a:ext cx="111240" cy="14040"/>
            </a:xfrm>
            <a:custGeom>
              <a:avLst/>
              <a:gdLst/>
              <a:ahLst/>
              <a:rect l="l" t="t" r="r" b="b"/>
              <a:pathLst>
                <a:path w="295" h="38">
                  <a:moveTo>
                    <a:pt x="97" y="34"/>
                  </a:moveTo>
                  <a:lnTo>
                    <a:pt x="112" y="22"/>
                  </a:lnTo>
                  <a:lnTo>
                    <a:pt x="133" y="22"/>
                  </a:lnTo>
                  <a:lnTo>
                    <a:pt x="148" y="34"/>
                  </a:lnTo>
                  <a:lnTo>
                    <a:pt x="160" y="24"/>
                  </a:lnTo>
                  <a:lnTo>
                    <a:pt x="179" y="22"/>
                  </a:lnTo>
                  <a:lnTo>
                    <a:pt x="192" y="26"/>
                  </a:lnTo>
                  <a:lnTo>
                    <a:pt x="200" y="38"/>
                  </a:lnTo>
                  <a:lnTo>
                    <a:pt x="209" y="26"/>
                  </a:lnTo>
                  <a:lnTo>
                    <a:pt x="220" y="21"/>
                  </a:lnTo>
                  <a:lnTo>
                    <a:pt x="236" y="21"/>
                  </a:lnTo>
                  <a:lnTo>
                    <a:pt x="245" y="30"/>
                  </a:lnTo>
                  <a:lnTo>
                    <a:pt x="258" y="17"/>
                  </a:lnTo>
                  <a:lnTo>
                    <a:pt x="270" y="13"/>
                  </a:lnTo>
                  <a:lnTo>
                    <a:pt x="295" y="9"/>
                  </a:lnTo>
                  <a:lnTo>
                    <a:pt x="260" y="0"/>
                  </a:lnTo>
                  <a:lnTo>
                    <a:pt x="190" y="2"/>
                  </a:lnTo>
                  <a:lnTo>
                    <a:pt x="108" y="11"/>
                  </a:lnTo>
                  <a:lnTo>
                    <a:pt x="55" y="5"/>
                  </a:lnTo>
                  <a:lnTo>
                    <a:pt x="23" y="3"/>
                  </a:lnTo>
                  <a:lnTo>
                    <a:pt x="0" y="2"/>
                  </a:lnTo>
                  <a:lnTo>
                    <a:pt x="9" y="15"/>
                  </a:lnTo>
                  <a:lnTo>
                    <a:pt x="21" y="11"/>
                  </a:lnTo>
                  <a:lnTo>
                    <a:pt x="38" y="19"/>
                  </a:lnTo>
                  <a:lnTo>
                    <a:pt x="46" y="28"/>
                  </a:lnTo>
                  <a:lnTo>
                    <a:pt x="61" y="19"/>
                  </a:lnTo>
                  <a:lnTo>
                    <a:pt x="76" y="19"/>
                  </a:lnTo>
                  <a:lnTo>
                    <a:pt x="85" y="24"/>
                  </a:lnTo>
                  <a:lnTo>
                    <a:pt x="97" y="34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2"/>
            <p:cNvSpPr/>
            <p:nvPr/>
          </p:nvSpPr>
          <p:spPr>
            <a:xfrm>
              <a:off x="2094120" y="4144320"/>
              <a:ext cx="61920" cy="14760"/>
            </a:xfrm>
            <a:custGeom>
              <a:avLst/>
              <a:gdLst/>
              <a:ahLst/>
              <a:rect l="l" t="t" r="r" b="b"/>
              <a:pathLst>
                <a:path w="166" h="40">
                  <a:moveTo>
                    <a:pt x="0" y="0"/>
                  </a:moveTo>
                  <a:lnTo>
                    <a:pt x="69" y="13"/>
                  </a:lnTo>
                  <a:lnTo>
                    <a:pt x="134" y="13"/>
                  </a:lnTo>
                  <a:lnTo>
                    <a:pt x="166" y="8"/>
                  </a:lnTo>
                  <a:lnTo>
                    <a:pt x="134" y="32"/>
                  </a:lnTo>
                  <a:lnTo>
                    <a:pt x="95" y="40"/>
                  </a:lnTo>
                  <a:lnTo>
                    <a:pt x="52" y="34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3"/>
            <p:cNvSpPr/>
            <p:nvPr/>
          </p:nvSpPr>
          <p:spPr>
            <a:xfrm>
              <a:off x="1743120" y="4142880"/>
              <a:ext cx="1000080" cy="1114920"/>
            </a:xfrm>
            <a:custGeom>
              <a:avLst/>
              <a:gdLst/>
              <a:ahLst/>
              <a:rect l="l" t="t" r="r" b="b"/>
              <a:pathLst>
                <a:path w="2634" h="2996">
                  <a:moveTo>
                    <a:pt x="1720" y="0"/>
                  </a:moveTo>
                  <a:lnTo>
                    <a:pt x="1779" y="29"/>
                  </a:lnTo>
                  <a:lnTo>
                    <a:pt x="1866" y="179"/>
                  </a:lnTo>
                  <a:lnTo>
                    <a:pt x="1931" y="270"/>
                  </a:lnTo>
                  <a:lnTo>
                    <a:pt x="2022" y="320"/>
                  </a:lnTo>
                  <a:lnTo>
                    <a:pt x="2220" y="394"/>
                  </a:lnTo>
                  <a:lnTo>
                    <a:pt x="2404" y="485"/>
                  </a:lnTo>
                  <a:lnTo>
                    <a:pt x="2548" y="599"/>
                  </a:lnTo>
                  <a:lnTo>
                    <a:pt x="2592" y="711"/>
                  </a:lnTo>
                  <a:lnTo>
                    <a:pt x="2624" y="905"/>
                  </a:lnTo>
                  <a:lnTo>
                    <a:pt x="2634" y="1169"/>
                  </a:lnTo>
                  <a:lnTo>
                    <a:pt x="2602" y="1492"/>
                  </a:lnTo>
                  <a:lnTo>
                    <a:pt x="2495" y="2074"/>
                  </a:lnTo>
                  <a:lnTo>
                    <a:pt x="2463" y="2354"/>
                  </a:lnTo>
                  <a:lnTo>
                    <a:pt x="2446" y="2667"/>
                  </a:lnTo>
                  <a:lnTo>
                    <a:pt x="2446" y="2990"/>
                  </a:lnTo>
                  <a:lnTo>
                    <a:pt x="59" y="2996"/>
                  </a:lnTo>
                  <a:lnTo>
                    <a:pt x="80" y="2850"/>
                  </a:lnTo>
                  <a:lnTo>
                    <a:pt x="273" y="2941"/>
                  </a:lnTo>
                  <a:lnTo>
                    <a:pt x="253" y="2850"/>
                  </a:lnTo>
                  <a:lnTo>
                    <a:pt x="0" y="2802"/>
                  </a:lnTo>
                  <a:lnTo>
                    <a:pt x="279" y="2829"/>
                  </a:lnTo>
                  <a:lnTo>
                    <a:pt x="682" y="2791"/>
                  </a:lnTo>
                  <a:lnTo>
                    <a:pt x="1146" y="2737"/>
                  </a:lnTo>
                  <a:lnTo>
                    <a:pt x="1264" y="2715"/>
                  </a:lnTo>
                  <a:lnTo>
                    <a:pt x="1167" y="2597"/>
                  </a:lnTo>
                  <a:lnTo>
                    <a:pt x="1070" y="2450"/>
                  </a:lnTo>
                  <a:lnTo>
                    <a:pt x="1167" y="2544"/>
                  </a:lnTo>
                  <a:lnTo>
                    <a:pt x="1188" y="2506"/>
                  </a:lnTo>
                  <a:lnTo>
                    <a:pt x="1182" y="2359"/>
                  </a:lnTo>
                  <a:lnTo>
                    <a:pt x="1247" y="2597"/>
                  </a:lnTo>
                  <a:lnTo>
                    <a:pt x="1279" y="2485"/>
                  </a:lnTo>
                  <a:lnTo>
                    <a:pt x="1296" y="2397"/>
                  </a:lnTo>
                  <a:lnTo>
                    <a:pt x="1285" y="2300"/>
                  </a:lnTo>
                  <a:lnTo>
                    <a:pt x="1269" y="2247"/>
                  </a:lnTo>
                  <a:lnTo>
                    <a:pt x="1273" y="2085"/>
                  </a:lnTo>
                  <a:lnTo>
                    <a:pt x="1340" y="2203"/>
                  </a:lnTo>
                  <a:lnTo>
                    <a:pt x="1366" y="2306"/>
                  </a:lnTo>
                  <a:lnTo>
                    <a:pt x="1382" y="2392"/>
                  </a:lnTo>
                  <a:lnTo>
                    <a:pt x="1382" y="2494"/>
                  </a:lnTo>
                  <a:lnTo>
                    <a:pt x="1435" y="2441"/>
                  </a:lnTo>
                  <a:lnTo>
                    <a:pt x="1452" y="2323"/>
                  </a:lnTo>
                  <a:lnTo>
                    <a:pt x="1516" y="2215"/>
                  </a:lnTo>
                  <a:lnTo>
                    <a:pt x="1402" y="2091"/>
                  </a:lnTo>
                  <a:lnTo>
                    <a:pt x="1484" y="2085"/>
                  </a:lnTo>
                  <a:lnTo>
                    <a:pt x="1526" y="2059"/>
                  </a:lnTo>
                  <a:lnTo>
                    <a:pt x="1570" y="2009"/>
                  </a:lnTo>
                  <a:lnTo>
                    <a:pt x="1634" y="1918"/>
                  </a:lnTo>
                  <a:lnTo>
                    <a:pt x="1554" y="1935"/>
                  </a:lnTo>
                  <a:lnTo>
                    <a:pt x="1640" y="1865"/>
                  </a:lnTo>
                  <a:lnTo>
                    <a:pt x="1828" y="1783"/>
                  </a:lnTo>
                  <a:lnTo>
                    <a:pt x="1999" y="1730"/>
                  </a:lnTo>
                  <a:lnTo>
                    <a:pt x="1843" y="1741"/>
                  </a:lnTo>
                  <a:lnTo>
                    <a:pt x="1678" y="1789"/>
                  </a:lnTo>
                  <a:lnTo>
                    <a:pt x="1575" y="1768"/>
                  </a:lnTo>
                  <a:lnTo>
                    <a:pt x="1496" y="1827"/>
                  </a:lnTo>
                  <a:lnTo>
                    <a:pt x="1549" y="1736"/>
                  </a:lnTo>
                  <a:lnTo>
                    <a:pt x="1651" y="1644"/>
                  </a:lnTo>
                  <a:lnTo>
                    <a:pt x="1758" y="1574"/>
                  </a:lnTo>
                  <a:lnTo>
                    <a:pt x="1936" y="1515"/>
                  </a:lnTo>
                  <a:lnTo>
                    <a:pt x="1705" y="1536"/>
                  </a:lnTo>
                  <a:lnTo>
                    <a:pt x="1570" y="1580"/>
                  </a:lnTo>
                  <a:lnTo>
                    <a:pt x="1720" y="1472"/>
                  </a:lnTo>
                  <a:lnTo>
                    <a:pt x="1802" y="1325"/>
                  </a:lnTo>
                  <a:lnTo>
                    <a:pt x="1887" y="1293"/>
                  </a:lnTo>
                  <a:lnTo>
                    <a:pt x="1790" y="1207"/>
                  </a:lnTo>
                  <a:lnTo>
                    <a:pt x="1796" y="1175"/>
                  </a:lnTo>
                  <a:lnTo>
                    <a:pt x="1881" y="1110"/>
                  </a:lnTo>
                  <a:lnTo>
                    <a:pt x="2043" y="1040"/>
                  </a:lnTo>
                  <a:lnTo>
                    <a:pt x="2172" y="1013"/>
                  </a:lnTo>
                  <a:lnTo>
                    <a:pt x="2011" y="1025"/>
                  </a:lnTo>
                  <a:lnTo>
                    <a:pt x="1834" y="1063"/>
                  </a:lnTo>
                  <a:lnTo>
                    <a:pt x="1699" y="1110"/>
                  </a:lnTo>
                  <a:lnTo>
                    <a:pt x="1784" y="981"/>
                  </a:lnTo>
                  <a:lnTo>
                    <a:pt x="1946" y="814"/>
                  </a:lnTo>
                  <a:lnTo>
                    <a:pt x="2151" y="696"/>
                  </a:lnTo>
                  <a:lnTo>
                    <a:pt x="2307" y="658"/>
                  </a:lnTo>
                  <a:lnTo>
                    <a:pt x="2431" y="643"/>
                  </a:lnTo>
                  <a:lnTo>
                    <a:pt x="2328" y="546"/>
                  </a:lnTo>
                  <a:lnTo>
                    <a:pt x="2125" y="475"/>
                  </a:lnTo>
                  <a:lnTo>
                    <a:pt x="1828" y="508"/>
                  </a:lnTo>
                  <a:lnTo>
                    <a:pt x="1710" y="637"/>
                  </a:lnTo>
                  <a:lnTo>
                    <a:pt x="1505" y="766"/>
                  </a:lnTo>
                  <a:lnTo>
                    <a:pt x="1425" y="858"/>
                  </a:lnTo>
                  <a:lnTo>
                    <a:pt x="1302" y="878"/>
                  </a:lnTo>
                  <a:lnTo>
                    <a:pt x="1182" y="922"/>
                  </a:lnTo>
                  <a:lnTo>
                    <a:pt x="1290" y="863"/>
                  </a:lnTo>
                  <a:lnTo>
                    <a:pt x="1382" y="820"/>
                  </a:lnTo>
                  <a:lnTo>
                    <a:pt x="1575" y="593"/>
                  </a:lnTo>
                  <a:lnTo>
                    <a:pt x="1784" y="384"/>
                  </a:lnTo>
                  <a:lnTo>
                    <a:pt x="1655" y="417"/>
                  </a:lnTo>
                  <a:lnTo>
                    <a:pt x="1484" y="394"/>
                  </a:lnTo>
                  <a:lnTo>
                    <a:pt x="1264" y="582"/>
                  </a:lnTo>
                  <a:lnTo>
                    <a:pt x="1053" y="831"/>
                  </a:lnTo>
                  <a:lnTo>
                    <a:pt x="714" y="1289"/>
                  </a:lnTo>
                  <a:lnTo>
                    <a:pt x="1011" y="858"/>
                  </a:lnTo>
                  <a:lnTo>
                    <a:pt x="1264" y="546"/>
                  </a:lnTo>
                  <a:lnTo>
                    <a:pt x="1467" y="325"/>
                  </a:lnTo>
                  <a:lnTo>
                    <a:pt x="1672" y="173"/>
                  </a:lnTo>
                  <a:lnTo>
                    <a:pt x="1731" y="61"/>
                  </a:lnTo>
                  <a:lnTo>
                    <a:pt x="1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4"/>
            <p:cNvSpPr/>
            <p:nvPr/>
          </p:nvSpPr>
          <p:spPr>
            <a:xfrm>
              <a:off x="1980720" y="4389120"/>
              <a:ext cx="580680" cy="732960"/>
            </a:xfrm>
            <a:custGeom>
              <a:avLst/>
              <a:gdLst/>
              <a:ahLst/>
              <a:rect l="l" t="t" r="r" b="b"/>
              <a:pathLst>
                <a:path w="1530" h="1971">
                  <a:moveTo>
                    <a:pt x="1530" y="0"/>
                  </a:moveTo>
                  <a:lnTo>
                    <a:pt x="1332" y="114"/>
                  </a:lnTo>
                  <a:lnTo>
                    <a:pt x="1150" y="272"/>
                  </a:lnTo>
                  <a:lnTo>
                    <a:pt x="983" y="473"/>
                  </a:lnTo>
                  <a:lnTo>
                    <a:pt x="924" y="675"/>
                  </a:lnTo>
                  <a:lnTo>
                    <a:pt x="1013" y="661"/>
                  </a:lnTo>
                  <a:lnTo>
                    <a:pt x="874" y="724"/>
                  </a:lnTo>
                  <a:lnTo>
                    <a:pt x="806" y="773"/>
                  </a:lnTo>
                  <a:lnTo>
                    <a:pt x="697" y="1021"/>
                  </a:lnTo>
                  <a:lnTo>
                    <a:pt x="741" y="1024"/>
                  </a:lnTo>
                  <a:lnTo>
                    <a:pt x="639" y="1055"/>
                  </a:lnTo>
                  <a:lnTo>
                    <a:pt x="506" y="1114"/>
                  </a:lnTo>
                  <a:lnTo>
                    <a:pt x="431" y="1232"/>
                  </a:lnTo>
                  <a:lnTo>
                    <a:pt x="344" y="1315"/>
                  </a:lnTo>
                  <a:lnTo>
                    <a:pt x="276" y="1404"/>
                  </a:lnTo>
                  <a:lnTo>
                    <a:pt x="540" y="1420"/>
                  </a:lnTo>
                  <a:lnTo>
                    <a:pt x="654" y="1361"/>
                  </a:lnTo>
                  <a:lnTo>
                    <a:pt x="599" y="1429"/>
                  </a:lnTo>
                  <a:lnTo>
                    <a:pt x="623" y="1479"/>
                  </a:lnTo>
                  <a:lnTo>
                    <a:pt x="623" y="1602"/>
                  </a:lnTo>
                  <a:lnTo>
                    <a:pt x="595" y="1699"/>
                  </a:lnTo>
                  <a:lnTo>
                    <a:pt x="521" y="1460"/>
                  </a:lnTo>
                  <a:lnTo>
                    <a:pt x="481" y="1460"/>
                  </a:lnTo>
                  <a:lnTo>
                    <a:pt x="521" y="1636"/>
                  </a:lnTo>
                  <a:lnTo>
                    <a:pt x="443" y="1553"/>
                  </a:lnTo>
                  <a:lnTo>
                    <a:pt x="323" y="1498"/>
                  </a:lnTo>
                  <a:lnTo>
                    <a:pt x="384" y="1720"/>
                  </a:lnTo>
                  <a:lnTo>
                    <a:pt x="289" y="1562"/>
                  </a:lnTo>
                  <a:lnTo>
                    <a:pt x="236" y="1469"/>
                  </a:lnTo>
                  <a:lnTo>
                    <a:pt x="103" y="1439"/>
                  </a:lnTo>
                  <a:lnTo>
                    <a:pt x="87" y="1473"/>
                  </a:lnTo>
                  <a:lnTo>
                    <a:pt x="78" y="1513"/>
                  </a:lnTo>
                  <a:lnTo>
                    <a:pt x="87" y="1577"/>
                  </a:lnTo>
                  <a:lnTo>
                    <a:pt x="137" y="1655"/>
                  </a:lnTo>
                  <a:lnTo>
                    <a:pt x="239" y="1745"/>
                  </a:lnTo>
                  <a:lnTo>
                    <a:pt x="295" y="1847"/>
                  </a:lnTo>
                  <a:lnTo>
                    <a:pt x="304" y="1971"/>
                  </a:lnTo>
                  <a:lnTo>
                    <a:pt x="118" y="1749"/>
                  </a:lnTo>
                  <a:lnTo>
                    <a:pt x="28" y="1602"/>
                  </a:lnTo>
                  <a:lnTo>
                    <a:pt x="0" y="1494"/>
                  </a:lnTo>
                  <a:lnTo>
                    <a:pt x="0" y="1429"/>
                  </a:lnTo>
                  <a:lnTo>
                    <a:pt x="23" y="1374"/>
                  </a:lnTo>
                  <a:lnTo>
                    <a:pt x="72" y="1370"/>
                  </a:lnTo>
                  <a:lnTo>
                    <a:pt x="97" y="1287"/>
                  </a:lnTo>
                  <a:lnTo>
                    <a:pt x="152" y="1148"/>
                  </a:lnTo>
                  <a:lnTo>
                    <a:pt x="279" y="878"/>
                  </a:lnTo>
                  <a:lnTo>
                    <a:pt x="338" y="779"/>
                  </a:lnTo>
                  <a:lnTo>
                    <a:pt x="388" y="714"/>
                  </a:lnTo>
                  <a:lnTo>
                    <a:pt x="477" y="646"/>
                  </a:lnTo>
                  <a:lnTo>
                    <a:pt x="549" y="557"/>
                  </a:lnTo>
                  <a:lnTo>
                    <a:pt x="802" y="232"/>
                  </a:lnTo>
                  <a:lnTo>
                    <a:pt x="895" y="232"/>
                  </a:lnTo>
                  <a:lnTo>
                    <a:pt x="945" y="237"/>
                  </a:lnTo>
                  <a:lnTo>
                    <a:pt x="728" y="528"/>
                  </a:lnTo>
                  <a:lnTo>
                    <a:pt x="610" y="650"/>
                  </a:lnTo>
                  <a:lnTo>
                    <a:pt x="521" y="720"/>
                  </a:lnTo>
                  <a:lnTo>
                    <a:pt x="407" y="770"/>
                  </a:lnTo>
                  <a:lnTo>
                    <a:pt x="334" y="882"/>
                  </a:lnTo>
                  <a:lnTo>
                    <a:pt x="314" y="965"/>
                  </a:lnTo>
                  <a:lnTo>
                    <a:pt x="314" y="1060"/>
                  </a:lnTo>
                  <a:lnTo>
                    <a:pt x="344" y="1148"/>
                  </a:lnTo>
                  <a:lnTo>
                    <a:pt x="363" y="1203"/>
                  </a:lnTo>
                  <a:lnTo>
                    <a:pt x="487" y="1085"/>
                  </a:lnTo>
                  <a:lnTo>
                    <a:pt x="648" y="1015"/>
                  </a:lnTo>
                  <a:lnTo>
                    <a:pt x="678" y="878"/>
                  </a:lnTo>
                  <a:lnTo>
                    <a:pt x="678" y="779"/>
                  </a:lnTo>
                  <a:lnTo>
                    <a:pt x="589" y="770"/>
                  </a:lnTo>
                  <a:lnTo>
                    <a:pt x="703" y="699"/>
                  </a:lnTo>
                  <a:lnTo>
                    <a:pt x="772" y="646"/>
                  </a:lnTo>
                  <a:lnTo>
                    <a:pt x="840" y="542"/>
                  </a:lnTo>
                  <a:lnTo>
                    <a:pt x="933" y="433"/>
                  </a:lnTo>
                  <a:lnTo>
                    <a:pt x="1038" y="315"/>
                  </a:lnTo>
                  <a:lnTo>
                    <a:pt x="1131" y="232"/>
                  </a:lnTo>
                  <a:lnTo>
                    <a:pt x="1258" y="129"/>
                  </a:lnTo>
                  <a:lnTo>
                    <a:pt x="1376" y="55"/>
                  </a:lnTo>
                  <a:lnTo>
                    <a:pt x="15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5"/>
            <p:cNvSpPr/>
            <p:nvPr/>
          </p:nvSpPr>
          <p:spPr>
            <a:xfrm>
              <a:off x="2155320" y="4769640"/>
              <a:ext cx="152280" cy="124200"/>
            </a:xfrm>
            <a:custGeom>
              <a:avLst/>
              <a:gdLst/>
              <a:ahLst/>
              <a:rect l="l" t="t" r="r" b="b"/>
              <a:pathLst>
                <a:path w="401" h="333">
                  <a:moveTo>
                    <a:pt x="296" y="0"/>
                  </a:moveTo>
                  <a:lnTo>
                    <a:pt x="304" y="12"/>
                  </a:lnTo>
                  <a:lnTo>
                    <a:pt x="302" y="35"/>
                  </a:lnTo>
                  <a:lnTo>
                    <a:pt x="281" y="63"/>
                  </a:lnTo>
                  <a:lnTo>
                    <a:pt x="251" y="78"/>
                  </a:lnTo>
                  <a:lnTo>
                    <a:pt x="222" y="90"/>
                  </a:lnTo>
                  <a:lnTo>
                    <a:pt x="152" y="99"/>
                  </a:lnTo>
                  <a:lnTo>
                    <a:pt x="76" y="126"/>
                  </a:lnTo>
                  <a:lnTo>
                    <a:pt x="11" y="181"/>
                  </a:lnTo>
                  <a:lnTo>
                    <a:pt x="112" y="122"/>
                  </a:lnTo>
                  <a:lnTo>
                    <a:pt x="190" y="109"/>
                  </a:lnTo>
                  <a:lnTo>
                    <a:pt x="272" y="101"/>
                  </a:lnTo>
                  <a:lnTo>
                    <a:pt x="365" y="97"/>
                  </a:lnTo>
                  <a:lnTo>
                    <a:pt x="386" y="109"/>
                  </a:lnTo>
                  <a:lnTo>
                    <a:pt x="378" y="149"/>
                  </a:lnTo>
                  <a:lnTo>
                    <a:pt x="344" y="170"/>
                  </a:lnTo>
                  <a:lnTo>
                    <a:pt x="310" y="181"/>
                  </a:lnTo>
                  <a:lnTo>
                    <a:pt x="180" y="190"/>
                  </a:lnTo>
                  <a:lnTo>
                    <a:pt x="85" y="210"/>
                  </a:lnTo>
                  <a:lnTo>
                    <a:pt x="57" y="230"/>
                  </a:lnTo>
                  <a:lnTo>
                    <a:pt x="0" y="287"/>
                  </a:lnTo>
                  <a:lnTo>
                    <a:pt x="57" y="244"/>
                  </a:lnTo>
                  <a:lnTo>
                    <a:pt x="87" y="232"/>
                  </a:lnTo>
                  <a:lnTo>
                    <a:pt x="177" y="221"/>
                  </a:lnTo>
                  <a:lnTo>
                    <a:pt x="249" y="211"/>
                  </a:lnTo>
                  <a:lnTo>
                    <a:pt x="287" y="204"/>
                  </a:lnTo>
                  <a:lnTo>
                    <a:pt x="340" y="189"/>
                  </a:lnTo>
                  <a:lnTo>
                    <a:pt x="355" y="194"/>
                  </a:lnTo>
                  <a:lnTo>
                    <a:pt x="353" y="210"/>
                  </a:lnTo>
                  <a:lnTo>
                    <a:pt x="346" y="230"/>
                  </a:lnTo>
                  <a:lnTo>
                    <a:pt x="329" y="246"/>
                  </a:lnTo>
                  <a:lnTo>
                    <a:pt x="304" y="257"/>
                  </a:lnTo>
                  <a:lnTo>
                    <a:pt x="279" y="263"/>
                  </a:lnTo>
                  <a:lnTo>
                    <a:pt x="199" y="272"/>
                  </a:lnTo>
                  <a:lnTo>
                    <a:pt x="203" y="293"/>
                  </a:lnTo>
                  <a:lnTo>
                    <a:pt x="203" y="316"/>
                  </a:lnTo>
                  <a:lnTo>
                    <a:pt x="198" y="333"/>
                  </a:lnTo>
                  <a:lnTo>
                    <a:pt x="220" y="325"/>
                  </a:lnTo>
                  <a:lnTo>
                    <a:pt x="230" y="310"/>
                  </a:lnTo>
                  <a:lnTo>
                    <a:pt x="239" y="282"/>
                  </a:lnTo>
                  <a:lnTo>
                    <a:pt x="298" y="267"/>
                  </a:lnTo>
                  <a:lnTo>
                    <a:pt x="329" y="255"/>
                  </a:lnTo>
                  <a:lnTo>
                    <a:pt x="361" y="238"/>
                  </a:lnTo>
                  <a:lnTo>
                    <a:pt x="376" y="219"/>
                  </a:lnTo>
                  <a:lnTo>
                    <a:pt x="382" y="194"/>
                  </a:lnTo>
                  <a:lnTo>
                    <a:pt x="376" y="183"/>
                  </a:lnTo>
                  <a:lnTo>
                    <a:pt x="386" y="168"/>
                  </a:lnTo>
                  <a:lnTo>
                    <a:pt x="395" y="147"/>
                  </a:lnTo>
                  <a:lnTo>
                    <a:pt x="401" y="126"/>
                  </a:lnTo>
                  <a:lnTo>
                    <a:pt x="401" y="109"/>
                  </a:lnTo>
                  <a:lnTo>
                    <a:pt x="378" y="86"/>
                  </a:lnTo>
                  <a:lnTo>
                    <a:pt x="338" y="82"/>
                  </a:lnTo>
                  <a:lnTo>
                    <a:pt x="295" y="82"/>
                  </a:lnTo>
                  <a:lnTo>
                    <a:pt x="314" y="61"/>
                  </a:lnTo>
                  <a:lnTo>
                    <a:pt x="325" y="38"/>
                  </a:lnTo>
                  <a:lnTo>
                    <a:pt x="327" y="21"/>
                  </a:lnTo>
                  <a:lnTo>
                    <a:pt x="321" y="8"/>
                  </a:lnTo>
                  <a:lnTo>
                    <a:pt x="312" y="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6"/>
            <p:cNvSpPr/>
            <p:nvPr/>
          </p:nvSpPr>
          <p:spPr>
            <a:xfrm>
              <a:off x="2137320" y="4874400"/>
              <a:ext cx="82800" cy="45360"/>
            </a:xfrm>
            <a:custGeom>
              <a:avLst/>
              <a:gdLst/>
              <a:ahLst/>
              <a:rect l="l" t="t" r="r" b="b"/>
              <a:pathLst>
                <a:path w="219" h="121">
                  <a:moveTo>
                    <a:pt x="219" y="0"/>
                  </a:moveTo>
                  <a:lnTo>
                    <a:pt x="153" y="34"/>
                  </a:lnTo>
                  <a:lnTo>
                    <a:pt x="88" y="76"/>
                  </a:lnTo>
                  <a:lnTo>
                    <a:pt x="25" y="121"/>
                  </a:lnTo>
                  <a:lnTo>
                    <a:pt x="0" y="118"/>
                  </a:lnTo>
                  <a:lnTo>
                    <a:pt x="63" y="76"/>
                  </a:lnTo>
                  <a:lnTo>
                    <a:pt x="124" y="36"/>
                  </a:lnTo>
                  <a:lnTo>
                    <a:pt x="166" y="15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7"/>
            <p:cNvSpPr/>
            <p:nvPr/>
          </p:nvSpPr>
          <p:spPr>
            <a:xfrm>
              <a:off x="2233800" y="4773960"/>
              <a:ext cx="6840" cy="1548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7" y="9"/>
                  </a:moveTo>
                  <a:lnTo>
                    <a:pt x="12" y="42"/>
                  </a:lnTo>
                  <a:lnTo>
                    <a:pt x="4" y="34"/>
                  </a:lnTo>
                  <a:lnTo>
                    <a:pt x="0" y="23"/>
                  </a:lnTo>
                  <a:lnTo>
                    <a:pt x="2" y="7"/>
                  </a:lnTo>
                  <a:lnTo>
                    <a:pt x="8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8"/>
            <p:cNvSpPr/>
            <p:nvPr/>
          </p:nvSpPr>
          <p:spPr>
            <a:xfrm>
              <a:off x="2259360" y="4804560"/>
              <a:ext cx="11880" cy="2088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7" y="19"/>
                  </a:moveTo>
                  <a:lnTo>
                    <a:pt x="11" y="26"/>
                  </a:lnTo>
                  <a:lnTo>
                    <a:pt x="9" y="38"/>
                  </a:lnTo>
                  <a:lnTo>
                    <a:pt x="15" y="57"/>
                  </a:lnTo>
                  <a:lnTo>
                    <a:pt x="3" y="49"/>
                  </a:lnTo>
                  <a:lnTo>
                    <a:pt x="0" y="38"/>
                  </a:lnTo>
                  <a:lnTo>
                    <a:pt x="0" y="20"/>
                  </a:lnTo>
                  <a:lnTo>
                    <a:pt x="9" y="7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9"/>
            <p:cNvSpPr/>
            <p:nvPr/>
          </p:nvSpPr>
          <p:spPr>
            <a:xfrm>
              <a:off x="2253600" y="4843080"/>
              <a:ext cx="7920" cy="1548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4" y="6"/>
                  </a:moveTo>
                  <a:lnTo>
                    <a:pt x="12" y="32"/>
                  </a:lnTo>
                  <a:lnTo>
                    <a:pt x="23" y="42"/>
                  </a:lnTo>
                  <a:lnTo>
                    <a:pt x="4" y="40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0"/>
            <p:cNvSpPr/>
            <p:nvPr/>
          </p:nvSpPr>
          <p:spPr>
            <a:xfrm>
              <a:off x="2200320" y="4881960"/>
              <a:ext cx="20880" cy="1152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7" y="9"/>
                  </a:moveTo>
                  <a:lnTo>
                    <a:pt x="11" y="21"/>
                  </a:lnTo>
                  <a:lnTo>
                    <a:pt x="17" y="28"/>
                  </a:lnTo>
                  <a:lnTo>
                    <a:pt x="30" y="24"/>
                  </a:lnTo>
                  <a:lnTo>
                    <a:pt x="45" y="19"/>
                  </a:lnTo>
                  <a:lnTo>
                    <a:pt x="55" y="9"/>
                  </a:lnTo>
                  <a:lnTo>
                    <a:pt x="45" y="22"/>
                  </a:lnTo>
                  <a:lnTo>
                    <a:pt x="24" y="32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5" y="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1"/>
            <p:cNvSpPr/>
            <p:nvPr/>
          </p:nvSpPr>
          <p:spPr>
            <a:xfrm>
              <a:off x="1926720" y="4257360"/>
              <a:ext cx="163080" cy="525240"/>
            </a:xfrm>
            <a:custGeom>
              <a:avLst/>
              <a:gdLst/>
              <a:ahLst/>
              <a:rect l="l" t="t" r="r" b="b"/>
              <a:pathLst>
                <a:path w="430" h="1413">
                  <a:moveTo>
                    <a:pt x="430" y="0"/>
                  </a:moveTo>
                  <a:lnTo>
                    <a:pt x="430" y="116"/>
                  </a:lnTo>
                  <a:lnTo>
                    <a:pt x="369" y="251"/>
                  </a:lnTo>
                  <a:lnTo>
                    <a:pt x="257" y="483"/>
                  </a:lnTo>
                  <a:lnTo>
                    <a:pt x="130" y="901"/>
                  </a:lnTo>
                  <a:lnTo>
                    <a:pt x="111" y="1008"/>
                  </a:lnTo>
                  <a:lnTo>
                    <a:pt x="116" y="1046"/>
                  </a:lnTo>
                  <a:lnTo>
                    <a:pt x="124" y="1086"/>
                  </a:lnTo>
                  <a:lnTo>
                    <a:pt x="179" y="1057"/>
                  </a:lnTo>
                  <a:lnTo>
                    <a:pt x="130" y="1122"/>
                  </a:lnTo>
                  <a:lnTo>
                    <a:pt x="105" y="1173"/>
                  </a:lnTo>
                  <a:lnTo>
                    <a:pt x="6" y="1413"/>
                  </a:lnTo>
                  <a:lnTo>
                    <a:pt x="0" y="1200"/>
                  </a:lnTo>
                  <a:lnTo>
                    <a:pt x="12" y="1127"/>
                  </a:lnTo>
                  <a:lnTo>
                    <a:pt x="29" y="1049"/>
                  </a:lnTo>
                  <a:lnTo>
                    <a:pt x="95" y="861"/>
                  </a:lnTo>
                  <a:lnTo>
                    <a:pt x="139" y="745"/>
                  </a:lnTo>
                  <a:lnTo>
                    <a:pt x="170" y="622"/>
                  </a:lnTo>
                  <a:lnTo>
                    <a:pt x="230" y="485"/>
                  </a:lnTo>
                  <a:lnTo>
                    <a:pt x="289" y="327"/>
                  </a:lnTo>
                  <a:lnTo>
                    <a:pt x="352" y="167"/>
                  </a:lnTo>
                  <a:lnTo>
                    <a:pt x="415" y="57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2"/>
            <p:cNvSpPr/>
            <p:nvPr/>
          </p:nvSpPr>
          <p:spPr>
            <a:xfrm>
              <a:off x="2060640" y="4294440"/>
              <a:ext cx="141120" cy="70560"/>
            </a:xfrm>
            <a:custGeom>
              <a:avLst/>
              <a:gdLst/>
              <a:ahLst/>
              <a:rect l="l" t="t" r="r" b="b"/>
              <a:pathLst>
                <a:path w="373" h="188">
                  <a:moveTo>
                    <a:pt x="32" y="167"/>
                  </a:moveTo>
                  <a:lnTo>
                    <a:pt x="67" y="125"/>
                  </a:lnTo>
                  <a:lnTo>
                    <a:pt x="118" y="34"/>
                  </a:lnTo>
                  <a:lnTo>
                    <a:pt x="188" y="0"/>
                  </a:lnTo>
                  <a:lnTo>
                    <a:pt x="238" y="0"/>
                  </a:lnTo>
                  <a:lnTo>
                    <a:pt x="260" y="47"/>
                  </a:lnTo>
                  <a:lnTo>
                    <a:pt x="285" y="82"/>
                  </a:lnTo>
                  <a:lnTo>
                    <a:pt x="316" y="116"/>
                  </a:lnTo>
                  <a:lnTo>
                    <a:pt x="373" y="167"/>
                  </a:lnTo>
                  <a:lnTo>
                    <a:pt x="308" y="131"/>
                  </a:lnTo>
                  <a:lnTo>
                    <a:pt x="257" y="76"/>
                  </a:lnTo>
                  <a:lnTo>
                    <a:pt x="217" y="21"/>
                  </a:lnTo>
                  <a:lnTo>
                    <a:pt x="173" y="28"/>
                  </a:lnTo>
                  <a:lnTo>
                    <a:pt x="124" y="55"/>
                  </a:lnTo>
                  <a:lnTo>
                    <a:pt x="93" y="112"/>
                  </a:lnTo>
                  <a:lnTo>
                    <a:pt x="61" y="156"/>
                  </a:lnTo>
                  <a:lnTo>
                    <a:pt x="27" y="188"/>
                  </a:lnTo>
                  <a:lnTo>
                    <a:pt x="0" y="148"/>
                  </a:lnTo>
                  <a:lnTo>
                    <a:pt x="32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3"/>
            <p:cNvSpPr/>
            <p:nvPr/>
          </p:nvSpPr>
          <p:spPr>
            <a:xfrm>
              <a:off x="2115360" y="4317480"/>
              <a:ext cx="59040" cy="152280"/>
            </a:xfrm>
            <a:custGeom>
              <a:avLst/>
              <a:gdLst/>
              <a:ahLst/>
              <a:rect l="l" t="t" r="r" b="b"/>
              <a:pathLst>
                <a:path w="156" h="410">
                  <a:moveTo>
                    <a:pt x="111" y="0"/>
                  </a:moveTo>
                  <a:lnTo>
                    <a:pt x="63" y="83"/>
                  </a:lnTo>
                  <a:lnTo>
                    <a:pt x="0" y="116"/>
                  </a:lnTo>
                  <a:lnTo>
                    <a:pt x="38" y="159"/>
                  </a:lnTo>
                  <a:lnTo>
                    <a:pt x="46" y="199"/>
                  </a:lnTo>
                  <a:lnTo>
                    <a:pt x="46" y="277"/>
                  </a:lnTo>
                  <a:lnTo>
                    <a:pt x="40" y="334"/>
                  </a:lnTo>
                  <a:lnTo>
                    <a:pt x="21" y="410"/>
                  </a:lnTo>
                  <a:lnTo>
                    <a:pt x="61" y="357"/>
                  </a:lnTo>
                  <a:lnTo>
                    <a:pt x="78" y="260"/>
                  </a:lnTo>
                  <a:lnTo>
                    <a:pt x="84" y="199"/>
                  </a:lnTo>
                  <a:lnTo>
                    <a:pt x="82" y="150"/>
                  </a:lnTo>
                  <a:lnTo>
                    <a:pt x="116" y="127"/>
                  </a:lnTo>
                  <a:lnTo>
                    <a:pt x="135" y="89"/>
                  </a:lnTo>
                  <a:lnTo>
                    <a:pt x="156" y="55"/>
                  </a:lnTo>
                  <a:lnTo>
                    <a:pt x="130" y="23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4"/>
            <p:cNvSpPr/>
            <p:nvPr/>
          </p:nvSpPr>
          <p:spPr>
            <a:xfrm>
              <a:off x="1980000" y="4351320"/>
              <a:ext cx="117720" cy="214200"/>
            </a:xfrm>
            <a:custGeom>
              <a:avLst/>
              <a:gdLst/>
              <a:ahLst/>
              <a:rect l="l" t="t" r="r" b="b"/>
              <a:pathLst>
                <a:path w="312" h="576">
                  <a:moveTo>
                    <a:pt x="306" y="0"/>
                  </a:moveTo>
                  <a:lnTo>
                    <a:pt x="312" y="34"/>
                  </a:lnTo>
                  <a:lnTo>
                    <a:pt x="291" y="65"/>
                  </a:lnTo>
                  <a:lnTo>
                    <a:pt x="276" y="99"/>
                  </a:lnTo>
                  <a:lnTo>
                    <a:pt x="224" y="223"/>
                  </a:lnTo>
                  <a:lnTo>
                    <a:pt x="179" y="287"/>
                  </a:lnTo>
                  <a:lnTo>
                    <a:pt x="103" y="384"/>
                  </a:lnTo>
                  <a:lnTo>
                    <a:pt x="0" y="576"/>
                  </a:lnTo>
                  <a:lnTo>
                    <a:pt x="17" y="510"/>
                  </a:lnTo>
                  <a:lnTo>
                    <a:pt x="107" y="359"/>
                  </a:lnTo>
                  <a:lnTo>
                    <a:pt x="167" y="276"/>
                  </a:lnTo>
                  <a:lnTo>
                    <a:pt x="213" y="205"/>
                  </a:lnTo>
                  <a:lnTo>
                    <a:pt x="257" y="110"/>
                  </a:lnTo>
                  <a:lnTo>
                    <a:pt x="276" y="59"/>
                  </a:lnTo>
                  <a:lnTo>
                    <a:pt x="297" y="27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5"/>
            <p:cNvSpPr/>
            <p:nvPr/>
          </p:nvSpPr>
          <p:spPr>
            <a:xfrm>
              <a:off x="1841760" y="4362840"/>
              <a:ext cx="118080" cy="115200"/>
            </a:xfrm>
            <a:custGeom>
              <a:avLst/>
              <a:gdLst/>
              <a:ahLst/>
              <a:rect l="l" t="t" r="r" b="b"/>
              <a:pathLst>
                <a:path w="312" h="310">
                  <a:moveTo>
                    <a:pt x="0" y="160"/>
                  </a:moveTo>
                  <a:lnTo>
                    <a:pt x="118" y="183"/>
                  </a:lnTo>
                  <a:lnTo>
                    <a:pt x="312" y="0"/>
                  </a:lnTo>
                  <a:lnTo>
                    <a:pt x="135" y="191"/>
                  </a:lnTo>
                  <a:lnTo>
                    <a:pt x="230" y="310"/>
                  </a:lnTo>
                  <a:lnTo>
                    <a:pt x="118" y="246"/>
                  </a:lnTo>
                  <a:lnTo>
                    <a:pt x="29" y="17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6"/>
            <p:cNvSpPr/>
            <p:nvPr/>
          </p:nvSpPr>
          <p:spPr>
            <a:xfrm>
              <a:off x="1773720" y="4444200"/>
              <a:ext cx="193320" cy="468720"/>
            </a:xfrm>
            <a:custGeom>
              <a:avLst/>
              <a:gdLst/>
              <a:ahLst/>
              <a:rect l="l" t="t" r="r" b="b"/>
              <a:pathLst>
                <a:path w="511" h="1260">
                  <a:moveTo>
                    <a:pt x="142" y="0"/>
                  </a:moveTo>
                  <a:lnTo>
                    <a:pt x="112" y="143"/>
                  </a:lnTo>
                  <a:lnTo>
                    <a:pt x="100" y="289"/>
                  </a:lnTo>
                  <a:lnTo>
                    <a:pt x="95" y="437"/>
                  </a:lnTo>
                  <a:lnTo>
                    <a:pt x="108" y="635"/>
                  </a:lnTo>
                  <a:lnTo>
                    <a:pt x="129" y="806"/>
                  </a:lnTo>
                  <a:lnTo>
                    <a:pt x="169" y="1038"/>
                  </a:lnTo>
                  <a:lnTo>
                    <a:pt x="226" y="1224"/>
                  </a:lnTo>
                  <a:lnTo>
                    <a:pt x="287" y="1234"/>
                  </a:lnTo>
                  <a:lnTo>
                    <a:pt x="351" y="1139"/>
                  </a:lnTo>
                  <a:lnTo>
                    <a:pt x="355" y="1234"/>
                  </a:lnTo>
                  <a:lnTo>
                    <a:pt x="511" y="1241"/>
                  </a:lnTo>
                  <a:lnTo>
                    <a:pt x="347" y="1260"/>
                  </a:lnTo>
                  <a:lnTo>
                    <a:pt x="203" y="1251"/>
                  </a:lnTo>
                  <a:lnTo>
                    <a:pt x="0" y="1199"/>
                  </a:lnTo>
                  <a:lnTo>
                    <a:pt x="21" y="1125"/>
                  </a:lnTo>
                  <a:lnTo>
                    <a:pt x="64" y="1129"/>
                  </a:lnTo>
                  <a:lnTo>
                    <a:pt x="57" y="996"/>
                  </a:lnTo>
                  <a:lnTo>
                    <a:pt x="104" y="935"/>
                  </a:lnTo>
                  <a:lnTo>
                    <a:pt x="114" y="878"/>
                  </a:lnTo>
                  <a:lnTo>
                    <a:pt x="114" y="827"/>
                  </a:lnTo>
                  <a:lnTo>
                    <a:pt x="55" y="679"/>
                  </a:lnTo>
                  <a:lnTo>
                    <a:pt x="55" y="553"/>
                  </a:lnTo>
                  <a:lnTo>
                    <a:pt x="68" y="397"/>
                  </a:lnTo>
                  <a:lnTo>
                    <a:pt x="57" y="264"/>
                  </a:lnTo>
                  <a:lnTo>
                    <a:pt x="70" y="198"/>
                  </a:lnTo>
                  <a:lnTo>
                    <a:pt x="98" y="99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7"/>
            <p:cNvSpPr/>
            <p:nvPr/>
          </p:nvSpPr>
          <p:spPr>
            <a:xfrm>
              <a:off x="1762200" y="4238640"/>
              <a:ext cx="319320" cy="256680"/>
            </a:xfrm>
            <a:custGeom>
              <a:avLst/>
              <a:gdLst/>
              <a:ahLst/>
              <a:rect l="l" t="t" r="r" b="b"/>
              <a:pathLst>
                <a:path w="842" h="690">
                  <a:moveTo>
                    <a:pt x="8" y="690"/>
                  </a:moveTo>
                  <a:lnTo>
                    <a:pt x="65" y="467"/>
                  </a:lnTo>
                  <a:lnTo>
                    <a:pt x="139" y="308"/>
                  </a:lnTo>
                  <a:lnTo>
                    <a:pt x="264" y="222"/>
                  </a:lnTo>
                  <a:lnTo>
                    <a:pt x="456" y="135"/>
                  </a:lnTo>
                  <a:lnTo>
                    <a:pt x="633" y="82"/>
                  </a:lnTo>
                  <a:lnTo>
                    <a:pt x="842" y="23"/>
                  </a:lnTo>
                  <a:lnTo>
                    <a:pt x="829" y="0"/>
                  </a:lnTo>
                  <a:lnTo>
                    <a:pt x="608" y="70"/>
                  </a:lnTo>
                  <a:lnTo>
                    <a:pt x="434" y="131"/>
                  </a:lnTo>
                  <a:lnTo>
                    <a:pt x="253" y="213"/>
                  </a:lnTo>
                  <a:lnTo>
                    <a:pt x="122" y="304"/>
                  </a:lnTo>
                  <a:lnTo>
                    <a:pt x="71" y="369"/>
                  </a:lnTo>
                  <a:lnTo>
                    <a:pt x="21" y="485"/>
                  </a:lnTo>
                  <a:lnTo>
                    <a:pt x="0" y="602"/>
                  </a:lnTo>
                  <a:lnTo>
                    <a:pt x="8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8"/>
            <p:cNvSpPr/>
            <p:nvPr/>
          </p:nvSpPr>
          <p:spPr>
            <a:xfrm>
              <a:off x="1615320" y="4525920"/>
              <a:ext cx="156240" cy="364680"/>
            </a:xfrm>
            <a:custGeom>
              <a:avLst/>
              <a:gdLst/>
              <a:ahLst/>
              <a:rect l="l" t="t" r="r" b="b"/>
              <a:pathLst>
                <a:path w="413" h="978">
                  <a:moveTo>
                    <a:pt x="394" y="17"/>
                  </a:moveTo>
                  <a:lnTo>
                    <a:pt x="379" y="237"/>
                  </a:lnTo>
                  <a:lnTo>
                    <a:pt x="373" y="393"/>
                  </a:lnTo>
                  <a:lnTo>
                    <a:pt x="373" y="532"/>
                  </a:lnTo>
                  <a:lnTo>
                    <a:pt x="379" y="688"/>
                  </a:lnTo>
                  <a:lnTo>
                    <a:pt x="413" y="978"/>
                  </a:lnTo>
                  <a:lnTo>
                    <a:pt x="177" y="931"/>
                  </a:lnTo>
                  <a:lnTo>
                    <a:pt x="88" y="912"/>
                  </a:lnTo>
                  <a:lnTo>
                    <a:pt x="177" y="887"/>
                  </a:lnTo>
                  <a:lnTo>
                    <a:pt x="118" y="834"/>
                  </a:lnTo>
                  <a:lnTo>
                    <a:pt x="31" y="804"/>
                  </a:lnTo>
                  <a:lnTo>
                    <a:pt x="82" y="771"/>
                  </a:lnTo>
                  <a:lnTo>
                    <a:pt x="95" y="735"/>
                  </a:lnTo>
                  <a:lnTo>
                    <a:pt x="156" y="783"/>
                  </a:lnTo>
                  <a:lnTo>
                    <a:pt x="200" y="809"/>
                  </a:lnTo>
                  <a:lnTo>
                    <a:pt x="227" y="809"/>
                  </a:lnTo>
                  <a:lnTo>
                    <a:pt x="234" y="786"/>
                  </a:lnTo>
                  <a:lnTo>
                    <a:pt x="177" y="739"/>
                  </a:lnTo>
                  <a:lnTo>
                    <a:pt x="116" y="680"/>
                  </a:lnTo>
                  <a:lnTo>
                    <a:pt x="74" y="619"/>
                  </a:lnTo>
                  <a:lnTo>
                    <a:pt x="61" y="558"/>
                  </a:lnTo>
                  <a:lnTo>
                    <a:pt x="61" y="515"/>
                  </a:lnTo>
                  <a:lnTo>
                    <a:pt x="35" y="558"/>
                  </a:lnTo>
                  <a:lnTo>
                    <a:pt x="0" y="674"/>
                  </a:lnTo>
                  <a:lnTo>
                    <a:pt x="25" y="537"/>
                  </a:lnTo>
                  <a:lnTo>
                    <a:pt x="65" y="450"/>
                  </a:lnTo>
                  <a:lnTo>
                    <a:pt x="126" y="380"/>
                  </a:lnTo>
                  <a:lnTo>
                    <a:pt x="217" y="328"/>
                  </a:lnTo>
                  <a:lnTo>
                    <a:pt x="149" y="376"/>
                  </a:lnTo>
                  <a:lnTo>
                    <a:pt x="132" y="416"/>
                  </a:lnTo>
                  <a:lnTo>
                    <a:pt x="143" y="494"/>
                  </a:lnTo>
                  <a:lnTo>
                    <a:pt x="164" y="575"/>
                  </a:lnTo>
                  <a:lnTo>
                    <a:pt x="208" y="650"/>
                  </a:lnTo>
                  <a:lnTo>
                    <a:pt x="257" y="697"/>
                  </a:lnTo>
                  <a:lnTo>
                    <a:pt x="322" y="731"/>
                  </a:lnTo>
                  <a:lnTo>
                    <a:pt x="303" y="671"/>
                  </a:lnTo>
                  <a:lnTo>
                    <a:pt x="304" y="596"/>
                  </a:lnTo>
                  <a:lnTo>
                    <a:pt x="303" y="541"/>
                  </a:lnTo>
                  <a:lnTo>
                    <a:pt x="287" y="488"/>
                  </a:lnTo>
                  <a:lnTo>
                    <a:pt x="251" y="338"/>
                  </a:lnTo>
                  <a:lnTo>
                    <a:pt x="244" y="285"/>
                  </a:lnTo>
                  <a:lnTo>
                    <a:pt x="257" y="216"/>
                  </a:lnTo>
                  <a:lnTo>
                    <a:pt x="268" y="250"/>
                  </a:lnTo>
                  <a:lnTo>
                    <a:pt x="287" y="288"/>
                  </a:lnTo>
                  <a:lnTo>
                    <a:pt x="322" y="321"/>
                  </a:lnTo>
                  <a:lnTo>
                    <a:pt x="348" y="336"/>
                  </a:lnTo>
                  <a:lnTo>
                    <a:pt x="312" y="247"/>
                  </a:lnTo>
                  <a:lnTo>
                    <a:pt x="312" y="142"/>
                  </a:lnTo>
                  <a:lnTo>
                    <a:pt x="270" y="169"/>
                  </a:lnTo>
                  <a:lnTo>
                    <a:pt x="329" y="91"/>
                  </a:lnTo>
                  <a:lnTo>
                    <a:pt x="361" y="0"/>
                  </a:lnTo>
                  <a:lnTo>
                    <a:pt x="348" y="108"/>
                  </a:lnTo>
                  <a:lnTo>
                    <a:pt x="361" y="211"/>
                  </a:lnTo>
                  <a:lnTo>
                    <a:pt x="39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9"/>
            <p:cNvSpPr/>
            <p:nvPr/>
          </p:nvSpPr>
          <p:spPr>
            <a:xfrm>
              <a:off x="1523880" y="4792680"/>
              <a:ext cx="105480" cy="293760"/>
            </a:xfrm>
            <a:custGeom>
              <a:avLst/>
              <a:gdLst/>
              <a:ahLst/>
              <a:rect l="l" t="t" r="r" b="b"/>
              <a:pathLst>
                <a:path w="277" h="791">
                  <a:moveTo>
                    <a:pt x="228" y="0"/>
                  </a:moveTo>
                  <a:lnTo>
                    <a:pt x="194" y="101"/>
                  </a:lnTo>
                  <a:lnTo>
                    <a:pt x="84" y="150"/>
                  </a:lnTo>
                  <a:lnTo>
                    <a:pt x="67" y="177"/>
                  </a:lnTo>
                  <a:lnTo>
                    <a:pt x="63" y="299"/>
                  </a:lnTo>
                  <a:lnTo>
                    <a:pt x="40" y="394"/>
                  </a:lnTo>
                  <a:lnTo>
                    <a:pt x="46" y="428"/>
                  </a:lnTo>
                  <a:lnTo>
                    <a:pt x="0" y="502"/>
                  </a:lnTo>
                  <a:lnTo>
                    <a:pt x="0" y="601"/>
                  </a:lnTo>
                  <a:lnTo>
                    <a:pt x="34" y="656"/>
                  </a:lnTo>
                  <a:lnTo>
                    <a:pt x="59" y="738"/>
                  </a:lnTo>
                  <a:lnTo>
                    <a:pt x="101" y="791"/>
                  </a:lnTo>
                  <a:lnTo>
                    <a:pt x="67" y="734"/>
                  </a:lnTo>
                  <a:lnTo>
                    <a:pt x="36" y="639"/>
                  </a:lnTo>
                  <a:lnTo>
                    <a:pt x="59" y="555"/>
                  </a:lnTo>
                  <a:lnTo>
                    <a:pt x="116" y="485"/>
                  </a:lnTo>
                  <a:lnTo>
                    <a:pt x="46" y="555"/>
                  </a:lnTo>
                  <a:lnTo>
                    <a:pt x="27" y="622"/>
                  </a:lnTo>
                  <a:lnTo>
                    <a:pt x="10" y="588"/>
                  </a:lnTo>
                  <a:lnTo>
                    <a:pt x="11" y="496"/>
                  </a:lnTo>
                  <a:lnTo>
                    <a:pt x="78" y="407"/>
                  </a:lnTo>
                  <a:lnTo>
                    <a:pt x="137" y="337"/>
                  </a:lnTo>
                  <a:lnTo>
                    <a:pt x="86" y="373"/>
                  </a:lnTo>
                  <a:lnTo>
                    <a:pt x="70" y="373"/>
                  </a:lnTo>
                  <a:lnTo>
                    <a:pt x="67" y="316"/>
                  </a:lnTo>
                  <a:lnTo>
                    <a:pt x="106" y="266"/>
                  </a:lnTo>
                  <a:lnTo>
                    <a:pt x="219" y="206"/>
                  </a:lnTo>
                  <a:lnTo>
                    <a:pt x="277" y="192"/>
                  </a:lnTo>
                  <a:lnTo>
                    <a:pt x="222" y="198"/>
                  </a:lnTo>
                  <a:lnTo>
                    <a:pt x="89" y="255"/>
                  </a:lnTo>
                  <a:lnTo>
                    <a:pt x="84" y="198"/>
                  </a:lnTo>
                  <a:lnTo>
                    <a:pt x="106" y="156"/>
                  </a:lnTo>
                  <a:lnTo>
                    <a:pt x="241" y="97"/>
                  </a:lnTo>
                  <a:lnTo>
                    <a:pt x="224" y="8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0"/>
            <p:cNvSpPr/>
            <p:nvPr/>
          </p:nvSpPr>
          <p:spPr>
            <a:xfrm>
              <a:off x="1595880" y="4884840"/>
              <a:ext cx="178920" cy="236520"/>
            </a:xfrm>
            <a:custGeom>
              <a:avLst/>
              <a:gdLst/>
              <a:ahLst/>
              <a:rect l="l" t="t" r="r" b="b"/>
              <a:pathLst>
                <a:path w="471" h="635">
                  <a:moveTo>
                    <a:pt x="308" y="403"/>
                  </a:moveTo>
                  <a:lnTo>
                    <a:pt x="241" y="437"/>
                  </a:lnTo>
                  <a:lnTo>
                    <a:pt x="32" y="500"/>
                  </a:lnTo>
                  <a:lnTo>
                    <a:pt x="0" y="496"/>
                  </a:lnTo>
                  <a:lnTo>
                    <a:pt x="32" y="515"/>
                  </a:lnTo>
                  <a:lnTo>
                    <a:pt x="30" y="538"/>
                  </a:lnTo>
                  <a:lnTo>
                    <a:pt x="8" y="567"/>
                  </a:lnTo>
                  <a:lnTo>
                    <a:pt x="30" y="574"/>
                  </a:lnTo>
                  <a:lnTo>
                    <a:pt x="46" y="595"/>
                  </a:lnTo>
                  <a:lnTo>
                    <a:pt x="51" y="635"/>
                  </a:lnTo>
                  <a:lnTo>
                    <a:pt x="99" y="635"/>
                  </a:lnTo>
                  <a:lnTo>
                    <a:pt x="146" y="618"/>
                  </a:lnTo>
                  <a:lnTo>
                    <a:pt x="198" y="584"/>
                  </a:lnTo>
                  <a:lnTo>
                    <a:pt x="255" y="531"/>
                  </a:lnTo>
                  <a:lnTo>
                    <a:pt x="312" y="451"/>
                  </a:lnTo>
                  <a:lnTo>
                    <a:pt x="342" y="491"/>
                  </a:lnTo>
                  <a:lnTo>
                    <a:pt x="369" y="513"/>
                  </a:lnTo>
                  <a:lnTo>
                    <a:pt x="348" y="472"/>
                  </a:lnTo>
                  <a:lnTo>
                    <a:pt x="336" y="415"/>
                  </a:lnTo>
                  <a:lnTo>
                    <a:pt x="342" y="339"/>
                  </a:lnTo>
                  <a:lnTo>
                    <a:pt x="344" y="263"/>
                  </a:lnTo>
                  <a:lnTo>
                    <a:pt x="352" y="196"/>
                  </a:lnTo>
                  <a:lnTo>
                    <a:pt x="374" y="158"/>
                  </a:lnTo>
                  <a:lnTo>
                    <a:pt x="424" y="90"/>
                  </a:lnTo>
                  <a:lnTo>
                    <a:pt x="471" y="40"/>
                  </a:lnTo>
                  <a:lnTo>
                    <a:pt x="418" y="86"/>
                  </a:lnTo>
                  <a:lnTo>
                    <a:pt x="354" y="166"/>
                  </a:lnTo>
                  <a:lnTo>
                    <a:pt x="329" y="244"/>
                  </a:lnTo>
                  <a:lnTo>
                    <a:pt x="323" y="327"/>
                  </a:lnTo>
                  <a:lnTo>
                    <a:pt x="251" y="268"/>
                  </a:lnTo>
                  <a:lnTo>
                    <a:pt x="241" y="228"/>
                  </a:lnTo>
                  <a:lnTo>
                    <a:pt x="264" y="181"/>
                  </a:lnTo>
                  <a:lnTo>
                    <a:pt x="276" y="135"/>
                  </a:lnTo>
                  <a:lnTo>
                    <a:pt x="306" y="91"/>
                  </a:lnTo>
                  <a:lnTo>
                    <a:pt x="329" y="48"/>
                  </a:lnTo>
                  <a:lnTo>
                    <a:pt x="355" y="33"/>
                  </a:lnTo>
                  <a:lnTo>
                    <a:pt x="390" y="21"/>
                  </a:lnTo>
                  <a:lnTo>
                    <a:pt x="450" y="10"/>
                  </a:lnTo>
                  <a:lnTo>
                    <a:pt x="399" y="0"/>
                  </a:lnTo>
                  <a:lnTo>
                    <a:pt x="340" y="10"/>
                  </a:lnTo>
                  <a:lnTo>
                    <a:pt x="272" y="52"/>
                  </a:lnTo>
                  <a:lnTo>
                    <a:pt x="232" y="88"/>
                  </a:lnTo>
                  <a:lnTo>
                    <a:pt x="236" y="128"/>
                  </a:lnTo>
                  <a:lnTo>
                    <a:pt x="238" y="158"/>
                  </a:lnTo>
                  <a:lnTo>
                    <a:pt x="232" y="190"/>
                  </a:lnTo>
                  <a:lnTo>
                    <a:pt x="224" y="219"/>
                  </a:lnTo>
                  <a:lnTo>
                    <a:pt x="194" y="249"/>
                  </a:lnTo>
                  <a:lnTo>
                    <a:pt x="198" y="283"/>
                  </a:lnTo>
                  <a:lnTo>
                    <a:pt x="217" y="312"/>
                  </a:lnTo>
                  <a:lnTo>
                    <a:pt x="245" y="340"/>
                  </a:lnTo>
                  <a:lnTo>
                    <a:pt x="279" y="360"/>
                  </a:lnTo>
                  <a:lnTo>
                    <a:pt x="304" y="373"/>
                  </a:lnTo>
                  <a:lnTo>
                    <a:pt x="272" y="380"/>
                  </a:lnTo>
                  <a:lnTo>
                    <a:pt x="222" y="365"/>
                  </a:lnTo>
                  <a:lnTo>
                    <a:pt x="181" y="344"/>
                  </a:lnTo>
                  <a:lnTo>
                    <a:pt x="240" y="382"/>
                  </a:lnTo>
                  <a:lnTo>
                    <a:pt x="264" y="396"/>
                  </a:lnTo>
                  <a:lnTo>
                    <a:pt x="308" y="4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1"/>
            <p:cNvSpPr/>
            <p:nvPr/>
          </p:nvSpPr>
          <p:spPr>
            <a:xfrm>
              <a:off x="1557720" y="4912560"/>
              <a:ext cx="225360" cy="264600"/>
            </a:xfrm>
            <a:custGeom>
              <a:avLst/>
              <a:gdLst/>
              <a:ahLst/>
              <a:rect l="l" t="t" r="r" b="b"/>
              <a:pathLst>
                <a:path w="595" h="711">
                  <a:moveTo>
                    <a:pt x="48" y="287"/>
                  </a:moveTo>
                  <a:lnTo>
                    <a:pt x="48" y="341"/>
                  </a:lnTo>
                  <a:lnTo>
                    <a:pt x="31" y="388"/>
                  </a:lnTo>
                  <a:lnTo>
                    <a:pt x="52" y="479"/>
                  </a:lnTo>
                  <a:lnTo>
                    <a:pt x="112" y="548"/>
                  </a:lnTo>
                  <a:lnTo>
                    <a:pt x="156" y="561"/>
                  </a:lnTo>
                  <a:lnTo>
                    <a:pt x="211" y="603"/>
                  </a:lnTo>
                  <a:lnTo>
                    <a:pt x="382" y="662"/>
                  </a:lnTo>
                  <a:lnTo>
                    <a:pt x="455" y="671"/>
                  </a:lnTo>
                  <a:lnTo>
                    <a:pt x="479" y="536"/>
                  </a:lnTo>
                  <a:lnTo>
                    <a:pt x="487" y="343"/>
                  </a:lnTo>
                  <a:lnTo>
                    <a:pt x="496" y="160"/>
                  </a:lnTo>
                  <a:lnTo>
                    <a:pt x="525" y="67"/>
                  </a:lnTo>
                  <a:lnTo>
                    <a:pt x="595" y="0"/>
                  </a:lnTo>
                  <a:lnTo>
                    <a:pt x="534" y="78"/>
                  </a:lnTo>
                  <a:lnTo>
                    <a:pt x="512" y="168"/>
                  </a:lnTo>
                  <a:lnTo>
                    <a:pt x="496" y="432"/>
                  </a:lnTo>
                  <a:lnTo>
                    <a:pt x="496" y="544"/>
                  </a:lnTo>
                  <a:lnTo>
                    <a:pt x="462" y="711"/>
                  </a:lnTo>
                  <a:lnTo>
                    <a:pt x="436" y="704"/>
                  </a:lnTo>
                  <a:lnTo>
                    <a:pt x="272" y="654"/>
                  </a:lnTo>
                  <a:lnTo>
                    <a:pt x="133" y="588"/>
                  </a:lnTo>
                  <a:lnTo>
                    <a:pt x="61" y="533"/>
                  </a:lnTo>
                  <a:lnTo>
                    <a:pt x="21" y="472"/>
                  </a:lnTo>
                  <a:lnTo>
                    <a:pt x="10" y="415"/>
                  </a:lnTo>
                  <a:lnTo>
                    <a:pt x="0" y="363"/>
                  </a:lnTo>
                  <a:lnTo>
                    <a:pt x="29" y="306"/>
                  </a:lnTo>
                  <a:lnTo>
                    <a:pt x="48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2"/>
            <p:cNvSpPr/>
            <p:nvPr/>
          </p:nvSpPr>
          <p:spPr>
            <a:xfrm>
              <a:off x="1643040" y="4881960"/>
              <a:ext cx="75600" cy="118080"/>
            </a:xfrm>
            <a:custGeom>
              <a:avLst/>
              <a:gdLst/>
              <a:ahLst/>
              <a:rect l="l" t="t" r="r" b="b"/>
              <a:pathLst>
                <a:path w="199" h="317">
                  <a:moveTo>
                    <a:pt x="199" y="0"/>
                  </a:moveTo>
                  <a:lnTo>
                    <a:pt x="159" y="11"/>
                  </a:lnTo>
                  <a:lnTo>
                    <a:pt x="97" y="43"/>
                  </a:lnTo>
                  <a:lnTo>
                    <a:pt x="55" y="89"/>
                  </a:lnTo>
                  <a:lnTo>
                    <a:pt x="43" y="98"/>
                  </a:lnTo>
                  <a:lnTo>
                    <a:pt x="28" y="125"/>
                  </a:lnTo>
                  <a:lnTo>
                    <a:pt x="5" y="161"/>
                  </a:lnTo>
                  <a:lnTo>
                    <a:pt x="0" y="197"/>
                  </a:lnTo>
                  <a:lnTo>
                    <a:pt x="3" y="237"/>
                  </a:lnTo>
                  <a:lnTo>
                    <a:pt x="13" y="260"/>
                  </a:lnTo>
                  <a:lnTo>
                    <a:pt x="22" y="296"/>
                  </a:lnTo>
                  <a:lnTo>
                    <a:pt x="36" y="317"/>
                  </a:lnTo>
                  <a:lnTo>
                    <a:pt x="22" y="283"/>
                  </a:lnTo>
                  <a:lnTo>
                    <a:pt x="17" y="251"/>
                  </a:lnTo>
                  <a:lnTo>
                    <a:pt x="7" y="226"/>
                  </a:lnTo>
                  <a:lnTo>
                    <a:pt x="7" y="192"/>
                  </a:lnTo>
                  <a:lnTo>
                    <a:pt x="17" y="156"/>
                  </a:lnTo>
                  <a:lnTo>
                    <a:pt x="36" y="127"/>
                  </a:lnTo>
                  <a:lnTo>
                    <a:pt x="51" y="100"/>
                  </a:lnTo>
                  <a:lnTo>
                    <a:pt x="74" y="89"/>
                  </a:lnTo>
                  <a:lnTo>
                    <a:pt x="76" y="74"/>
                  </a:lnTo>
                  <a:lnTo>
                    <a:pt x="110" y="45"/>
                  </a:lnTo>
                  <a:lnTo>
                    <a:pt x="159" y="21"/>
                  </a:lnTo>
                  <a:lnTo>
                    <a:pt x="190" y="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3"/>
            <p:cNvSpPr/>
            <p:nvPr/>
          </p:nvSpPr>
          <p:spPr>
            <a:xfrm>
              <a:off x="1652760" y="4993560"/>
              <a:ext cx="27720" cy="288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0" y="0"/>
                  </a:moveTo>
                  <a:lnTo>
                    <a:pt x="63" y="0"/>
                  </a:lnTo>
                  <a:lnTo>
                    <a:pt x="7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4"/>
            <p:cNvSpPr/>
            <p:nvPr/>
          </p:nvSpPr>
          <p:spPr>
            <a:xfrm>
              <a:off x="1757520" y="5124600"/>
              <a:ext cx="110160" cy="64080"/>
            </a:xfrm>
            <a:custGeom>
              <a:avLst/>
              <a:gdLst/>
              <a:ahLst/>
              <a:rect l="l" t="t" r="r" b="b"/>
              <a:pathLst>
                <a:path w="291" h="171">
                  <a:moveTo>
                    <a:pt x="5" y="78"/>
                  </a:moveTo>
                  <a:lnTo>
                    <a:pt x="7" y="104"/>
                  </a:lnTo>
                  <a:lnTo>
                    <a:pt x="23" y="127"/>
                  </a:lnTo>
                  <a:lnTo>
                    <a:pt x="44" y="135"/>
                  </a:lnTo>
                  <a:lnTo>
                    <a:pt x="63" y="135"/>
                  </a:lnTo>
                  <a:lnTo>
                    <a:pt x="78" y="125"/>
                  </a:lnTo>
                  <a:lnTo>
                    <a:pt x="93" y="106"/>
                  </a:lnTo>
                  <a:lnTo>
                    <a:pt x="99" y="78"/>
                  </a:lnTo>
                  <a:lnTo>
                    <a:pt x="114" y="112"/>
                  </a:lnTo>
                  <a:lnTo>
                    <a:pt x="137" y="121"/>
                  </a:lnTo>
                  <a:lnTo>
                    <a:pt x="152" y="119"/>
                  </a:lnTo>
                  <a:lnTo>
                    <a:pt x="167" y="108"/>
                  </a:lnTo>
                  <a:lnTo>
                    <a:pt x="173" y="95"/>
                  </a:lnTo>
                  <a:lnTo>
                    <a:pt x="178" y="76"/>
                  </a:lnTo>
                  <a:lnTo>
                    <a:pt x="188" y="110"/>
                  </a:lnTo>
                  <a:lnTo>
                    <a:pt x="207" y="123"/>
                  </a:lnTo>
                  <a:lnTo>
                    <a:pt x="222" y="125"/>
                  </a:lnTo>
                  <a:lnTo>
                    <a:pt x="235" y="123"/>
                  </a:lnTo>
                  <a:lnTo>
                    <a:pt x="254" y="108"/>
                  </a:lnTo>
                  <a:lnTo>
                    <a:pt x="258" y="85"/>
                  </a:lnTo>
                  <a:lnTo>
                    <a:pt x="258" y="59"/>
                  </a:lnTo>
                  <a:lnTo>
                    <a:pt x="245" y="40"/>
                  </a:lnTo>
                  <a:lnTo>
                    <a:pt x="222" y="32"/>
                  </a:lnTo>
                  <a:lnTo>
                    <a:pt x="203" y="34"/>
                  </a:lnTo>
                  <a:lnTo>
                    <a:pt x="190" y="41"/>
                  </a:lnTo>
                  <a:lnTo>
                    <a:pt x="211" y="21"/>
                  </a:lnTo>
                  <a:lnTo>
                    <a:pt x="226" y="0"/>
                  </a:lnTo>
                  <a:lnTo>
                    <a:pt x="235" y="24"/>
                  </a:lnTo>
                  <a:lnTo>
                    <a:pt x="260" y="43"/>
                  </a:lnTo>
                  <a:lnTo>
                    <a:pt x="291" y="59"/>
                  </a:lnTo>
                  <a:lnTo>
                    <a:pt x="287" y="104"/>
                  </a:lnTo>
                  <a:lnTo>
                    <a:pt x="272" y="150"/>
                  </a:lnTo>
                  <a:lnTo>
                    <a:pt x="241" y="169"/>
                  </a:lnTo>
                  <a:lnTo>
                    <a:pt x="211" y="171"/>
                  </a:lnTo>
                  <a:lnTo>
                    <a:pt x="190" y="159"/>
                  </a:lnTo>
                  <a:lnTo>
                    <a:pt x="165" y="140"/>
                  </a:lnTo>
                  <a:lnTo>
                    <a:pt x="127" y="142"/>
                  </a:lnTo>
                  <a:lnTo>
                    <a:pt x="101" y="135"/>
                  </a:lnTo>
                  <a:lnTo>
                    <a:pt x="68" y="150"/>
                  </a:lnTo>
                  <a:lnTo>
                    <a:pt x="44" y="148"/>
                  </a:lnTo>
                  <a:lnTo>
                    <a:pt x="23" y="140"/>
                  </a:lnTo>
                  <a:lnTo>
                    <a:pt x="5" y="121"/>
                  </a:lnTo>
                  <a:lnTo>
                    <a:pt x="0" y="102"/>
                  </a:lnTo>
                  <a:lnTo>
                    <a:pt x="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"/>
            <p:cNvSpPr/>
            <p:nvPr/>
          </p:nvSpPr>
          <p:spPr>
            <a:xfrm>
              <a:off x="1769040" y="5130360"/>
              <a:ext cx="56880" cy="17640"/>
            </a:xfrm>
            <a:custGeom>
              <a:avLst/>
              <a:gdLst/>
              <a:ahLst/>
              <a:rect l="l" t="t" r="r" b="b"/>
              <a:pathLst>
                <a:path w="150" h="47">
                  <a:moveTo>
                    <a:pt x="0" y="26"/>
                  </a:moveTo>
                  <a:lnTo>
                    <a:pt x="19" y="23"/>
                  </a:lnTo>
                  <a:lnTo>
                    <a:pt x="38" y="25"/>
                  </a:lnTo>
                  <a:lnTo>
                    <a:pt x="59" y="40"/>
                  </a:lnTo>
                  <a:lnTo>
                    <a:pt x="69" y="47"/>
                  </a:lnTo>
                  <a:lnTo>
                    <a:pt x="80" y="23"/>
                  </a:lnTo>
                  <a:lnTo>
                    <a:pt x="97" y="7"/>
                  </a:lnTo>
                  <a:lnTo>
                    <a:pt x="124" y="6"/>
                  </a:lnTo>
                  <a:lnTo>
                    <a:pt x="150" y="26"/>
                  </a:lnTo>
                  <a:lnTo>
                    <a:pt x="131" y="4"/>
                  </a:lnTo>
                  <a:lnTo>
                    <a:pt x="114" y="0"/>
                  </a:lnTo>
                  <a:lnTo>
                    <a:pt x="97" y="2"/>
                  </a:lnTo>
                  <a:lnTo>
                    <a:pt x="80" y="9"/>
                  </a:lnTo>
                  <a:lnTo>
                    <a:pt x="59" y="26"/>
                  </a:lnTo>
                  <a:lnTo>
                    <a:pt x="38" y="15"/>
                  </a:lnTo>
                  <a:lnTo>
                    <a:pt x="19" y="1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6"/>
            <p:cNvSpPr/>
            <p:nvPr/>
          </p:nvSpPr>
          <p:spPr>
            <a:xfrm>
              <a:off x="1762920" y="5144040"/>
              <a:ext cx="22680" cy="2736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38" y="0"/>
                  </a:moveTo>
                  <a:lnTo>
                    <a:pt x="15" y="0"/>
                  </a:lnTo>
                  <a:lnTo>
                    <a:pt x="0" y="27"/>
                  </a:lnTo>
                  <a:lnTo>
                    <a:pt x="4" y="53"/>
                  </a:lnTo>
                  <a:lnTo>
                    <a:pt x="19" y="72"/>
                  </a:lnTo>
                  <a:lnTo>
                    <a:pt x="44" y="74"/>
                  </a:lnTo>
                  <a:lnTo>
                    <a:pt x="59" y="61"/>
                  </a:lnTo>
                  <a:lnTo>
                    <a:pt x="40" y="68"/>
                  </a:lnTo>
                  <a:lnTo>
                    <a:pt x="23" y="61"/>
                  </a:lnTo>
                  <a:lnTo>
                    <a:pt x="11" y="44"/>
                  </a:lnTo>
                  <a:lnTo>
                    <a:pt x="11" y="23"/>
                  </a:lnTo>
                  <a:lnTo>
                    <a:pt x="23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7"/>
            <p:cNvSpPr/>
            <p:nvPr/>
          </p:nvSpPr>
          <p:spPr>
            <a:xfrm>
              <a:off x="1799280" y="5137200"/>
              <a:ext cx="14040" cy="26640"/>
            </a:xfrm>
            <a:custGeom>
              <a:avLst/>
              <a:gdLst/>
              <a:ahLst/>
              <a:rect l="l" t="t" r="r" b="b"/>
              <a:pathLst>
                <a:path w="38" h="70">
                  <a:moveTo>
                    <a:pt x="38" y="0"/>
                  </a:moveTo>
                  <a:lnTo>
                    <a:pt x="15" y="0"/>
                  </a:lnTo>
                  <a:lnTo>
                    <a:pt x="0" y="19"/>
                  </a:lnTo>
                  <a:lnTo>
                    <a:pt x="0" y="49"/>
                  </a:lnTo>
                  <a:lnTo>
                    <a:pt x="11" y="70"/>
                  </a:lnTo>
                  <a:lnTo>
                    <a:pt x="32" y="70"/>
                  </a:lnTo>
                  <a:lnTo>
                    <a:pt x="17" y="63"/>
                  </a:lnTo>
                  <a:lnTo>
                    <a:pt x="10" y="44"/>
                  </a:lnTo>
                  <a:lnTo>
                    <a:pt x="8" y="21"/>
                  </a:lnTo>
                  <a:lnTo>
                    <a:pt x="25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8"/>
            <p:cNvSpPr/>
            <p:nvPr/>
          </p:nvSpPr>
          <p:spPr>
            <a:xfrm>
              <a:off x="1829160" y="5141520"/>
              <a:ext cx="9720" cy="2412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8" y="8"/>
                  </a:lnTo>
                  <a:lnTo>
                    <a:pt x="0" y="31"/>
                  </a:lnTo>
                  <a:lnTo>
                    <a:pt x="8" y="59"/>
                  </a:lnTo>
                  <a:lnTo>
                    <a:pt x="23" y="67"/>
                  </a:lnTo>
                  <a:lnTo>
                    <a:pt x="15" y="48"/>
                  </a:lnTo>
                  <a:lnTo>
                    <a:pt x="11" y="25"/>
                  </a:lnTo>
                  <a:lnTo>
                    <a:pt x="21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9"/>
            <p:cNvSpPr/>
            <p:nvPr/>
          </p:nvSpPr>
          <p:spPr>
            <a:xfrm>
              <a:off x="1776600" y="5193720"/>
              <a:ext cx="58320" cy="30240"/>
            </a:xfrm>
            <a:custGeom>
              <a:avLst/>
              <a:gdLst/>
              <a:ahLst/>
              <a:rect l="l" t="t" r="r" b="b"/>
              <a:pathLst>
                <a:path w="154" h="82">
                  <a:moveTo>
                    <a:pt x="12" y="23"/>
                  </a:moveTo>
                  <a:lnTo>
                    <a:pt x="19" y="13"/>
                  </a:lnTo>
                  <a:lnTo>
                    <a:pt x="31" y="15"/>
                  </a:lnTo>
                  <a:lnTo>
                    <a:pt x="52" y="32"/>
                  </a:lnTo>
                  <a:lnTo>
                    <a:pt x="50" y="19"/>
                  </a:lnTo>
                  <a:lnTo>
                    <a:pt x="63" y="15"/>
                  </a:lnTo>
                  <a:lnTo>
                    <a:pt x="84" y="27"/>
                  </a:lnTo>
                  <a:lnTo>
                    <a:pt x="97" y="47"/>
                  </a:lnTo>
                  <a:lnTo>
                    <a:pt x="97" y="27"/>
                  </a:lnTo>
                  <a:lnTo>
                    <a:pt x="109" y="25"/>
                  </a:lnTo>
                  <a:lnTo>
                    <a:pt x="124" y="36"/>
                  </a:lnTo>
                  <a:lnTo>
                    <a:pt x="145" y="63"/>
                  </a:lnTo>
                  <a:lnTo>
                    <a:pt x="154" y="82"/>
                  </a:lnTo>
                  <a:lnTo>
                    <a:pt x="147" y="49"/>
                  </a:lnTo>
                  <a:lnTo>
                    <a:pt x="126" y="19"/>
                  </a:lnTo>
                  <a:lnTo>
                    <a:pt x="103" y="8"/>
                  </a:lnTo>
                  <a:lnTo>
                    <a:pt x="82" y="9"/>
                  </a:lnTo>
                  <a:lnTo>
                    <a:pt x="52" y="0"/>
                  </a:lnTo>
                  <a:lnTo>
                    <a:pt x="33" y="2"/>
                  </a:lnTo>
                  <a:lnTo>
                    <a:pt x="12" y="2"/>
                  </a:lnTo>
                  <a:lnTo>
                    <a:pt x="0" y="1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70"/>
            <p:cNvSpPr/>
            <p:nvPr/>
          </p:nvSpPr>
          <p:spPr>
            <a:xfrm>
              <a:off x="2006640" y="3926880"/>
              <a:ext cx="82800" cy="21600"/>
            </a:xfrm>
            <a:custGeom>
              <a:avLst/>
              <a:gdLst/>
              <a:ahLst/>
              <a:rect l="l" t="t" r="r" b="b"/>
              <a:pathLst>
                <a:path w="219" h="57">
                  <a:moveTo>
                    <a:pt x="18" y="36"/>
                  </a:moveTo>
                  <a:lnTo>
                    <a:pt x="46" y="30"/>
                  </a:lnTo>
                  <a:lnTo>
                    <a:pt x="73" y="45"/>
                  </a:lnTo>
                  <a:lnTo>
                    <a:pt x="113" y="49"/>
                  </a:lnTo>
                  <a:lnTo>
                    <a:pt x="151" y="47"/>
                  </a:lnTo>
                  <a:lnTo>
                    <a:pt x="191" y="57"/>
                  </a:lnTo>
                  <a:lnTo>
                    <a:pt x="219" y="53"/>
                  </a:lnTo>
                  <a:lnTo>
                    <a:pt x="206" y="30"/>
                  </a:lnTo>
                  <a:lnTo>
                    <a:pt x="168" y="7"/>
                  </a:lnTo>
                  <a:lnTo>
                    <a:pt x="134" y="0"/>
                  </a:lnTo>
                  <a:lnTo>
                    <a:pt x="97" y="0"/>
                  </a:lnTo>
                  <a:lnTo>
                    <a:pt x="54" y="3"/>
                  </a:lnTo>
                  <a:lnTo>
                    <a:pt x="25" y="11"/>
                  </a:lnTo>
                  <a:lnTo>
                    <a:pt x="0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1"/>
            <p:cNvSpPr/>
            <p:nvPr/>
          </p:nvSpPr>
          <p:spPr>
            <a:xfrm>
              <a:off x="2049120" y="3966480"/>
              <a:ext cx="28080" cy="1548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17" y="2"/>
                  </a:moveTo>
                  <a:lnTo>
                    <a:pt x="17" y="17"/>
                  </a:lnTo>
                  <a:lnTo>
                    <a:pt x="34" y="17"/>
                  </a:lnTo>
                  <a:lnTo>
                    <a:pt x="38" y="0"/>
                  </a:lnTo>
                  <a:lnTo>
                    <a:pt x="55" y="4"/>
                  </a:lnTo>
                  <a:lnTo>
                    <a:pt x="74" y="8"/>
                  </a:lnTo>
                  <a:lnTo>
                    <a:pt x="68" y="27"/>
                  </a:lnTo>
                  <a:lnTo>
                    <a:pt x="57" y="42"/>
                  </a:lnTo>
                  <a:lnTo>
                    <a:pt x="19" y="42"/>
                  </a:lnTo>
                  <a:lnTo>
                    <a:pt x="2" y="27"/>
                  </a:lnTo>
                  <a:lnTo>
                    <a:pt x="0" y="0"/>
                  </a:lnTo>
                  <a:lnTo>
                    <a:pt x="7" y="25"/>
                  </a:lnTo>
                  <a:lnTo>
                    <a:pt x="21" y="34"/>
                  </a:lnTo>
                  <a:lnTo>
                    <a:pt x="19" y="25"/>
                  </a:lnTo>
                  <a:lnTo>
                    <a:pt x="15" y="15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2"/>
            <p:cNvSpPr/>
            <p:nvPr/>
          </p:nvSpPr>
          <p:spPr>
            <a:xfrm>
              <a:off x="2014200" y="3960360"/>
              <a:ext cx="85680" cy="2520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65" y="47"/>
                  </a:moveTo>
                  <a:lnTo>
                    <a:pt x="69" y="38"/>
                  </a:lnTo>
                  <a:lnTo>
                    <a:pt x="80" y="26"/>
                  </a:lnTo>
                  <a:lnTo>
                    <a:pt x="103" y="23"/>
                  </a:lnTo>
                  <a:lnTo>
                    <a:pt x="130" y="21"/>
                  </a:lnTo>
                  <a:lnTo>
                    <a:pt x="156" y="26"/>
                  </a:lnTo>
                  <a:lnTo>
                    <a:pt x="132" y="59"/>
                  </a:lnTo>
                  <a:lnTo>
                    <a:pt x="147" y="66"/>
                  </a:lnTo>
                  <a:lnTo>
                    <a:pt x="160" y="61"/>
                  </a:lnTo>
                  <a:lnTo>
                    <a:pt x="185" y="68"/>
                  </a:lnTo>
                  <a:lnTo>
                    <a:pt x="202" y="61"/>
                  </a:lnTo>
                  <a:lnTo>
                    <a:pt x="215" y="59"/>
                  </a:lnTo>
                  <a:lnTo>
                    <a:pt x="227" y="61"/>
                  </a:lnTo>
                  <a:lnTo>
                    <a:pt x="221" y="40"/>
                  </a:lnTo>
                  <a:lnTo>
                    <a:pt x="202" y="13"/>
                  </a:lnTo>
                  <a:lnTo>
                    <a:pt x="196" y="30"/>
                  </a:lnTo>
                  <a:lnTo>
                    <a:pt x="185" y="17"/>
                  </a:lnTo>
                  <a:lnTo>
                    <a:pt x="162" y="13"/>
                  </a:lnTo>
                  <a:lnTo>
                    <a:pt x="147" y="2"/>
                  </a:lnTo>
                  <a:lnTo>
                    <a:pt x="128" y="2"/>
                  </a:lnTo>
                  <a:lnTo>
                    <a:pt x="103" y="0"/>
                  </a:lnTo>
                  <a:lnTo>
                    <a:pt x="56" y="15"/>
                  </a:lnTo>
                  <a:lnTo>
                    <a:pt x="27" y="23"/>
                  </a:lnTo>
                  <a:lnTo>
                    <a:pt x="18" y="38"/>
                  </a:lnTo>
                  <a:lnTo>
                    <a:pt x="0" y="49"/>
                  </a:lnTo>
                  <a:lnTo>
                    <a:pt x="10" y="63"/>
                  </a:lnTo>
                  <a:lnTo>
                    <a:pt x="40" y="59"/>
                  </a:lnTo>
                  <a:lnTo>
                    <a:pt x="65" y="59"/>
                  </a:lnTo>
                  <a:lnTo>
                    <a:pt x="80" y="55"/>
                  </a:lnTo>
                  <a:lnTo>
                    <a:pt x="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73"/>
            <p:cNvSpPr/>
            <p:nvPr/>
          </p:nvSpPr>
          <p:spPr>
            <a:xfrm>
              <a:off x="2021760" y="3988440"/>
              <a:ext cx="65880" cy="13320"/>
            </a:xfrm>
            <a:custGeom>
              <a:avLst/>
              <a:gdLst/>
              <a:ahLst/>
              <a:rect l="l" t="t" r="r" b="b"/>
              <a:pathLst>
                <a:path w="175" h="36">
                  <a:moveTo>
                    <a:pt x="175" y="0"/>
                  </a:moveTo>
                  <a:lnTo>
                    <a:pt x="145" y="0"/>
                  </a:lnTo>
                  <a:lnTo>
                    <a:pt x="111" y="21"/>
                  </a:lnTo>
                  <a:lnTo>
                    <a:pt x="78" y="28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9" y="32"/>
                  </a:lnTo>
                  <a:lnTo>
                    <a:pt x="56" y="36"/>
                  </a:lnTo>
                  <a:lnTo>
                    <a:pt x="92" y="36"/>
                  </a:lnTo>
                  <a:lnTo>
                    <a:pt x="145" y="27"/>
                  </a:lnTo>
                  <a:lnTo>
                    <a:pt x="162" y="17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4"/>
            <p:cNvSpPr/>
            <p:nvPr/>
          </p:nvSpPr>
          <p:spPr>
            <a:xfrm>
              <a:off x="2067480" y="4062240"/>
              <a:ext cx="24840" cy="115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0"/>
                  </a:moveTo>
                  <a:lnTo>
                    <a:pt x="31" y="7"/>
                  </a:lnTo>
                  <a:lnTo>
                    <a:pt x="67" y="32"/>
                  </a:lnTo>
                  <a:lnTo>
                    <a:pt x="44" y="30"/>
                  </a:lnTo>
                  <a:lnTo>
                    <a:pt x="21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5"/>
            <p:cNvSpPr/>
            <p:nvPr/>
          </p:nvSpPr>
          <p:spPr>
            <a:xfrm>
              <a:off x="2005200" y="3988440"/>
              <a:ext cx="14040" cy="140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8"/>
                  </a:moveTo>
                  <a:lnTo>
                    <a:pt x="11" y="21"/>
                  </a:lnTo>
                  <a:lnTo>
                    <a:pt x="0" y="38"/>
                  </a:lnTo>
                  <a:lnTo>
                    <a:pt x="5" y="19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6"/>
            <p:cNvSpPr/>
            <p:nvPr/>
          </p:nvSpPr>
          <p:spPr>
            <a:xfrm>
              <a:off x="2005920" y="3981960"/>
              <a:ext cx="10440" cy="64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2" y="7"/>
                  </a:moveTo>
                  <a:lnTo>
                    <a:pt x="0" y="17"/>
                  </a:lnTo>
                  <a:lnTo>
                    <a:pt x="13" y="0"/>
                  </a:lnTo>
                  <a:lnTo>
                    <a:pt x="28" y="2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7"/>
            <p:cNvSpPr/>
            <p:nvPr/>
          </p:nvSpPr>
          <p:spPr>
            <a:xfrm>
              <a:off x="2125800" y="3925440"/>
              <a:ext cx="163800" cy="138240"/>
            </a:xfrm>
            <a:custGeom>
              <a:avLst/>
              <a:gdLst/>
              <a:ahLst/>
              <a:rect l="l" t="t" r="r" b="b"/>
              <a:pathLst>
                <a:path w="431" h="370">
                  <a:moveTo>
                    <a:pt x="386" y="72"/>
                  </a:moveTo>
                  <a:lnTo>
                    <a:pt x="317" y="70"/>
                  </a:lnTo>
                  <a:lnTo>
                    <a:pt x="253" y="59"/>
                  </a:lnTo>
                  <a:lnTo>
                    <a:pt x="186" y="62"/>
                  </a:lnTo>
                  <a:lnTo>
                    <a:pt x="125" y="99"/>
                  </a:lnTo>
                  <a:lnTo>
                    <a:pt x="125" y="121"/>
                  </a:lnTo>
                  <a:lnTo>
                    <a:pt x="156" y="112"/>
                  </a:lnTo>
                  <a:lnTo>
                    <a:pt x="181" y="99"/>
                  </a:lnTo>
                  <a:lnTo>
                    <a:pt x="226" y="97"/>
                  </a:lnTo>
                  <a:lnTo>
                    <a:pt x="181" y="104"/>
                  </a:lnTo>
                  <a:lnTo>
                    <a:pt x="131" y="135"/>
                  </a:lnTo>
                  <a:lnTo>
                    <a:pt x="118" y="157"/>
                  </a:lnTo>
                  <a:lnTo>
                    <a:pt x="137" y="157"/>
                  </a:lnTo>
                  <a:lnTo>
                    <a:pt x="146" y="175"/>
                  </a:lnTo>
                  <a:lnTo>
                    <a:pt x="175" y="197"/>
                  </a:lnTo>
                  <a:lnTo>
                    <a:pt x="165" y="268"/>
                  </a:lnTo>
                  <a:lnTo>
                    <a:pt x="122" y="370"/>
                  </a:lnTo>
                  <a:lnTo>
                    <a:pt x="82" y="308"/>
                  </a:lnTo>
                  <a:lnTo>
                    <a:pt x="57" y="310"/>
                  </a:lnTo>
                  <a:lnTo>
                    <a:pt x="25" y="332"/>
                  </a:lnTo>
                  <a:lnTo>
                    <a:pt x="15" y="357"/>
                  </a:lnTo>
                  <a:lnTo>
                    <a:pt x="0" y="302"/>
                  </a:lnTo>
                  <a:lnTo>
                    <a:pt x="8" y="203"/>
                  </a:lnTo>
                  <a:lnTo>
                    <a:pt x="27" y="152"/>
                  </a:lnTo>
                  <a:lnTo>
                    <a:pt x="23" y="89"/>
                  </a:lnTo>
                  <a:lnTo>
                    <a:pt x="32" y="72"/>
                  </a:lnTo>
                  <a:lnTo>
                    <a:pt x="55" y="80"/>
                  </a:lnTo>
                  <a:lnTo>
                    <a:pt x="87" y="49"/>
                  </a:lnTo>
                  <a:lnTo>
                    <a:pt x="114" y="32"/>
                  </a:lnTo>
                  <a:lnTo>
                    <a:pt x="165" y="11"/>
                  </a:lnTo>
                  <a:lnTo>
                    <a:pt x="215" y="2"/>
                  </a:lnTo>
                  <a:lnTo>
                    <a:pt x="279" y="0"/>
                  </a:lnTo>
                  <a:lnTo>
                    <a:pt x="359" y="13"/>
                  </a:lnTo>
                  <a:lnTo>
                    <a:pt x="431" y="53"/>
                  </a:lnTo>
                  <a:lnTo>
                    <a:pt x="38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78"/>
            <p:cNvSpPr/>
            <p:nvPr/>
          </p:nvSpPr>
          <p:spPr>
            <a:xfrm>
              <a:off x="2170800" y="3947760"/>
              <a:ext cx="115200" cy="60840"/>
            </a:xfrm>
            <a:custGeom>
              <a:avLst/>
              <a:gdLst/>
              <a:ahLst/>
              <a:rect l="l" t="t" r="r" b="b"/>
              <a:pathLst>
                <a:path w="304" h="163">
                  <a:moveTo>
                    <a:pt x="0" y="100"/>
                  </a:moveTo>
                  <a:lnTo>
                    <a:pt x="21" y="79"/>
                  </a:lnTo>
                  <a:lnTo>
                    <a:pt x="53" y="70"/>
                  </a:lnTo>
                  <a:lnTo>
                    <a:pt x="82" y="55"/>
                  </a:lnTo>
                  <a:lnTo>
                    <a:pt x="131" y="51"/>
                  </a:lnTo>
                  <a:lnTo>
                    <a:pt x="177" y="51"/>
                  </a:lnTo>
                  <a:lnTo>
                    <a:pt x="194" y="38"/>
                  </a:lnTo>
                  <a:lnTo>
                    <a:pt x="196" y="0"/>
                  </a:lnTo>
                  <a:lnTo>
                    <a:pt x="296" y="0"/>
                  </a:lnTo>
                  <a:lnTo>
                    <a:pt x="304" y="70"/>
                  </a:lnTo>
                  <a:lnTo>
                    <a:pt x="256" y="163"/>
                  </a:lnTo>
                  <a:lnTo>
                    <a:pt x="205" y="144"/>
                  </a:lnTo>
                  <a:lnTo>
                    <a:pt x="148" y="154"/>
                  </a:lnTo>
                  <a:lnTo>
                    <a:pt x="85" y="138"/>
                  </a:lnTo>
                  <a:lnTo>
                    <a:pt x="144" y="137"/>
                  </a:lnTo>
                  <a:lnTo>
                    <a:pt x="186" y="119"/>
                  </a:lnTo>
                  <a:lnTo>
                    <a:pt x="175" y="110"/>
                  </a:lnTo>
                  <a:lnTo>
                    <a:pt x="140" y="108"/>
                  </a:lnTo>
                  <a:lnTo>
                    <a:pt x="118" y="97"/>
                  </a:lnTo>
                  <a:lnTo>
                    <a:pt x="137" y="95"/>
                  </a:lnTo>
                  <a:lnTo>
                    <a:pt x="137" y="79"/>
                  </a:lnTo>
                  <a:lnTo>
                    <a:pt x="127" y="72"/>
                  </a:lnTo>
                  <a:lnTo>
                    <a:pt x="127" y="60"/>
                  </a:lnTo>
                  <a:lnTo>
                    <a:pt x="101" y="64"/>
                  </a:lnTo>
                  <a:lnTo>
                    <a:pt x="70" y="72"/>
                  </a:lnTo>
                  <a:lnTo>
                    <a:pt x="55" y="78"/>
                  </a:lnTo>
                  <a:lnTo>
                    <a:pt x="59" y="87"/>
                  </a:lnTo>
                  <a:lnTo>
                    <a:pt x="83" y="93"/>
                  </a:lnTo>
                  <a:lnTo>
                    <a:pt x="102" y="98"/>
                  </a:lnTo>
                  <a:lnTo>
                    <a:pt x="82" y="104"/>
                  </a:lnTo>
                  <a:lnTo>
                    <a:pt x="47" y="95"/>
                  </a:lnTo>
                  <a:lnTo>
                    <a:pt x="4" y="11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9"/>
            <p:cNvSpPr/>
            <p:nvPr/>
          </p:nvSpPr>
          <p:spPr>
            <a:xfrm>
              <a:off x="2208600" y="3970080"/>
              <a:ext cx="6840" cy="133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9" y="0"/>
                  </a:moveTo>
                  <a:lnTo>
                    <a:pt x="9" y="19"/>
                  </a:lnTo>
                  <a:lnTo>
                    <a:pt x="19" y="37"/>
                  </a:lnTo>
                  <a:lnTo>
                    <a:pt x="11" y="37"/>
                  </a:lnTo>
                  <a:lnTo>
                    <a:pt x="2" y="19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80"/>
            <p:cNvSpPr/>
            <p:nvPr/>
          </p:nvSpPr>
          <p:spPr>
            <a:xfrm>
              <a:off x="2055240" y="4113720"/>
              <a:ext cx="46080" cy="38520"/>
            </a:xfrm>
            <a:custGeom>
              <a:avLst/>
              <a:gdLst/>
              <a:ahLst/>
              <a:rect l="l" t="t" r="r" b="b"/>
              <a:pathLst>
                <a:path w="121" h="105">
                  <a:moveTo>
                    <a:pt x="0" y="12"/>
                  </a:moveTo>
                  <a:lnTo>
                    <a:pt x="26" y="31"/>
                  </a:lnTo>
                  <a:lnTo>
                    <a:pt x="64" y="74"/>
                  </a:lnTo>
                  <a:lnTo>
                    <a:pt x="121" y="105"/>
                  </a:lnTo>
                  <a:lnTo>
                    <a:pt x="106" y="80"/>
                  </a:lnTo>
                  <a:lnTo>
                    <a:pt x="91" y="67"/>
                  </a:lnTo>
                  <a:lnTo>
                    <a:pt x="74" y="63"/>
                  </a:lnTo>
                  <a:lnTo>
                    <a:pt x="61" y="16"/>
                  </a:lnTo>
                  <a:lnTo>
                    <a:pt x="28" y="12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81"/>
            <p:cNvSpPr/>
            <p:nvPr/>
          </p:nvSpPr>
          <p:spPr>
            <a:xfrm>
              <a:off x="2117520" y="4137480"/>
              <a:ext cx="62280" cy="237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57"/>
                  </a:moveTo>
                  <a:lnTo>
                    <a:pt x="44" y="57"/>
                  </a:lnTo>
                  <a:lnTo>
                    <a:pt x="76" y="36"/>
                  </a:lnTo>
                  <a:lnTo>
                    <a:pt x="53" y="34"/>
                  </a:lnTo>
                  <a:lnTo>
                    <a:pt x="82" y="27"/>
                  </a:lnTo>
                  <a:lnTo>
                    <a:pt x="90" y="10"/>
                  </a:lnTo>
                  <a:lnTo>
                    <a:pt x="91" y="23"/>
                  </a:lnTo>
                  <a:lnTo>
                    <a:pt x="112" y="23"/>
                  </a:lnTo>
                  <a:lnTo>
                    <a:pt x="137" y="0"/>
                  </a:lnTo>
                  <a:lnTo>
                    <a:pt x="164" y="6"/>
                  </a:lnTo>
                  <a:lnTo>
                    <a:pt x="126" y="32"/>
                  </a:lnTo>
                  <a:lnTo>
                    <a:pt x="74" y="57"/>
                  </a:lnTo>
                  <a:lnTo>
                    <a:pt x="36" y="6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82"/>
            <p:cNvSpPr/>
            <p:nvPr/>
          </p:nvSpPr>
          <p:spPr>
            <a:xfrm>
              <a:off x="2003760" y="4035600"/>
              <a:ext cx="65880" cy="124920"/>
            </a:xfrm>
            <a:custGeom>
              <a:avLst/>
              <a:gdLst/>
              <a:ahLst/>
              <a:rect l="l" t="t" r="r" b="b"/>
              <a:pathLst>
                <a:path w="175" h="337">
                  <a:moveTo>
                    <a:pt x="175" y="0"/>
                  </a:moveTo>
                  <a:lnTo>
                    <a:pt x="123" y="42"/>
                  </a:lnTo>
                  <a:lnTo>
                    <a:pt x="82" y="93"/>
                  </a:lnTo>
                  <a:lnTo>
                    <a:pt x="74" y="118"/>
                  </a:lnTo>
                  <a:lnTo>
                    <a:pt x="74" y="175"/>
                  </a:lnTo>
                  <a:lnTo>
                    <a:pt x="108" y="278"/>
                  </a:lnTo>
                  <a:lnTo>
                    <a:pt x="112" y="337"/>
                  </a:lnTo>
                  <a:lnTo>
                    <a:pt x="74" y="285"/>
                  </a:lnTo>
                  <a:lnTo>
                    <a:pt x="47" y="225"/>
                  </a:lnTo>
                  <a:lnTo>
                    <a:pt x="34" y="175"/>
                  </a:lnTo>
                  <a:lnTo>
                    <a:pt x="25" y="116"/>
                  </a:lnTo>
                  <a:lnTo>
                    <a:pt x="6" y="97"/>
                  </a:lnTo>
                  <a:lnTo>
                    <a:pt x="0" y="76"/>
                  </a:lnTo>
                  <a:lnTo>
                    <a:pt x="42" y="46"/>
                  </a:lnTo>
                  <a:lnTo>
                    <a:pt x="74" y="33"/>
                  </a:lnTo>
                  <a:lnTo>
                    <a:pt x="108" y="21"/>
                  </a:lnTo>
                  <a:lnTo>
                    <a:pt x="139" y="6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83"/>
            <p:cNvSpPr/>
            <p:nvPr/>
          </p:nvSpPr>
          <p:spPr>
            <a:xfrm>
              <a:off x="2049120" y="4106160"/>
              <a:ext cx="8280" cy="190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21" y="0"/>
                  </a:moveTo>
                  <a:lnTo>
                    <a:pt x="0" y="8"/>
                  </a:lnTo>
                  <a:lnTo>
                    <a:pt x="2" y="54"/>
                  </a:lnTo>
                  <a:lnTo>
                    <a:pt x="22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84"/>
            <p:cNvSpPr/>
            <p:nvPr/>
          </p:nvSpPr>
          <p:spPr>
            <a:xfrm>
              <a:off x="1998360" y="3657600"/>
              <a:ext cx="437040" cy="636840"/>
            </a:xfrm>
            <a:custGeom>
              <a:avLst/>
              <a:gdLst/>
              <a:ahLst/>
              <a:rect l="l" t="t" r="r" b="b"/>
              <a:pathLst>
                <a:path w="1151" h="1713">
                  <a:moveTo>
                    <a:pt x="414" y="371"/>
                  </a:moveTo>
                  <a:lnTo>
                    <a:pt x="556" y="352"/>
                  </a:lnTo>
                  <a:lnTo>
                    <a:pt x="670" y="371"/>
                  </a:lnTo>
                  <a:lnTo>
                    <a:pt x="680" y="491"/>
                  </a:lnTo>
                  <a:lnTo>
                    <a:pt x="606" y="601"/>
                  </a:lnTo>
                  <a:lnTo>
                    <a:pt x="707" y="668"/>
                  </a:lnTo>
                  <a:lnTo>
                    <a:pt x="707" y="763"/>
                  </a:lnTo>
                  <a:lnTo>
                    <a:pt x="699" y="968"/>
                  </a:lnTo>
                  <a:lnTo>
                    <a:pt x="756" y="1067"/>
                  </a:lnTo>
                  <a:lnTo>
                    <a:pt x="758" y="1223"/>
                  </a:lnTo>
                  <a:lnTo>
                    <a:pt x="684" y="1403"/>
                  </a:lnTo>
                  <a:lnTo>
                    <a:pt x="602" y="1451"/>
                  </a:lnTo>
                  <a:lnTo>
                    <a:pt x="467" y="1607"/>
                  </a:lnTo>
                  <a:lnTo>
                    <a:pt x="389" y="1631"/>
                  </a:lnTo>
                  <a:lnTo>
                    <a:pt x="315" y="1631"/>
                  </a:lnTo>
                  <a:lnTo>
                    <a:pt x="224" y="1589"/>
                  </a:lnTo>
                  <a:lnTo>
                    <a:pt x="300" y="1643"/>
                  </a:lnTo>
                  <a:lnTo>
                    <a:pt x="330" y="1648"/>
                  </a:lnTo>
                  <a:lnTo>
                    <a:pt x="372" y="1684"/>
                  </a:lnTo>
                  <a:lnTo>
                    <a:pt x="357" y="1652"/>
                  </a:lnTo>
                  <a:lnTo>
                    <a:pt x="435" y="1656"/>
                  </a:lnTo>
                  <a:lnTo>
                    <a:pt x="404" y="1713"/>
                  </a:lnTo>
                  <a:lnTo>
                    <a:pt x="522" y="1646"/>
                  </a:lnTo>
                  <a:lnTo>
                    <a:pt x="674" y="1595"/>
                  </a:lnTo>
                  <a:lnTo>
                    <a:pt x="792" y="1527"/>
                  </a:lnTo>
                  <a:lnTo>
                    <a:pt x="948" y="1384"/>
                  </a:lnTo>
                  <a:lnTo>
                    <a:pt x="1011" y="1300"/>
                  </a:lnTo>
                  <a:lnTo>
                    <a:pt x="1018" y="1255"/>
                  </a:lnTo>
                  <a:lnTo>
                    <a:pt x="1022" y="1036"/>
                  </a:lnTo>
                  <a:lnTo>
                    <a:pt x="1075" y="1004"/>
                  </a:lnTo>
                  <a:lnTo>
                    <a:pt x="1111" y="937"/>
                  </a:lnTo>
                  <a:lnTo>
                    <a:pt x="1132" y="856"/>
                  </a:lnTo>
                  <a:lnTo>
                    <a:pt x="1140" y="778"/>
                  </a:lnTo>
                  <a:lnTo>
                    <a:pt x="1127" y="728"/>
                  </a:lnTo>
                  <a:lnTo>
                    <a:pt x="1146" y="643"/>
                  </a:lnTo>
                  <a:lnTo>
                    <a:pt x="1151" y="506"/>
                  </a:lnTo>
                  <a:lnTo>
                    <a:pt x="1121" y="358"/>
                  </a:lnTo>
                  <a:lnTo>
                    <a:pt x="1062" y="223"/>
                  </a:lnTo>
                  <a:lnTo>
                    <a:pt x="938" y="109"/>
                  </a:lnTo>
                  <a:lnTo>
                    <a:pt x="794" y="31"/>
                  </a:lnTo>
                  <a:lnTo>
                    <a:pt x="644" y="0"/>
                  </a:lnTo>
                  <a:lnTo>
                    <a:pt x="524" y="4"/>
                  </a:lnTo>
                  <a:lnTo>
                    <a:pt x="414" y="27"/>
                  </a:lnTo>
                  <a:lnTo>
                    <a:pt x="285" y="86"/>
                  </a:lnTo>
                  <a:lnTo>
                    <a:pt x="165" y="179"/>
                  </a:lnTo>
                  <a:lnTo>
                    <a:pt x="87" y="278"/>
                  </a:lnTo>
                  <a:lnTo>
                    <a:pt x="41" y="371"/>
                  </a:lnTo>
                  <a:lnTo>
                    <a:pt x="19" y="481"/>
                  </a:lnTo>
                  <a:lnTo>
                    <a:pt x="0" y="614"/>
                  </a:lnTo>
                  <a:lnTo>
                    <a:pt x="15" y="719"/>
                  </a:lnTo>
                  <a:lnTo>
                    <a:pt x="41" y="586"/>
                  </a:lnTo>
                  <a:lnTo>
                    <a:pt x="62" y="443"/>
                  </a:lnTo>
                  <a:lnTo>
                    <a:pt x="89" y="363"/>
                  </a:lnTo>
                  <a:lnTo>
                    <a:pt x="114" y="341"/>
                  </a:lnTo>
                  <a:lnTo>
                    <a:pt x="138" y="352"/>
                  </a:lnTo>
                  <a:lnTo>
                    <a:pt x="182" y="341"/>
                  </a:lnTo>
                  <a:lnTo>
                    <a:pt x="237" y="337"/>
                  </a:lnTo>
                  <a:lnTo>
                    <a:pt x="302" y="352"/>
                  </a:lnTo>
                  <a:lnTo>
                    <a:pt x="380" y="377"/>
                  </a:lnTo>
                  <a:lnTo>
                    <a:pt x="414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85"/>
            <p:cNvSpPr/>
            <p:nvPr/>
          </p:nvSpPr>
          <p:spPr>
            <a:xfrm>
              <a:off x="1992960" y="3940200"/>
              <a:ext cx="78120" cy="288000"/>
            </a:xfrm>
            <a:custGeom>
              <a:avLst/>
              <a:gdLst/>
              <a:ahLst/>
              <a:rect l="l" t="t" r="r" b="b"/>
              <a:pathLst>
                <a:path w="208" h="773">
                  <a:moveTo>
                    <a:pt x="31" y="0"/>
                  </a:moveTo>
                  <a:lnTo>
                    <a:pt x="31" y="114"/>
                  </a:lnTo>
                  <a:lnTo>
                    <a:pt x="6" y="266"/>
                  </a:lnTo>
                  <a:lnTo>
                    <a:pt x="16" y="389"/>
                  </a:lnTo>
                  <a:lnTo>
                    <a:pt x="48" y="513"/>
                  </a:lnTo>
                  <a:lnTo>
                    <a:pt x="120" y="631"/>
                  </a:lnTo>
                  <a:lnTo>
                    <a:pt x="208" y="773"/>
                  </a:lnTo>
                  <a:lnTo>
                    <a:pt x="118" y="646"/>
                  </a:lnTo>
                  <a:lnTo>
                    <a:pt x="57" y="555"/>
                  </a:lnTo>
                  <a:lnTo>
                    <a:pt x="25" y="481"/>
                  </a:lnTo>
                  <a:lnTo>
                    <a:pt x="4" y="378"/>
                  </a:lnTo>
                  <a:lnTo>
                    <a:pt x="0" y="258"/>
                  </a:lnTo>
                  <a:lnTo>
                    <a:pt x="21" y="8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86"/>
            <p:cNvSpPr/>
            <p:nvPr/>
          </p:nvSpPr>
          <p:spPr>
            <a:xfrm>
              <a:off x="2095560" y="4084560"/>
              <a:ext cx="17280" cy="241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5" y="21"/>
                  </a:moveTo>
                  <a:lnTo>
                    <a:pt x="0" y="48"/>
                  </a:lnTo>
                  <a:lnTo>
                    <a:pt x="27" y="65"/>
                  </a:lnTo>
                  <a:lnTo>
                    <a:pt x="48" y="48"/>
                  </a:lnTo>
                  <a:lnTo>
                    <a:pt x="48" y="27"/>
                  </a:lnTo>
                  <a:lnTo>
                    <a:pt x="33" y="0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87"/>
            <p:cNvSpPr/>
            <p:nvPr/>
          </p:nvSpPr>
          <p:spPr>
            <a:xfrm>
              <a:off x="2084760" y="4020840"/>
              <a:ext cx="169200" cy="202320"/>
            </a:xfrm>
            <a:custGeom>
              <a:avLst/>
              <a:gdLst/>
              <a:ahLst/>
              <a:rect l="l" t="t" r="r" b="b"/>
              <a:pathLst>
                <a:path w="444" h="544">
                  <a:moveTo>
                    <a:pt x="45" y="156"/>
                  </a:moveTo>
                  <a:lnTo>
                    <a:pt x="81" y="154"/>
                  </a:lnTo>
                  <a:lnTo>
                    <a:pt x="133" y="124"/>
                  </a:lnTo>
                  <a:lnTo>
                    <a:pt x="159" y="118"/>
                  </a:lnTo>
                  <a:lnTo>
                    <a:pt x="194" y="120"/>
                  </a:lnTo>
                  <a:lnTo>
                    <a:pt x="205" y="107"/>
                  </a:lnTo>
                  <a:lnTo>
                    <a:pt x="211" y="59"/>
                  </a:lnTo>
                  <a:lnTo>
                    <a:pt x="273" y="0"/>
                  </a:lnTo>
                  <a:lnTo>
                    <a:pt x="290" y="48"/>
                  </a:lnTo>
                  <a:lnTo>
                    <a:pt x="403" y="132"/>
                  </a:lnTo>
                  <a:lnTo>
                    <a:pt x="444" y="202"/>
                  </a:lnTo>
                  <a:lnTo>
                    <a:pt x="404" y="312"/>
                  </a:lnTo>
                  <a:lnTo>
                    <a:pt x="340" y="438"/>
                  </a:lnTo>
                  <a:lnTo>
                    <a:pt x="279" y="479"/>
                  </a:lnTo>
                  <a:lnTo>
                    <a:pt x="254" y="544"/>
                  </a:lnTo>
                  <a:lnTo>
                    <a:pt x="232" y="508"/>
                  </a:lnTo>
                  <a:lnTo>
                    <a:pt x="171" y="502"/>
                  </a:lnTo>
                  <a:lnTo>
                    <a:pt x="93" y="502"/>
                  </a:lnTo>
                  <a:lnTo>
                    <a:pt x="24" y="466"/>
                  </a:lnTo>
                  <a:lnTo>
                    <a:pt x="0" y="428"/>
                  </a:lnTo>
                  <a:lnTo>
                    <a:pt x="60" y="459"/>
                  </a:lnTo>
                  <a:lnTo>
                    <a:pt x="148" y="459"/>
                  </a:lnTo>
                  <a:lnTo>
                    <a:pt x="178" y="440"/>
                  </a:lnTo>
                  <a:lnTo>
                    <a:pt x="249" y="371"/>
                  </a:lnTo>
                  <a:lnTo>
                    <a:pt x="287" y="344"/>
                  </a:lnTo>
                  <a:lnTo>
                    <a:pt x="311" y="335"/>
                  </a:lnTo>
                  <a:lnTo>
                    <a:pt x="344" y="337"/>
                  </a:lnTo>
                  <a:lnTo>
                    <a:pt x="359" y="308"/>
                  </a:lnTo>
                  <a:lnTo>
                    <a:pt x="332" y="305"/>
                  </a:lnTo>
                  <a:lnTo>
                    <a:pt x="306" y="308"/>
                  </a:lnTo>
                  <a:lnTo>
                    <a:pt x="249" y="320"/>
                  </a:lnTo>
                  <a:lnTo>
                    <a:pt x="260" y="305"/>
                  </a:lnTo>
                  <a:lnTo>
                    <a:pt x="260" y="276"/>
                  </a:lnTo>
                  <a:lnTo>
                    <a:pt x="220" y="280"/>
                  </a:lnTo>
                  <a:lnTo>
                    <a:pt x="116" y="287"/>
                  </a:lnTo>
                  <a:lnTo>
                    <a:pt x="64" y="280"/>
                  </a:lnTo>
                  <a:lnTo>
                    <a:pt x="0" y="268"/>
                  </a:lnTo>
                  <a:lnTo>
                    <a:pt x="66" y="272"/>
                  </a:lnTo>
                  <a:lnTo>
                    <a:pt x="100" y="267"/>
                  </a:lnTo>
                  <a:lnTo>
                    <a:pt x="135" y="255"/>
                  </a:lnTo>
                  <a:lnTo>
                    <a:pt x="197" y="249"/>
                  </a:lnTo>
                  <a:lnTo>
                    <a:pt x="171" y="213"/>
                  </a:lnTo>
                  <a:lnTo>
                    <a:pt x="157" y="173"/>
                  </a:lnTo>
                  <a:lnTo>
                    <a:pt x="116" y="173"/>
                  </a:lnTo>
                  <a:lnTo>
                    <a:pt x="78" y="168"/>
                  </a:lnTo>
                  <a:lnTo>
                    <a:pt x="45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8"/>
            <p:cNvSpPr/>
            <p:nvPr/>
          </p:nvSpPr>
          <p:spPr>
            <a:xfrm>
              <a:off x="2121120" y="4037760"/>
              <a:ext cx="13680" cy="3996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19" y="0"/>
                  </a:moveTo>
                  <a:lnTo>
                    <a:pt x="19" y="65"/>
                  </a:lnTo>
                  <a:lnTo>
                    <a:pt x="0" y="106"/>
                  </a:lnTo>
                  <a:lnTo>
                    <a:pt x="26" y="99"/>
                  </a:lnTo>
                  <a:lnTo>
                    <a:pt x="36" y="61"/>
                  </a:lnTo>
                  <a:lnTo>
                    <a:pt x="36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AutoShape 92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ing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0"/>
          <p:cNvSpPr/>
          <p:nvPr/>
        </p:nvSpPr>
        <p:spPr>
          <a:xfrm>
            <a:off x="4876920" y="22096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31, 20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6324480" y="1905120"/>
            <a:ext cx="2362320" cy="2361960"/>
          </a:xfrm>
          <a:prstGeom prst="rect">
            <a:avLst/>
          </a:prstGeom>
          <a:solidFill>
            <a:srgbClr val="3668c4"/>
          </a:solidFill>
          <a:ln w="9360">
            <a:solidFill>
              <a:srgbClr val="86211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f5d5"/>
                </a:solidFill>
                <a:latin typeface="Arial"/>
              </a:rPr>
              <a:t>Usually once a month, the bank sends each depositor a bank statement showing the activity in their acc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6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5" descr=""/>
          <p:cNvPicPr/>
          <p:nvPr/>
        </p:nvPicPr>
        <p:blipFill>
          <a:blip r:embed="rId1"/>
          <a:stretch/>
        </p:blipFill>
        <p:spPr>
          <a:xfrm>
            <a:off x="457200" y="1763640"/>
            <a:ext cx="564840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800" name="Text Box 13"/>
          <p:cNvSpPr/>
          <p:nvPr/>
        </p:nvSpPr>
        <p:spPr>
          <a:xfrm>
            <a:off x="5029200" y="2209680"/>
            <a:ext cx="99072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2"/>
          <p:cNvSpPr/>
          <p:nvPr/>
        </p:nvSpPr>
        <p:spPr>
          <a:xfrm>
            <a:off x="4952880" y="220968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31, 20x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4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380880" y="1066680"/>
            <a:ext cx="83822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ank reconciliation is prepared periodically to explain the difference between cash reported on the bank statement and the cash balance on a company’s boo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228600" y="30492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5720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806" name="Group 34"/>
          <p:cNvGrpSpPr/>
          <p:nvPr/>
        </p:nvGrpSpPr>
        <p:grpSpPr>
          <a:xfrm>
            <a:off x="2895480" y="5105520"/>
            <a:ext cx="5953320" cy="1523880"/>
            <a:chOff x="2895480" y="5105520"/>
            <a:chExt cx="5953320" cy="1523880"/>
          </a:xfrm>
        </p:grpSpPr>
        <p:sp>
          <p:nvSpPr>
            <p:cNvPr id="807" name="Text Box 9"/>
            <p:cNvSpPr/>
            <p:nvPr/>
          </p:nvSpPr>
          <p:spPr>
            <a:xfrm>
              <a:off x="3008160" y="6146640"/>
              <a:ext cx="583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     Purchased Suppl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2971800" y="5181480"/>
              <a:ext cx="5830920" cy="1379520"/>
            </a:xfrm>
            <a:prstGeom prst="rect">
              <a:avLst/>
            </a:prstGeom>
            <a:solidFill>
              <a:srgbClr val="c5ffc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1"/>
            <p:cNvSpPr/>
            <p:nvPr/>
          </p:nvSpPr>
          <p:spPr>
            <a:xfrm>
              <a:off x="7211880" y="5411880"/>
              <a:ext cx="0" cy="11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 flipH="1">
              <a:off x="3501720" y="5411880"/>
              <a:ext cx="3240" cy="11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7543800" y="5457960"/>
              <a:ext cx="941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Balan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4"/>
            <p:cNvSpPr/>
            <p:nvPr/>
          </p:nvSpPr>
          <p:spPr>
            <a:xfrm>
              <a:off x="7238880" y="5715000"/>
              <a:ext cx="811440" cy="271440"/>
            </a:xfrm>
            <a:prstGeom prst="rect">
              <a:avLst/>
            </a:prstGeom>
            <a:solidFill>
              <a:srgbClr val="c5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Debi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5"/>
            <p:cNvSpPr/>
            <p:nvPr/>
          </p:nvSpPr>
          <p:spPr>
            <a:xfrm>
              <a:off x="8153280" y="5562720"/>
              <a:ext cx="695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Credi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6"/>
            <p:cNvSpPr/>
            <p:nvPr/>
          </p:nvSpPr>
          <p:spPr>
            <a:xfrm>
              <a:off x="2895480" y="5688000"/>
              <a:ext cx="60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Dat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7"/>
            <p:cNvSpPr/>
            <p:nvPr/>
          </p:nvSpPr>
          <p:spPr>
            <a:xfrm>
              <a:off x="5638680" y="5688000"/>
              <a:ext cx="676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Debi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6477120" y="5688000"/>
              <a:ext cx="68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Credi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3733920" y="5719680"/>
              <a:ext cx="761760" cy="271440"/>
            </a:xfrm>
            <a:prstGeom prst="rect">
              <a:avLst/>
            </a:prstGeom>
            <a:solidFill>
              <a:srgbClr val="c5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Ite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0"/>
            <p:cNvSpPr/>
            <p:nvPr/>
          </p:nvSpPr>
          <p:spPr>
            <a:xfrm flipH="1">
              <a:off x="5105520" y="5410080"/>
              <a:ext cx="2880" cy="11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1"/>
            <p:cNvSpPr/>
            <p:nvPr/>
          </p:nvSpPr>
          <p:spPr>
            <a:xfrm>
              <a:off x="5029200" y="5562720"/>
              <a:ext cx="6094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Post Re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2"/>
            <p:cNvSpPr/>
            <p:nvPr/>
          </p:nvSpPr>
          <p:spPr>
            <a:xfrm>
              <a:off x="2971800" y="594360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3"/>
            <p:cNvSpPr/>
            <p:nvPr/>
          </p:nvSpPr>
          <p:spPr>
            <a:xfrm>
              <a:off x="2971800" y="617220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"/>
            <p:cNvSpPr/>
            <p:nvPr/>
          </p:nvSpPr>
          <p:spPr>
            <a:xfrm>
              <a:off x="5622840" y="5411880"/>
              <a:ext cx="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5"/>
            <p:cNvSpPr/>
            <p:nvPr/>
          </p:nvSpPr>
          <p:spPr>
            <a:xfrm>
              <a:off x="6364440" y="5411880"/>
              <a:ext cx="0" cy="11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6"/>
            <p:cNvSpPr/>
            <p:nvPr/>
          </p:nvSpPr>
          <p:spPr>
            <a:xfrm>
              <a:off x="8077320" y="5715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>
              <a:off x="2971800" y="633096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>
              <a:off x="2971800" y="656100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2895480" y="5943600"/>
              <a:ext cx="525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t 31   Balance                                                                               1,40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3130560" y="5105520"/>
              <a:ext cx="570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Account No.  10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>
              <a:off x="2971800" y="5181480"/>
              <a:ext cx="573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>
              <a:off x="7238880" y="571500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>
              <a:off x="2971800" y="5410080"/>
              <a:ext cx="583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Oval 8"/>
          <p:cNvSpPr/>
          <p:nvPr/>
        </p:nvSpPr>
        <p:spPr>
          <a:xfrm>
            <a:off x="3886200" y="2971800"/>
            <a:ext cx="990720" cy="228600"/>
          </a:xfrm>
          <a:prstGeom prst="ellipse">
            <a:avLst/>
          </a:prstGeom>
          <a:noFill/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9"/>
          <p:cNvSpPr/>
          <p:nvPr/>
        </p:nvSpPr>
        <p:spPr>
          <a:xfrm>
            <a:off x="7238880" y="5943600"/>
            <a:ext cx="914400" cy="304920"/>
          </a:xfrm>
          <a:prstGeom prst="ellipse">
            <a:avLst/>
          </a:prstGeom>
          <a:noFill/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8"/>
          <p:cNvSpPr/>
          <p:nvPr/>
        </p:nvSpPr>
        <p:spPr>
          <a:xfrm flipH="1" flipV="1">
            <a:off x="4723920" y="3200400"/>
            <a:ext cx="1143000" cy="3808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9"/>
          <p:cNvSpPr/>
          <p:nvPr/>
        </p:nvSpPr>
        <p:spPr>
          <a:xfrm>
            <a:off x="7086600" y="4114800"/>
            <a:ext cx="304920" cy="160020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5867280" y="3276720"/>
            <a:ext cx="2438640" cy="7617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Why are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balances differe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41"/>
          <p:cNvSpPr/>
          <p:nvPr/>
        </p:nvSpPr>
        <p:spPr>
          <a:xfrm>
            <a:off x="3962520" y="2171880"/>
            <a:ext cx="838080" cy="1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42"/>
          <p:cNvSpPr/>
          <p:nvPr/>
        </p:nvSpPr>
        <p:spPr>
          <a:xfrm>
            <a:off x="3886200" y="21337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ctober 31, 20x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damental System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295280" y="1828800"/>
            <a:ext cx="6626520" cy="4546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 of Internal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295280" y="2895480"/>
            <a:ext cx="662940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447920" y="3581280"/>
            <a:ext cx="64008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.  assets are safeguarded and used for busines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  business information is accur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  employees comply with laws and regul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4.  procedures promote operational efficien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371600" y="3048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vide reasonable assurance th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"/>
          <p:cNvSpPr/>
          <p:nvPr/>
        </p:nvSpPr>
        <p:spPr>
          <a:xfrm>
            <a:off x="990720" y="1905120"/>
            <a:ext cx="7467480" cy="901440"/>
          </a:xfrm>
          <a:prstGeom prst="roundRect">
            <a:avLst>
              <a:gd name="adj" fmla="val 12495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sons for Differences Between Depositor’s Records and the Bank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1981080" y="3429000"/>
            <a:ext cx="5308560" cy="23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tanding che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osits in trans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char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-sufficient-funds (NSF) che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7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6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448400" cy="24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Two sections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ncil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ok balanc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the adjusted book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ncil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ank stateme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alance to the adjusted bank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adjusted balances should be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bs01087_"/>
          <p:cNvPicPr/>
          <p:nvPr/>
        </p:nvPicPr>
        <p:blipFill>
          <a:blip r:embed="rId1"/>
          <a:stretch/>
        </p:blipFill>
        <p:spPr>
          <a:xfrm>
            <a:off x="3657600" y="5313240"/>
            <a:ext cx="2133720" cy="1087560"/>
          </a:xfrm>
          <a:prstGeom prst="rect">
            <a:avLst/>
          </a:prstGeom>
          <a:ln w="0">
            <a:noFill/>
          </a:ln>
        </p:spPr>
      </p:pic>
      <p:sp>
        <p:nvSpPr>
          <p:cNvPr id="846" name="AutoShape 7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9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4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9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3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3657600" cy="274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Bank Stateme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posits in trans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duc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utstanding  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educt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: Bank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3776400" cy="403848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ok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llections made by the b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rest earned on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e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nsufficient funds checks (NS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e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ank service char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e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0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8" dur="500"/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3" dur="500"/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7" dur="5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500"/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500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2" dur="500"/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7" dur="500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2" dur="500"/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228600" y="152280"/>
            <a:ext cx="868680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s Matching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685800" y="2286000"/>
            <a:ext cx="7848720" cy="8380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entries on the bank statement and the company’s cash records are reconciled to account for any differe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609480" y="4519440"/>
            <a:ext cx="8153640" cy="94716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 each item is reconciled, the appropriate entries are checked off in the bank statement and the company record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y remaining unchecked items will be used to prepare the bank reconciliation report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16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17"/>
          <p:cNvSpPr/>
          <p:nvPr/>
        </p:nvSpPr>
        <p:spPr>
          <a:xfrm>
            <a:off x="228600" y="152280"/>
            <a:ext cx="868680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s Matching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6324480" y="1219320"/>
            <a:ext cx="2527560" cy="4572000"/>
          </a:xfrm>
          <a:prstGeom prst="rect">
            <a:avLst/>
          </a:prstGeom>
          <a:solidFill>
            <a:srgbClr val="9999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0ec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5734080" cy="5170320"/>
          </a:xfrm>
          <a:prstGeom prst="rect">
            <a:avLst/>
          </a:prstGeom>
          <a:ln w="0">
            <a:noFill/>
          </a:ln>
        </p:spPr>
      </p:pic>
      <p:sp>
        <p:nvSpPr>
          <p:cNvPr id="859" name="TextBox 61"/>
          <p:cNvSpPr/>
          <p:nvPr/>
        </p:nvSpPr>
        <p:spPr>
          <a:xfrm>
            <a:off x="6753240" y="1574640"/>
            <a:ext cx="16365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Recor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2"/>
          <p:cNvSpPr/>
          <p:nvPr/>
        </p:nvSpPr>
        <p:spPr>
          <a:xfrm>
            <a:off x="6519960" y="1981080"/>
            <a:ext cx="2009520" cy="111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           Cash Deb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t.  2           $   24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                10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                33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                14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63"/>
          <p:cNvSpPr/>
          <p:nvPr/>
        </p:nvSpPr>
        <p:spPr>
          <a:xfrm>
            <a:off x="6553080" y="2362320"/>
            <a:ext cx="190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4"/>
          <p:cNvSpPr/>
          <p:nvPr/>
        </p:nvSpPr>
        <p:spPr>
          <a:xfrm>
            <a:off x="6553080" y="3505320"/>
            <a:ext cx="1976400" cy="17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Paym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 No.      Cash Cred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1               $   37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2                      7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3                      2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4                    15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5                      1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6                    20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7                    18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65"/>
          <p:cNvSpPr/>
          <p:nvPr/>
        </p:nvSpPr>
        <p:spPr>
          <a:xfrm>
            <a:off x="6553080" y="3886200"/>
            <a:ext cx="1909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304920" y="1295280"/>
            <a:ext cx="5715000" cy="5105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9"/>
          <p:cNvSpPr/>
          <p:nvPr/>
        </p:nvSpPr>
        <p:spPr>
          <a:xfrm>
            <a:off x="6324480" y="1219320"/>
            <a:ext cx="25146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34" descr=""/>
          <p:cNvPicPr/>
          <p:nvPr/>
        </p:nvPicPr>
        <p:blipFill>
          <a:blip r:embed="rId2"/>
          <a:stretch/>
        </p:blipFill>
        <p:spPr>
          <a:xfrm>
            <a:off x="7924680" y="25146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35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36" descr=""/>
          <p:cNvPicPr/>
          <p:nvPr/>
        </p:nvPicPr>
        <p:blipFill>
          <a:blip r:embed="rId4"/>
          <a:stretch/>
        </p:blipFill>
        <p:spPr>
          <a:xfrm>
            <a:off x="7924680" y="23623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37" descr=""/>
          <p:cNvPicPr/>
          <p:nvPr/>
        </p:nvPicPr>
        <p:blipFill>
          <a:blip r:embed="rId5"/>
          <a:stretch/>
        </p:blipFill>
        <p:spPr>
          <a:xfrm>
            <a:off x="4572000" y="3809880"/>
            <a:ext cx="133200" cy="15264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38" descr=""/>
          <p:cNvPicPr/>
          <p:nvPr/>
        </p:nvPicPr>
        <p:blipFill>
          <a:blip r:embed="rId6"/>
          <a:stretch/>
        </p:blipFill>
        <p:spPr>
          <a:xfrm>
            <a:off x="8153280" y="38862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9" descr=""/>
          <p:cNvPicPr/>
          <p:nvPr/>
        </p:nvPicPr>
        <p:blipFill>
          <a:blip r:embed="rId7"/>
          <a:stretch/>
        </p:blipFill>
        <p:spPr>
          <a:xfrm>
            <a:off x="8153280" y="40384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40" descr=""/>
          <p:cNvPicPr/>
          <p:nvPr/>
        </p:nvPicPr>
        <p:blipFill>
          <a:blip r:embed="rId8"/>
          <a:stretch/>
        </p:blipFill>
        <p:spPr>
          <a:xfrm>
            <a:off x="8153280" y="42670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41" descr=""/>
          <p:cNvPicPr/>
          <p:nvPr/>
        </p:nvPicPr>
        <p:blipFill>
          <a:blip r:embed="rId9"/>
          <a:stretch/>
        </p:blipFill>
        <p:spPr>
          <a:xfrm>
            <a:off x="8153280" y="45720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2" descr=""/>
          <p:cNvPicPr/>
          <p:nvPr/>
        </p:nvPicPr>
        <p:blipFill>
          <a:blip r:embed="rId10"/>
          <a:stretch/>
        </p:blipFill>
        <p:spPr>
          <a:xfrm>
            <a:off x="2971800" y="35053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43" descr=""/>
          <p:cNvPicPr/>
          <p:nvPr/>
        </p:nvPicPr>
        <p:blipFill>
          <a:blip r:embed="rId11"/>
          <a:stretch/>
        </p:blipFill>
        <p:spPr>
          <a:xfrm>
            <a:off x="2971800" y="3809880"/>
            <a:ext cx="133200" cy="15264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4" descr=""/>
          <p:cNvPicPr/>
          <p:nvPr/>
        </p:nvPicPr>
        <p:blipFill>
          <a:blip r:embed="rId12"/>
          <a:stretch/>
        </p:blipFill>
        <p:spPr>
          <a:xfrm>
            <a:off x="2895480" y="41911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45" descr=""/>
          <p:cNvPicPr/>
          <p:nvPr/>
        </p:nvPicPr>
        <p:blipFill>
          <a:blip r:embed="rId13"/>
          <a:stretch/>
        </p:blipFill>
        <p:spPr>
          <a:xfrm>
            <a:off x="3048120" y="39625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6" descr=""/>
          <p:cNvPicPr/>
          <p:nvPr/>
        </p:nvPicPr>
        <p:blipFill>
          <a:blip r:embed="rId14"/>
          <a:stretch/>
        </p:blipFill>
        <p:spPr>
          <a:xfrm>
            <a:off x="2895480" y="46483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47" descr=""/>
          <p:cNvPicPr/>
          <p:nvPr/>
        </p:nvPicPr>
        <p:blipFill>
          <a:blip r:embed="rId15"/>
          <a:stretch/>
        </p:blipFill>
        <p:spPr>
          <a:xfrm>
            <a:off x="8153280" y="48769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48" descr=""/>
          <p:cNvPicPr/>
          <p:nvPr/>
        </p:nvPicPr>
        <p:blipFill>
          <a:blip r:embed="rId16"/>
          <a:stretch/>
        </p:blipFill>
        <p:spPr>
          <a:xfrm>
            <a:off x="7924680" y="26668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49" descr=""/>
          <p:cNvPicPr/>
          <p:nvPr/>
        </p:nvPicPr>
        <p:blipFill>
          <a:blip r:embed="rId17"/>
          <a:stretch/>
        </p:blipFill>
        <p:spPr>
          <a:xfrm>
            <a:off x="4800600" y="3657600"/>
            <a:ext cx="133200" cy="1522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51"/>
          <p:cNvSpPr/>
          <p:nvPr/>
        </p:nvSpPr>
        <p:spPr>
          <a:xfrm>
            <a:off x="4876920" y="1905120"/>
            <a:ext cx="91440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52"/>
          <p:cNvSpPr/>
          <p:nvPr/>
        </p:nvSpPr>
        <p:spPr>
          <a:xfrm>
            <a:off x="4724280" y="18288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31, 20x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53"/>
          <p:cNvSpPr/>
          <p:nvPr/>
        </p:nvSpPr>
        <p:spPr>
          <a:xfrm>
            <a:off x="4800600" y="1981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228600" y="152280"/>
            <a:ext cx="868680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s Matching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6307200" y="1251000"/>
            <a:ext cx="2527200" cy="4572000"/>
          </a:xfrm>
          <a:prstGeom prst="rect">
            <a:avLst/>
          </a:prstGeom>
          <a:solidFill>
            <a:srgbClr val="9999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0ec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5734080" cy="5170320"/>
          </a:xfrm>
          <a:prstGeom prst="rect">
            <a:avLst/>
          </a:prstGeom>
          <a:ln w="0">
            <a:noFill/>
          </a:ln>
        </p:spPr>
      </p:pic>
      <p:sp>
        <p:nvSpPr>
          <p:cNvPr id="889" name="TextBox 61"/>
          <p:cNvSpPr/>
          <p:nvPr/>
        </p:nvSpPr>
        <p:spPr>
          <a:xfrm>
            <a:off x="6753240" y="1574640"/>
            <a:ext cx="16365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Recor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62"/>
          <p:cNvSpPr/>
          <p:nvPr/>
        </p:nvSpPr>
        <p:spPr>
          <a:xfrm>
            <a:off x="6519960" y="1981080"/>
            <a:ext cx="2009520" cy="111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           Cash Deb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t.  2           $   24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                10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                33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                14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63"/>
          <p:cNvSpPr/>
          <p:nvPr/>
        </p:nvSpPr>
        <p:spPr>
          <a:xfrm>
            <a:off x="6553080" y="2362320"/>
            <a:ext cx="190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4"/>
          <p:cNvSpPr/>
          <p:nvPr/>
        </p:nvSpPr>
        <p:spPr>
          <a:xfrm>
            <a:off x="6553080" y="3505320"/>
            <a:ext cx="1976400" cy="17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Paym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 No.      Cash Cred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1               $   37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2                      7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3                      2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4                    15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5                      1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6                    20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7                    18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65"/>
          <p:cNvSpPr/>
          <p:nvPr/>
        </p:nvSpPr>
        <p:spPr>
          <a:xfrm>
            <a:off x="6553080" y="3886200"/>
            <a:ext cx="1909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3"/>
          <p:cNvSpPr/>
          <p:nvPr/>
        </p:nvSpPr>
        <p:spPr>
          <a:xfrm>
            <a:off x="304920" y="1295280"/>
            <a:ext cx="5715000" cy="5105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4"/>
          <p:cNvSpPr/>
          <p:nvPr/>
        </p:nvSpPr>
        <p:spPr>
          <a:xfrm>
            <a:off x="6324480" y="1219320"/>
            <a:ext cx="25146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5" descr=""/>
          <p:cNvPicPr/>
          <p:nvPr/>
        </p:nvPicPr>
        <p:blipFill>
          <a:blip r:embed="rId2"/>
          <a:stretch/>
        </p:blipFill>
        <p:spPr>
          <a:xfrm>
            <a:off x="7924680" y="25146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6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7" descr=""/>
          <p:cNvPicPr/>
          <p:nvPr/>
        </p:nvPicPr>
        <p:blipFill>
          <a:blip r:embed="rId4"/>
          <a:stretch/>
        </p:blipFill>
        <p:spPr>
          <a:xfrm>
            <a:off x="7924680" y="23623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8" descr=""/>
          <p:cNvPicPr/>
          <p:nvPr/>
        </p:nvPicPr>
        <p:blipFill>
          <a:blip r:embed="rId5"/>
          <a:stretch/>
        </p:blipFill>
        <p:spPr>
          <a:xfrm>
            <a:off x="4572000" y="3809880"/>
            <a:ext cx="133200" cy="15264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9" descr=""/>
          <p:cNvPicPr/>
          <p:nvPr/>
        </p:nvPicPr>
        <p:blipFill>
          <a:blip r:embed="rId6"/>
          <a:stretch/>
        </p:blipFill>
        <p:spPr>
          <a:xfrm>
            <a:off x="8153280" y="38862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0" descr=""/>
          <p:cNvPicPr/>
          <p:nvPr/>
        </p:nvPicPr>
        <p:blipFill>
          <a:blip r:embed="rId7"/>
          <a:stretch/>
        </p:blipFill>
        <p:spPr>
          <a:xfrm>
            <a:off x="8153280" y="40384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1" descr=""/>
          <p:cNvPicPr/>
          <p:nvPr/>
        </p:nvPicPr>
        <p:blipFill>
          <a:blip r:embed="rId8"/>
          <a:stretch/>
        </p:blipFill>
        <p:spPr>
          <a:xfrm>
            <a:off x="8153280" y="42670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22" descr=""/>
          <p:cNvPicPr/>
          <p:nvPr/>
        </p:nvPicPr>
        <p:blipFill>
          <a:blip r:embed="rId9"/>
          <a:stretch/>
        </p:blipFill>
        <p:spPr>
          <a:xfrm>
            <a:off x="8153280" y="45720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23" descr=""/>
          <p:cNvPicPr/>
          <p:nvPr/>
        </p:nvPicPr>
        <p:blipFill>
          <a:blip r:embed="rId10"/>
          <a:stretch/>
        </p:blipFill>
        <p:spPr>
          <a:xfrm>
            <a:off x="2971800" y="35053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24" descr=""/>
          <p:cNvPicPr/>
          <p:nvPr/>
        </p:nvPicPr>
        <p:blipFill>
          <a:blip r:embed="rId11"/>
          <a:stretch/>
        </p:blipFill>
        <p:spPr>
          <a:xfrm>
            <a:off x="2971800" y="3809880"/>
            <a:ext cx="133200" cy="152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5" descr=""/>
          <p:cNvPicPr/>
          <p:nvPr/>
        </p:nvPicPr>
        <p:blipFill>
          <a:blip r:embed="rId12"/>
          <a:stretch/>
        </p:blipFill>
        <p:spPr>
          <a:xfrm>
            <a:off x="2895480" y="41911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26" descr=""/>
          <p:cNvPicPr/>
          <p:nvPr/>
        </p:nvPicPr>
        <p:blipFill>
          <a:blip r:embed="rId13"/>
          <a:stretch/>
        </p:blipFill>
        <p:spPr>
          <a:xfrm>
            <a:off x="3048120" y="39625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27" descr=""/>
          <p:cNvPicPr/>
          <p:nvPr/>
        </p:nvPicPr>
        <p:blipFill>
          <a:blip r:embed="rId14"/>
          <a:stretch/>
        </p:blipFill>
        <p:spPr>
          <a:xfrm>
            <a:off x="2895480" y="46483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28" descr=""/>
          <p:cNvPicPr/>
          <p:nvPr/>
        </p:nvPicPr>
        <p:blipFill>
          <a:blip r:embed="rId15"/>
          <a:stretch/>
        </p:blipFill>
        <p:spPr>
          <a:xfrm>
            <a:off x="8153280" y="48769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29" descr=""/>
          <p:cNvPicPr/>
          <p:nvPr/>
        </p:nvPicPr>
        <p:blipFill>
          <a:blip r:embed="rId16"/>
          <a:stretch/>
        </p:blipFill>
        <p:spPr>
          <a:xfrm>
            <a:off x="7924680" y="26668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30" descr=""/>
          <p:cNvPicPr/>
          <p:nvPr/>
        </p:nvPicPr>
        <p:blipFill>
          <a:blip r:embed="rId17"/>
          <a:stretch/>
        </p:blipFill>
        <p:spPr>
          <a:xfrm>
            <a:off x="4800600" y="3657600"/>
            <a:ext cx="133200" cy="15228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31"/>
          <p:cNvSpPr/>
          <p:nvPr/>
        </p:nvSpPr>
        <p:spPr>
          <a:xfrm>
            <a:off x="3429000" y="4038480"/>
            <a:ext cx="1371600" cy="30492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2"/>
          <p:cNvSpPr/>
          <p:nvPr/>
        </p:nvSpPr>
        <p:spPr>
          <a:xfrm>
            <a:off x="1523880" y="3733920"/>
            <a:ext cx="1600200" cy="15228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33"/>
          <p:cNvSpPr/>
          <p:nvPr/>
        </p:nvSpPr>
        <p:spPr>
          <a:xfrm>
            <a:off x="1523880" y="4343400"/>
            <a:ext cx="1600200" cy="30492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34"/>
          <p:cNvSpPr/>
          <p:nvPr/>
        </p:nvSpPr>
        <p:spPr>
          <a:xfrm>
            <a:off x="6705720" y="2895480"/>
            <a:ext cx="1295280" cy="15264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5"/>
          <p:cNvSpPr/>
          <p:nvPr/>
        </p:nvSpPr>
        <p:spPr>
          <a:xfrm>
            <a:off x="6781680" y="4419720"/>
            <a:ext cx="1371600" cy="15228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6"/>
          <p:cNvSpPr/>
          <p:nvPr/>
        </p:nvSpPr>
        <p:spPr>
          <a:xfrm>
            <a:off x="6781680" y="4724280"/>
            <a:ext cx="1371600" cy="22860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8"/>
          <p:cNvSpPr/>
          <p:nvPr/>
        </p:nvSpPr>
        <p:spPr>
          <a:xfrm>
            <a:off x="4876920" y="1905120"/>
            <a:ext cx="91440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7"/>
          <p:cNvSpPr/>
          <p:nvPr/>
        </p:nvSpPr>
        <p:spPr>
          <a:xfrm>
            <a:off x="4724280" y="18288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31, 20x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39"/>
          <p:cNvSpPr/>
          <p:nvPr/>
        </p:nvSpPr>
        <p:spPr>
          <a:xfrm>
            <a:off x="4800600" y="1981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6"/>
          <p:cNvSpPr/>
          <p:nvPr/>
        </p:nvSpPr>
        <p:spPr>
          <a:xfrm>
            <a:off x="6221520" y="5897520"/>
            <a:ext cx="2571480" cy="52020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ems highlighted in red are used to prepare the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0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4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990720" y="1752480"/>
            <a:ext cx="7448400" cy="426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’s prepare a October 31 bank reconciliation statement for Videobuster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ctober 31 bank statement indicated a balance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$2,0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ny cash general ledger account on that date shows a balance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$1,4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7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8aa"/>
                </a:solidFill>
                <a:latin typeface="Arial"/>
              </a:rPr>
              <a:t>Additional information necessary for the reconciliation is shown on the next slide.</a:t>
            </a:r>
            <a:r>
              <a:rPr b="0" lang="en-US" sz="3200" spc="-1" strike="noStrike">
                <a:solidFill>
                  <a:srgbClr val="0028a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7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5"/>
          <p:cNvSpPr/>
          <p:nvPr/>
        </p:nvSpPr>
        <p:spPr>
          <a:xfrm>
            <a:off x="228600" y="685800"/>
            <a:ext cx="8686800" cy="56894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685800" y="2895480"/>
            <a:ext cx="777240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Deposit in transit, $145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Outstanding checks, No. 124 for $150 and No. 126 for $20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Bank collected a note from a customer, $500 (less a $15 fe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Interest revenue earned on bank balance, $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Check printing charge, $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 Returned NSF check, plus fee, $3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8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1219320" y="1600200"/>
            <a:ext cx="64008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information is identified by matching transactions on the bank statement and company book recor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5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0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5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0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5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0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4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5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32" name="Rectangle 7"/>
          <p:cNvSpPr/>
          <p:nvPr/>
        </p:nvSpPr>
        <p:spPr>
          <a:xfrm>
            <a:off x="3809880" y="2819520"/>
            <a:ext cx="685800" cy="22860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8"/>
          <p:cNvSpPr/>
          <p:nvPr/>
        </p:nvSpPr>
        <p:spPr>
          <a:xfrm>
            <a:off x="8001000" y="2819520"/>
            <a:ext cx="685800" cy="22860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533520" y="3124080"/>
            <a:ext cx="4038480" cy="2300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4648320" y="3124080"/>
            <a:ext cx="4038480" cy="2221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2"/>
          <p:cNvSpPr/>
          <p:nvPr/>
        </p:nvSpPr>
        <p:spPr>
          <a:xfrm>
            <a:off x="2983320" y="1371600"/>
            <a:ext cx="3556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ciliation Beginning Bala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0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8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990720" y="2895480"/>
            <a:ext cx="7467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$145 deposit had not reached the bank as of the statement d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0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00200" y="914400"/>
            <a:ext cx="624852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pic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/>
          <p:cNvSpPr/>
          <p:nvPr/>
        </p:nvSpPr>
        <p:spPr>
          <a:xfrm>
            <a:off x="1371600" y="3200400"/>
            <a:ext cx="66070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038480" y="5638680"/>
            <a:ext cx="129564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4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4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5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46" name="Text Box 9"/>
          <p:cNvSpPr/>
          <p:nvPr/>
        </p:nvSpPr>
        <p:spPr>
          <a:xfrm>
            <a:off x="533520" y="3809880"/>
            <a:ext cx="3962160" cy="16660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"/>
          <p:cNvSpPr/>
          <p:nvPr/>
        </p:nvSpPr>
        <p:spPr>
          <a:xfrm>
            <a:off x="4648320" y="3124080"/>
            <a:ext cx="4038480" cy="2221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1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3"/>
          <p:cNvSpPr/>
          <p:nvPr/>
        </p:nvSpPr>
        <p:spPr>
          <a:xfrm flipV="1">
            <a:off x="1371600" y="3504960"/>
            <a:ext cx="228600" cy="40644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4"/>
          <p:cNvSpPr/>
          <p:nvPr/>
        </p:nvSpPr>
        <p:spPr>
          <a:xfrm>
            <a:off x="3962520" y="3276720"/>
            <a:ext cx="533160" cy="30456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5"/>
          <p:cNvSpPr/>
          <p:nvPr/>
        </p:nvSpPr>
        <p:spPr>
          <a:xfrm>
            <a:off x="3200400" y="1371600"/>
            <a:ext cx="297180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osit in transit, $14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7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1828800" y="2209680"/>
            <a:ext cx="541008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standing checks had not cleared the bank as of the end of October, $350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Check No. 124…….$15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Check No. 126……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2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Total……………..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350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6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60" name="Text Box 8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9"/>
          <p:cNvSpPr/>
          <p:nvPr/>
        </p:nvSpPr>
        <p:spPr>
          <a:xfrm>
            <a:off x="4648320" y="3124080"/>
            <a:ext cx="4038480" cy="2221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11"/>
          <p:cNvSpPr/>
          <p:nvPr/>
        </p:nvSpPr>
        <p:spPr>
          <a:xfrm flipV="1">
            <a:off x="1219320" y="4723920"/>
            <a:ext cx="228600" cy="40644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2"/>
          <p:cNvSpPr/>
          <p:nvPr/>
        </p:nvSpPr>
        <p:spPr>
          <a:xfrm>
            <a:off x="3886200" y="4495680"/>
            <a:ext cx="762120" cy="30492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3212640" y="1219320"/>
            <a:ext cx="3004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standing checks for $35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7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0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4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1752480" y="2438280"/>
            <a:ext cx="6019920" cy="21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nk collected a note receivable from a custom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amount……….$5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Less: Fee…………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15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Net amount………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485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76" name="Text Box 7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8"/>
          <p:cNvSpPr/>
          <p:nvPr/>
        </p:nvSpPr>
        <p:spPr>
          <a:xfrm>
            <a:off x="4648320" y="3581280"/>
            <a:ext cx="4038480" cy="1944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10"/>
          <p:cNvSpPr/>
          <p:nvPr/>
        </p:nvSpPr>
        <p:spPr>
          <a:xfrm flipV="1">
            <a:off x="5410080" y="3580920"/>
            <a:ext cx="228600" cy="40644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1"/>
          <p:cNvSpPr/>
          <p:nvPr/>
        </p:nvSpPr>
        <p:spPr>
          <a:xfrm>
            <a:off x="7543800" y="3276720"/>
            <a:ext cx="533520" cy="30456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2"/>
          <p:cNvSpPr/>
          <p:nvPr/>
        </p:nvSpPr>
        <p:spPr>
          <a:xfrm>
            <a:off x="2377800" y="1219320"/>
            <a:ext cx="480456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collection from a company customer, $485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4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5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6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0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6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4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1905120" y="2895480"/>
            <a:ext cx="579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revenue earned on bank balance, $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92" name="Text Box 7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8"/>
          <p:cNvSpPr/>
          <p:nvPr/>
        </p:nvSpPr>
        <p:spPr>
          <a:xfrm>
            <a:off x="4648320" y="3809880"/>
            <a:ext cx="4038480" cy="16660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9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"/>
          <p:cNvSpPr/>
          <p:nvPr/>
        </p:nvSpPr>
        <p:spPr>
          <a:xfrm>
            <a:off x="2377440" y="1295280"/>
            <a:ext cx="487476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 earned on bank balance during April, $8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3"/>
          <p:cNvSpPr/>
          <p:nvPr/>
        </p:nvSpPr>
        <p:spPr>
          <a:xfrm flipV="1">
            <a:off x="5638680" y="3809520"/>
            <a:ext cx="152640" cy="30492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4"/>
          <p:cNvSpPr/>
          <p:nvPr/>
        </p:nvSpPr>
        <p:spPr>
          <a:xfrm>
            <a:off x="7620120" y="3581280"/>
            <a:ext cx="457200" cy="22860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6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1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4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6"/>
          <p:cNvSpPr/>
          <p:nvPr/>
        </p:nvSpPr>
        <p:spPr>
          <a:xfrm>
            <a:off x="2057400" y="2971800"/>
            <a:ext cx="5486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as a check printing charge for $2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08" name="Text Box 7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4648320" y="4572000"/>
            <a:ext cx="4038480" cy="832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9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1"/>
          <p:cNvSpPr/>
          <p:nvPr/>
        </p:nvSpPr>
        <p:spPr>
          <a:xfrm flipV="1">
            <a:off x="5410080" y="4572000"/>
            <a:ext cx="228600" cy="38088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2"/>
          <p:cNvSpPr/>
          <p:nvPr/>
        </p:nvSpPr>
        <p:spPr>
          <a:xfrm>
            <a:off x="7620120" y="4267080"/>
            <a:ext cx="457200" cy="30492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3"/>
          <p:cNvSpPr/>
          <p:nvPr/>
        </p:nvSpPr>
        <p:spPr>
          <a:xfrm>
            <a:off x="3124080" y="1219320"/>
            <a:ext cx="297180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printing charge, $2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4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5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6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7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0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8"/>
          <p:cNvSpPr/>
          <p:nvPr/>
        </p:nvSpPr>
        <p:spPr>
          <a:xfrm>
            <a:off x="1676520" y="2895480"/>
            <a:ext cx="617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nk returned a customer’s NSF check for $3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received as payment on account receiv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7200" y="2057400"/>
            <a:ext cx="8077320" cy="794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 effective system of internal control, that protects cash and cash equivalents, should meet three basic guideli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685800" y="3352680"/>
            <a:ext cx="350532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ing cash is separated from recordkeeping of cas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4876920" y="3352680"/>
            <a:ext cx="365760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ceipts are promptly deposited in a financial instit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2590920" y="5105520"/>
            <a:ext cx="441936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payments are made by check or 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8723" t="4763" r="18628" b="0"/>
          <a:stretch/>
        </p:blipFill>
        <p:spPr>
          <a:xfrm>
            <a:off x="7620120" y="5425920"/>
            <a:ext cx="11430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8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24" name="Text Box 10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4648320" y="4800600"/>
            <a:ext cx="403848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13"/>
          <p:cNvSpPr/>
          <p:nvPr/>
        </p:nvSpPr>
        <p:spPr>
          <a:xfrm flipV="1">
            <a:off x="5486400" y="4800600"/>
            <a:ext cx="228600" cy="38088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4"/>
          <p:cNvSpPr/>
          <p:nvPr/>
        </p:nvSpPr>
        <p:spPr>
          <a:xfrm>
            <a:off x="7620120" y="4495680"/>
            <a:ext cx="457200" cy="30492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6"/>
          <p:cNvSpPr/>
          <p:nvPr/>
        </p:nvSpPr>
        <p:spPr>
          <a:xfrm>
            <a:off x="3893400" y="1219320"/>
            <a:ext cx="166824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F check, $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80773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8534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39" name="Text Box 7"/>
          <p:cNvSpPr/>
          <p:nvPr/>
        </p:nvSpPr>
        <p:spPr>
          <a:xfrm>
            <a:off x="533520" y="5105520"/>
            <a:ext cx="3962160" cy="274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8"/>
          <p:cNvSpPr/>
          <p:nvPr/>
        </p:nvSpPr>
        <p:spPr>
          <a:xfrm>
            <a:off x="4648320" y="5105520"/>
            <a:ext cx="4038480" cy="274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9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2590920" y="1295280"/>
            <a:ext cx="480060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both sides of the Bank Reconcil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4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5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6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7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8"/>
          <p:cNvSpPr/>
          <p:nvPr/>
        </p:nvSpPr>
        <p:spPr>
          <a:xfrm>
            <a:off x="80773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9"/>
          <p:cNvSpPr/>
          <p:nvPr/>
        </p:nvSpPr>
        <p:spPr>
          <a:xfrm>
            <a:off x="8534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52" name="Rectangle 11"/>
          <p:cNvSpPr/>
          <p:nvPr/>
        </p:nvSpPr>
        <p:spPr>
          <a:xfrm>
            <a:off x="3200400" y="121932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 Bank Reconcil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80773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"/>
          <p:cNvSpPr/>
          <p:nvPr/>
        </p:nvSpPr>
        <p:spPr>
          <a:xfrm>
            <a:off x="8534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4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9"/>
          <p:cNvSpPr/>
          <p:nvPr/>
        </p:nvSpPr>
        <p:spPr>
          <a:xfrm>
            <a:off x="838080" y="2209680"/>
            <a:ext cx="7315200" cy="4413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1523880" y="3657600"/>
            <a:ext cx="601992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amounts shown on the </a:t>
            </a:r>
            <a:r>
              <a:rPr b="1" i="1" lang="en-US" sz="1800" spc="-1" strike="noStrike" u="sng">
                <a:solidFill>
                  <a:srgbClr val="2525ff"/>
                </a:solidFill>
                <a:uFillTx/>
                <a:latin typeface="Arial"/>
              </a:rPr>
              <a:t>book por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conciliation require an adjusting en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9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0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4"/>
          <p:cNvSpPr/>
          <p:nvPr/>
        </p:nvSpPr>
        <p:spPr>
          <a:xfrm>
            <a:off x="228600" y="38088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21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3"/>
          <p:cNvSpPr/>
          <p:nvPr/>
        </p:nvSpPr>
        <p:spPr>
          <a:xfrm>
            <a:off x="3200400" y="144792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ection of Notes Receiv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24"/>
          <p:cNvGrpSpPr/>
          <p:nvPr/>
        </p:nvGrpSpPr>
        <p:grpSpPr>
          <a:xfrm>
            <a:off x="838080" y="2438280"/>
            <a:ext cx="7620120" cy="2362320"/>
            <a:chOff x="838080" y="2438280"/>
            <a:chExt cx="7620120" cy="2362320"/>
          </a:xfrm>
        </p:grpSpPr>
        <p:graphicFrame>
          <p:nvGraphicFramePr>
            <p:cNvPr id="1067" name="Object 25"/>
            <p:cNvGraphicFramePr/>
            <p:nvPr/>
          </p:nvGraphicFramePr>
          <p:xfrm>
            <a:off x="914400" y="2438280"/>
            <a:ext cx="7543800" cy="2362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68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438280"/>
                      <a:ext cx="7543800" cy="2362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69" name="Text Box 26"/>
            <p:cNvSpPr/>
            <p:nvPr/>
          </p:nvSpPr>
          <p:spPr>
            <a:xfrm>
              <a:off x="838080" y="3048120"/>
              <a:ext cx="7620120" cy="12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. 31     Cash                                                              48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Collection Expense                                         1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Notes Receivabl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500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 record collection of note, less fee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0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4"/>
          <p:cNvSpPr/>
          <p:nvPr/>
        </p:nvSpPr>
        <p:spPr>
          <a:xfrm>
            <a:off x="228600" y="38088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838080" y="2819520"/>
            <a:ext cx="7619760" cy="2361960"/>
            <a:chOff x="838080" y="2819520"/>
            <a:chExt cx="7619760" cy="2361960"/>
          </a:xfrm>
        </p:grpSpPr>
        <p:graphicFrame>
          <p:nvGraphicFramePr>
            <p:cNvPr id="1073" name="Object 6"/>
            <p:cNvGraphicFramePr/>
            <p:nvPr/>
          </p:nvGraphicFramePr>
          <p:xfrm>
            <a:off x="838080" y="2819520"/>
            <a:ext cx="7619760" cy="2361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7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2819520"/>
                      <a:ext cx="7619760" cy="23619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75" name="Text Box 7"/>
            <p:cNvSpPr/>
            <p:nvPr/>
          </p:nvSpPr>
          <p:spPr>
            <a:xfrm>
              <a:off x="838080" y="3429000"/>
              <a:ext cx="754272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. 31     Cash                                                                8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Interest Revenue                                                               8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 record interest earned on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                checking account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9"/>
          <p:cNvSpPr/>
          <p:nvPr/>
        </p:nvSpPr>
        <p:spPr>
          <a:xfrm>
            <a:off x="3200400" y="144792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 Earn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4"/>
          <p:cNvSpPr/>
          <p:nvPr/>
        </p:nvSpPr>
        <p:spPr>
          <a:xfrm>
            <a:off x="228600" y="38088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6"/>
          <p:cNvGrpSpPr/>
          <p:nvPr/>
        </p:nvGrpSpPr>
        <p:grpSpPr>
          <a:xfrm>
            <a:off x="990720" y="2971800"/>
            <a:ext cx="7619400" cy="2362320"/>
            <a:chOff x="990720" y="2971800"/>
            <a:chExt cx="7619400" cy="2362320"/>
          </a:xfrm>
        </p:grpSpPr>
        <p:graphicFrame>
          <p:nvGraphicFramePr>
            <p:cNvPr id="1080" name="Object 7"/>
            <p:cNvGraphicFramePr/>
            <p:nvPr/>
          </p:nvGraphicFramePr>
          <p:xfrm>
            <a:off x="990720" y="2971800"/>
            <a:ext cx="7619400" cy="2362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971800"/>
                      <a:ext cx="7619400" cy="2362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82" name="Text Box 8"/>
            <p:cNvSpPr/>
            <p:nvPr/>
          </p:nvSpPr>
          <p:spPr>
            <a:xfrm>
              <a:off x="990720" y="3581640"/>
              <a:ext cx="7542360" cy="12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. 31     Miscellaneous Expenses                                   2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Cash                                                                                 23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 record check printing charge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9"/>
          <p:cNvSpPr/>
          <p:nvPr/>
        </p:nvSpPr>
        <p:spPr>
          <a:xfrm>
            <a:off x="3124080" y="160020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Printing Char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0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4"/>
          <p:cNvSpPr/>
          <p:nvPr/>
        </p:nvSpPr>
        <p:spPr>
          <a:xfrm>
            <a:off x="228600" y="38088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6"/>
          <p:cNvGrpSpPr/>
          <p:nvPr/>
        </p:nvGrpSpPr>
        <p:grpSpPr>
          <a:xfrm>
            <a:off x="990720" y="2971800"/>
            <a:ext cx="7619400" cy="2362320"/>
            <a:chOff x="990720" y="2971800"/>
            <a:chExt cx="7619400" cy="2362320"/>
          </a:xfrm>
        </p:grpSpPr>
        <p:graphicFrame>
          <p:nvGraphicFramePr>
            <p:cNvPr id="1087" name="Object 7"/>
            <p:cNvGraphicFramePr/>
            <p:nvPr/>
          </p:nvGraphicFramePr>
          <p:xfrm>
            <a:off x="990720" y="2971800"/>
            <a:ext cx="7619400" cy="2362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971800"/>
                      <a:ext cx="7619400" cy="2362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89" name="Text Box 8"/>
            <p:cNvSpPr/>
            <p:nvPr/>
          </p:nvSpPr>
          <p:spPr>
            <a:xfrm>
              <a:off x="990720" y="3581640"/>
              <a:ext cx="7542360" cy="12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. 31     Accounts Receivable – T. Woods                    3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Cash                                                                                 30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 account for $30 NSF check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9"/>
          <p:cNvSpPr/>
          <p:nvPr/>
        </p:nvSpPr>
        <p:spPr>
          <a:xfrm>
            <a:off x="3352680" y="160020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F Check Retu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0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4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34"/>
          <p:cNvSpPr/>
          <p:nvPr/>
        </p:nvSpPr>
        <p:spPr>
          <a:xfrm>
            <a:off x="1447920" y="1752480"/>
            <a:ext cx="6248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, all of the adjusting entries are posted to the appropriate general ledger acc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38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4"/>
          <p:cNvSpPr/>
          <p:nvPr/>
        </p:nvSpPr>
        <p:spPr>
          <a:xfrm>
            <a:off x="1104840" y="3200400"/>
            <a:ext cx="6934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djusted balance of the Cash Account has to agree with the adjusted total on the reconciliation repo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4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Group 6"/>
          <p:cNvGrpSpPr/>
          <p:nvPr/>
        </p:nvGrpSpPr>
        <p:grpSpPr>
          <a:xfrm>
            <a:off x="380880" y="2209680"/>
            <a:ext cx="8434440" cy="3504960"/>
            <a:chOff x="380880" y="2209680"/>
            <a:chExt cx="8434440" cy="3504960"/>
          </a:xfrm>
        </p:grpSpPr>
        <p:sp>
          <p:nvSpPr>
            <p:cNvPr id="1097" name="Text Box 7"/>
            <p:cNvSpPr/>
            <p:nvPr/>
          </p:nvSpPr>
          <p:spPr>
            <a:xfrm>
              <a:off x="380880" y="3657240"/>
              <a:ext cx="7010640" cy="115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v.  1    Sale of stock                              30,000                               30,00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   Purchased land                                              20,000          10,50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    Custom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es                           5,500                               16,00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    Paid expenses                                                  3,200          12,80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"/>
            <p:cNvSpPr/>
            <p:nvPr/>
          </p:nvSpPr>
          <p:spPr>
            <a:xfrm>
              <a:off x="433440" y="3809880"/>
              <a:ext cx="8381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. 1       Investment                           30,000                                 30,00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. 2       Purchased Suppl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9"/>
            <p:cNvSpPr/>
            <p:nvPr/>
          </p:nvSpPr>
          <p:spPr>
            <a:xfrm>
              <a:off x="380880" y="2209680"/>
              <a:ext cx="8382240" cy="3504960"/>
            </a:xfrm>
            <a:prstGeom prst="rect">
              <a:avLst/>
            </a:prstGeom>
            <a:solidFill>
              <a:srgbClr val="efece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0"/>
            <p:cNvSpPr/>
            <p:nvPr/>
          </p:nvSpPr>
          <p:spPr>
            <a:xfrm>
              <a:off x="6705720" y="259056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1"/>
            <p:cNvSpPr/>
            <p:nvPr/>
          </p:nvSpPr>
          <p:spPr>
            <a:xfrm flipH="1">
              <a:off x="1142640" y="2590560"/>
              <a:ext cx="468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2"/>
            <p:cNvSpPr/>
            <p:nvPr/>
          </p:nvSpPr>
          <p:spPr>
            <a:xfrm>
              <a:off x="7315200" y="2666880"/>
              <a:ext cx="990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Balanc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"/>
            <p:cNvSpPr/>
            <p:nvPr/>
          </p:nvSpPr>
          <p:spPr>
            <a:xfrm>
              <a:off x="6864480" y="3124080"/>
              <a:ext cx="838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Debi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4"/>
            <p:cNvSpPr/>
            <p:nvPr/>
          </p:nvSpPr>
          <p:spPr>
            <a:xfrm>
              <a:off x="7772400" y="3124080"/>
              <a:ext cx="907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redi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5"/>
            <p:cNvSpPr/>
            <p:nvPr/>
          </p:nvSpPr>
          <p:spPr>
            <a:xfrm>
              <a:off x="457200" y="3047760"/>
              <a:ext cx="609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D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6"/>
            <p:cNvSpPr/>
            <p:nvPr/>
          </p:nvSpPr>
          <p:spPr>
            <a:xfrm>
              <a:off x="4343400" y="3047760"/>
              <a:ext cx="838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Debi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7"/>
            <p:cNvSpPr/>
            <p:nvPr/>
          </p:nvSpPr>
          <p:spPr>
            <a:xfrm>
              <a:off x="5495760" y="3047760"/>
              <a:ext cx="908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redi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8"/>
            <p:cNvSpPr/>
            <p:nvPr/>
          </p:nvSpPr>
          <p:spPr>
            <a:xfrm>
              <a:off x="1739880" y="3101760"/>
              <a:ext cx="69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Ite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19"/>
            <p:cNvSpPr/>
            <p:nvPr/>
          </p:nvSpPr>
          <p:spPr>
            <a:xfrm flipH="1">
              <a:off x="3504960" y="2590560"/>
              <a:ext cx="468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20"/>
            <p:cNvSpPr/>
            <p:nvPr/>
          </p:nvSpPr>
          <p:spPr>
            <a:xfrm>
              <a:off x="3581280" y="2895480"/>
              <a:ext cx="684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Post Re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21"/>
            <p:cNvSpPr/>
            <p:nvPr/>
          </p:nvSpPr>
          <p:spPr>
            <a:xfrm>
              <a:off x="380880" y="342864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22"/>
            <p:cNvSpPr/>
            <p:nvPr/>
          </p:nvSpPr>
          <p:spPr>
            <a:xfrm>
              <a:off x="380880" y="380988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3"/>
            <p:cNvSpPr/>
            <p:nvPr/>
          </p:nvSpPr>
          <p:spPr>
            <a:xfrm>
              <a:off x="4191120" y="259056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4"/>
            <p:cNvSpPr/>
            <p:nvPr/>
          </p:nvSpPr>
          <p:spPr>
            <a:xfrm>
              <a:off x="5334120" y="25905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7696080" y="304776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26"/>
            <p:cNvSpPr/>
            <p:nvPr/>
          </p:nvSpPr>
          <p:spPr>
            <a:xfrm>
              <a:off x="380880" y="411444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27"/>
            <p:cNvSpPr/>
            <p:nvPr/>
          </p:nvSpPr>
          <p:spPr>
            <a:xfrm>
              <a:off x="380880" y="449568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28"/>
            <p:cNvSpPr/>
            <p:nvPr/>
          </p:nvSpPr>
          <p:spPr>
            <a:xfrm>
              <a:off x="380880" y="487656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29"/>
            <p:cNvSpPr/>
            <p:nvPr/>
          </p:nvSpPr>
          <p:spPr>
            <a:xfrm>
              <a:off x="380880" y="2209680"/>
              <a:ext cx="8382240" cy="398880"/>
            </a:xfrm>
            <a:prstGeom prst="rect">
              <a:avLst/>
            </a:prstGeom>
            <a:solidFill>
              <a:srgbClr val="c5bc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 No.  10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30"/>
            <p:cNvSpPr/>
            <p:nvPr/>
          </p:nvSpPr>
          <p:spPr>
            <a:xfrm>
              <a:off x="380880" y="2209680"/>
              <a:ext cx="824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31"/>
            <p:cNvSpPr/>
            <p:nvPr/>
          </p:nvSpPr>
          <p:spPr>
            <a:xfrm>
              <a:off x="6705720" y="30477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32"/>
            <p:cNvSpPr/>
            <p:nvPr/>
          </p:nvSpPr>
          <p:spPr>
            <a:xfrm>
              <a:off x="380880" y="259056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3"/>
            <p:cNvSpPr/>
            <p:nvPr/>
          </p:nvSpPr>
          <p:spPr>
            <a:xfrm>
              <a:off x="380880" y="533376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 Box 34"/>
          <p:cNvSpPr/>
          <p:nvPr/>
        </p:nvSpPr>
        <p:spPr>
          <a:xfrm>
            <a:off x="2819520" y="1371600"/>
            <a:ext cx="327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Led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35"/>
          <p:cNvSpPr/>
          <p:nvPr/>
        </p:nvSpPr>
        <p:spPr>
          <a:xfrm>
            <a:off x="380880" y="3505320"/>
            <a:ext cx="83822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 31  Bala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1,4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 Note Rec. collection                              485                               1,8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 Interest revenue                                         8                               1,89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 Check printing charge                                                 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1,87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 NSF check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3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1,84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5"/>
          <p:cNvSpPr/>
          <p:nvPr/>
        </p:nvSpPr>
        <p:spPr>
          <a:xfrm flipV="1">
            <a:off x="6095880" y="5333760"/>
            <a:ext cx="990720" cy="685800"/>
          </a:xfrm>
          <a:prstGeom prst="line">
            <a:avLst/>
          </a:prstGeom>
          <a:ln w="507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063240" y="5791320"/>
            <a:ext cx="3331440" cy="3322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justed balance on October 3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38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Cash Accou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1143000" y="2133720"/>
            <a:ext cx="7053120" cy="3417840"/>
          </a:xfrm>
          <a:prstGeom prst="roundRect">
            <a:avLst>
              <a:gd name="adj" fmla="val 98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295280" y="2286000"/>
            <a:ext cx="68788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companies ne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114ffb"/>
                </a:solidFill>
                <a:uFillTx/>
                <a:latin typeface="Arial"/>
              </a:rPr>
              <a:t>several cash accounts</a:t>
            </a:r>
            <a:r>
              <a:rPr b="1" lang="en-US" sz="22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account for different cash categories and fund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companies have multiple bank accounts. The title for each bank account should b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Cash in Bank</a:t>
            </a:r>
            <a:r>
              <a:rPr b="1" i="1" lang="en-US" sz="2200" spc="-1" strike="noStrike">
                <a:solidFill>
                  <a:srgbClr val="fc0128"/>
                </a:solidFill>
                <a:latin typeface="Arial"/>
                <a:ea typeface="Times New Roman"/>
              </a:rPr>
              <a:t>—</a:t>
            </a: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(Name of Bank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ange Fun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Retail leve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etty Cash Fu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12"/>
          <p:cNvSpPr/>
          <p:nvPr/>
        </p:nvSpPr>
        <p:spPr>
          <a:xfrm>
            <a:off x="304920" y="53352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ubtitle 2"/>
          <p:cNvSpPr/>
          <p:nvPr/>
        </p:nvSpPr>
        <p:spPr>
          <a:xfrm>
            <a:off x="4191120" y="25146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Chapter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Picture 1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295280" y="1143000"/>
            <a:ext cx="66088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1600200" y="3048120"/>
            <a:ext cx="5942160" cy="5094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of Cash Recei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962520" y="5562720"/>
            <a:ext cx="129528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4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the Counter Recei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533520" y="1676520"/>
            <a:ext cx="2208240" cy="4610160"/>
            <a:chOff x="533520" y="1676520"/>
            <a:chExt cx="2208240" cy="4610160"/>
          </a:xfrm>
        </p:grpSpPr>
        <p:sp>
          <p:nvSpPr>
            <p:cNvPr id="226" name="Rectangle 24"/>
            <p:cNvSpPr/>
            <p:nvPr/>
          </p:nvSpPr>
          <p:spPr>
            <a:xfrm>
              <a:off x="533520" y="1676520"/>
              <a:ext cx="2208240" cy="2133360"/>
            </a:xfrm>
            <a:prstGeom prst="rect">
              <a:avLst/>
            </a:prstGeom>
            <a:solidFill>
              <a:srgbClr val="87200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ash register with locked-in record of transactions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8" descr="j0233881"/>
            <p:cNvPicPr/>
            <p:nvPr/>
          </p:nvPicPr>
          <p:blipFill>
            <a:blip r:embed="rId1"/>
            <a:stretch/>
          </p:blipFill>
          <p:spPr>
            <a:xfrm>
              <a:off x="639720" y="4114800"/>
              <a:ext cx="1952640" cy="21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9"/>
          <p:cNvGrpSpPr/>
          <p:nvPr/>
        </p:nvGrpSpPr>
        <p:grpSpPr>
          <a:xfrm>
            <a:off x="3429000" y="1676520"/>
            <a:ext cx="2209680" cy="4162320"/>
            <a:chOff x="3429000" y="1676520"/>
            <a:chExt cx="2209680" cy="4162320"/>
          </a:xfrm>
        </p:grpSpPr>
        <p:sp>
          <p:nvSpPr>
            <p:cNvPr id="229" name="Rectangle 25"/>
            <p:cNvSpPr/>
            <p:nvPr/>
          </p:nvSpPr>
          <p:spPr>
            <a:xfrm>
              <a:off x="3429000" y="1676520"/>
              <a:ext cx="2209680" cy="2133360"/>
            </a:xfrm>
            <a:prstGeom prst="rect">
              <a:avLst/>
            </a:prstGeom>
            <a:solidFill>
              <a:srgbClr val="2d875a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upervisor/head cashier verifies register record with actual cash present.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11" descr="j0240723"/>
            <p:cNvPicPr/>
            <p:nvPr/>
          </p:nvPicPr>
          <p:blipFill>
            <a:blip r:embed="rId2"/>
            <a:stretch/>
          </p:blipFill>
          <p:spPr>
            <a:xfrm>
              <a:off x="3657600" y="4267080"/>
              <a:ext cx="18288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2"/>
          <p:cNvGrpSpPr/>
          <p:nvPr/>
        </p:nvGrpSpPr>
        <p:grpSpPr>
          <a:xfrm>
            <a:off x="6172200" y="1676520"/>
            <a:ext cx="2400120" cy="4230720"/>
            <a:chOff x="6172200" y="1676520"/>
            <a:chExt cx="2400120" cy="4230720"/>
          </a:xfrm>
        </p:grpSpPr>
        <p:sp>
          <p:nvSpPr>
            <p:cNvPr id="232" name="Rectangle 26"/>
            <p:cNvSpPr/>
            <p:nvPr/>
          </p:nvSpPr>
          <p:spPr>
            <a:xfrm>
              <a:off x="6172200" y="1676520"/>
              <a:ext cx="2400120" cy="2133360"/>
            </a:xfrm>
            <a:prstGeom prst="rect">
              <a:avLst/>
            </a:prstGeom>
            <a:solidFill>
              <a:srgbClr val="3668c4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ney is sent to the Treasurer who prepares the  bank deposit and Accounting records receipts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4" descr="j0292002"/>
            <p:cNvPicPr/>
            <p:nvPr/>
          </p:nvPicPr>
          <p:blipFill>
            <a:blip r:embed="rId3"/>
            <a:stretch/>
          </p:blipFill>
          <p:spPr>
            <a:xfrm>
              <a:off x="6461640" y="4414680"/>
              <a:ext cx="1737720" cy="149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19:53Z</dcterms:created>
  <dc:creator>Trial User</dc:creator>
  <dc:description/>
  <dc:language>en-US</dc:language>
  <cp:lastModifiedBy>Fred Blake</cp:lastModifiedBy>
  <dcterms:modified xsi:type="dcterms:W3CDTF">2024-08-14T00:50:39Z</dcterms:modified>
  <cp:revision>546</cp:revision>
  <dc:subject/>
  <dc:title>PowerPoint Presentation</dc:title>
</cp:coreProperties>
</file>