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wmf" ContentType="image/x-wmf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08813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-36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5240" y="704880"/>
            <a:ext cx="4699080" cy="35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64000"/>
            <a:ext cx="5607000" cy="42292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926200"/>
            <a:ext cx="3038400" cy="4698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9E180E-8AAF-428F-AF90-DD5D84831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0440" y="8926560"/>
            <a:ext cx="3038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B469C8-9F2F-4BC5-9BE9-05BC018B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685800" y="660240"/>
            <a:ext cx="5918040" cy="4438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AC1DC-F58D-4E82-B65E-B81170EF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4818-E333-4664-9066-DA3A0008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811C-0EA4-426E-B1DE-569A41865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E07E7-9451-4D10-B8F7-2A2FBCCA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C2BF-8C4F-4334-B332-3B4DAB7B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B5E5-E7C9-4B67-AB40-D5357CC8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C50A3-F8BE-4AE4-8E05-9E32B5CA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C7E2A-2B49-4FA6-8467-F855BB3D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AF1F-9CDC-4AF0-B15B-F5D00F0A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097A-9813-4F12-B21F-094C8E41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3B43-ABEC-48AB-B6CB-AB25B3CC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6C03-F571-4C7D-A1AA-F2BA4CFF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5E5-FE64-45E1-AA06-94D2AE35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F0CB-39EB-44BC-AABB-80AA400B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B3B3-9881-44C1-8BDD-8253F2FC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E26C-9FF1-4D0D-95FD-74272B59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5121-AF88-4B54-9E8F-63F8EF00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D508-25ED-4DFC-B463-E1E80D69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73CA-F012-47DC-983F-876296BD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C9FE-9A74-407F-84D5-A33434D0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50867-52A3-48EE-B692-05B4875A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AC3B-6A8E-42CE-BB9C-9FF6982E3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12B7A-976B-4C2F-BBBD-AEC965FEF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A3E5E-5420-4CE7-B0CA-093CC1D1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26D7-995D-49DB-802A-972756915C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30C-3657-4B10-8A62-BF490081C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acaccounting.net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9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914400" y="2362320"/>
            <a:ext cx="7162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066680" y="3200400"/>
            <a:ext cx="716292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 algn="ctr"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rse 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9"/>
          <p:cNvGraphicFramePr/>
          <p:nvPr/>
        </p:nvGraphicFramePr>
        <p:xfrm>
          <a:off x="3200400" y="4648320"/>
          <a:ext cx="3397320" cy="15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648320"/>
                    <a:ext cx="3397320" cy="1584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18" name="Rectangle 10"/>
          <p:cNvSpPr/>
          <p:nvPr/>
        </p:nvSpPr>
        <p:spPr>
          <a:xfrm>
            <a:off x="3808800" y="4724280"/>
            <a:ext cx="1581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43200" y="2057400"/>
            <a:ext cx="3809880" cy="4597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. L. Bl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80880" y="524160"/>
            <a:ext cx="8458200" cy="6933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Managerial Accounting ACCT 23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E77B53C9"/>
          <p:cNvPicPr/>
          <p:nvPr/>
        </p:nvPicPr>
        <p:blipFill>
          <a:blip r:embed="rId1"/>
          <a:stretch/>
        </p:blipFill>
        <p:spPr>
          <a:xfrm>
            <a:off x="914400" y="1322280"/>
            <a:ext cx="7086600" cy="5186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54" name="TextBox 1"/>
          <p:cNvSpPr/>
          <p:nvPr/>
        </p:nvSpPr>
        <p:spPr>
          <a:xfrm>
            <a:off x="2819520" y="85716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lance Column”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8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8597F1BF"/>
          <p:cNvPicPr/>
          <p:nvPr/>
        </p:nvPicPr>
        <p:blipFill>
          <a:blip r:embed="rId1"/>
          <a:stretch/>
        </p:blipFill>
        <p:spPr>
          <a:xfrm>
            <a:off x="1066680" y="1066680"/>
            <a:ext cx="6934320" cy="5284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mso2F031"/>
          <p:cNvPicPr/>
          <p:nvPr/>
        </p:nvPicPr>
        <p:blipFill>
          <a:blip r:embed="rId1"/>
          <a:stretch/>
        </p:blipFill>
        <p:spPr>
          <a:xfrm>
            <a:off x="838080" y="1523880"/>
            <a:ext cx="75438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D710A125"/>
          <p:cNvPicPr/>
          <p:nvPr/>
        </p:nvPicPr>
        <p:blipFill>
          <a:blip r:embed="rId1"/>
          <a:stretch/>
        </p:blipFill>
        <p:spPr>
          <a:xfrm>
            <a:off x="1676520" y="914400"/>
            <a:ext cx="601956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48A9ECE2"/>
          <p:cNvPicPr/>
          <p:nvPr/>
        </p:nvPicPr>
        <p:blipFill>
          <a:blip r:embed="rId1"/>
          <a:stretch/>
        </p:blipFill>
        <p:spPr>
          <a:xfrm>
            <a:off x="685800" y="990720"/>
            <a:ext cx="7848720" cy="5341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04920" y="609480"/>
            <a:ext cx="853416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447920" y="2590920"/>
            <a:ext cx="6400800" cy="533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End of Generic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04920" y="457200"/>
            <a:ext cx="853416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228600" y="609480"/>
            <a:ext cx="876312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838080" y="2438280"/>
            <a:ext cx="7620120" cy="223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mprehensive Probl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comprehensive problem is </a:t>
            </a:r>
            <a:r>
              <a:rPr b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option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 that can be completed manually for </a:t>
            </a:r>
            <a:r>
              <a:rPr b="1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extra credi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ra credit earned can be up to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%, added to your total course basic grad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ed on the quality of the work accomplished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ote:  If you elect to complete this assignment, submit the required documen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by email, for gr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28600" y="45720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762120" y="2133720"/>
            <a:ext cx="7772400" cy="2549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hapter Exam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Four chapter exams will be conducted, as scheduled, in the officia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course syllabus.  All exams will be administered on-line in the Canvas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An exam review will be provided the class session prior to each exam dat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Please advise in advance (when possible) if you will miss an exam, so tha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arrangements can be made for a make-up exam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9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685800" y="2362320"/>
            <a:ext cx="7772400" cy="288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inal Ex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The Final Exam is comprehensive, will consist of both objective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problem-type questions, and will be given at the end of the semester.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Like the chapter exams, the final exam will be conducted on-line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Arial"/>
              </a:rPr>
              <a:t>Everyone must take the final exa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A student, who must be absent from a Final Exam, should request permiss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to postpone the exam.  Postponed exams result in an initial incomplete grad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of “I”.  The postponed Final Exam must be taken within 120 calendar days fro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the end of the semester, or the “I” grade automatically becomes an “F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762120" y="1752480"/>
            <a:ext cx="7619760" cy="4467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.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ttendance/Particip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 Attendance and class participation are considered key to the successful completion of the course.  This portion of your final grade will b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the days you are present for a class session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Attendance will be recorded based on the recorded course sign-in record from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each on-line class attenda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Students are expected to participate in every class session.  A student who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has accumulated absences equivalent to three weeks of class, </a:t>
            </a:r>
            <a:r>
              <a:rPr b="1" lang="en-US" sz="1400" spc="-1" strike="noStrike" u="sng">
                <a:solidFill>
                  <a:srgbClr val="0c11dc"/>
                </a:solidFill>
                <a:uFillTx/>
                <a:latin typeface="Arial"/>
              </a:rPr>
              <a:t>m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e 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dropped from the clas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Students, who stop attending class for any reason, should contact m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to officially withdraw from the class.  It is your responsibility to initiate th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course dr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0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904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1676520"/>
            <a:ext cx="6248520" cy="18507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as follow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vas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1250"/>
              </a:spcBef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tructor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411120" y="426960"/>
            <a:ext cx="8466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467160" y="4160880"/>
            <a:ext cx="236232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"/>
          <p:cNvPicPr/>
          <p:nvPr/>
        </p:nvPicPr>
        <p:blipFill>
          <a:blip r:embed="rId1"/>
          <a:stretch/>
        </p:blipFill>
        <p:spPr>
          <a:xfrm>
            <a:off x="3809880" y="4191120"/>
            <a:ext cx="1752840" cy="1725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62120" y="2286000"/>
            <a:ext cx="7619760" cy="309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THER COMM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Since I am not on campus every day, you may call me (</a:t>
            </a:r>
            <a:r>
              <a:rPr b="1" lang="en-US" sz="1400" spc="-1" strike="noStrike" u="sng">
                <a:solidFill>
                  <a:srgbClr val="0c11dc"/>
                </a:solidFill>
                <a:uFillTx/>
                <a:latin typeface="Arial"/>
              </a:rPr>
              <a:t>up to 10 P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at home an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day of the week, if you need additional help with homework or any other cour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issue.  If I am not home, please leave a message and I will return your call a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soon as I c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A student that does not complete all required course work, by the end of th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semester, may be eligible for an Incomplete (I) grade.  If you receive an "I"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grade, you have an additional 120 days, after the end of the semester,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complete the missing work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2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228600" y="567720"/>
            <a:ext cx="8686800" cy="6129000"/>
          </a:xfrm>
          <a:prstGeom prst="rect">
            <a:avLst/>
          </a:prstGeom>
          <a:solidFill>
            <a:srgbClr val="bfbfb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6"/>
          <p:cNvSpPr/>
          <p:nvPr/>
        </p:nvSpPr>
        <p:spPr>
          <a:xfrm>
            <a:off x="228600" y="152280"/>
            <a:ext cx="86868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1371600" y="1000080"/>
            <a:ext cx="6400800" cy="529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SSIGNMENTS (Tentative Schedu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ssignment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ek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p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hap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k 1     Course Orientation............................................................. — ............             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  Managerial Accounting Concepts and Principles............... 14 ...........             14-3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   Job Order Costing and Analysis.......................................... 15.............            15-5A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    Process Costing and Analysis.............................................. 16.............            16-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    Activity-Based Costing and Analysis................................... 17.............             17-3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Review for Exam #1 (Chapters 14-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    Cost Behavior and Cost-Volume-Profit Analysis................ 18.............              18-6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 #1 (Chapters 14-1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      Variable Costing and Analysis............................................ 19............               19-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     Master Budgets and Performance Planning...................... 20............               20-1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for Exam #2 (Chapters 17-19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     Flexible Budgets and Standard Costs................................. 21............                21-4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 #2 (Chapters 17-1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"/>
          <p:cNvSpPr/>
          <p:nvPr/>
        </p:nvSpPr>
        <p:spPr>
          <a:xfrm>
            <a:off x="1981080" y="6324480"/>
            <a:ext cx="5181840" cy="276480"/>
          </a:xfrm>
          <a:prstGeom prst="rect">
            <a:avLst/>
          </a:prstGeom>
          <a:solidFill>
            <a:srgbClr val="5b5b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ek number is replaced by the specific date on the actual syllab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581280" y="1371600"/>
            <a:ext cx="2286000" cy="246240"/>
          </a:xfrm>
          <a:prstGeom prst="rect">
            <a:avLst/>
          </a:prstGeom>
          <a:solidFill>
            <a:srgbClr val="5b5b9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xample of the Syllabu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76320" y="465840"/>
            <a:ext cx="8686800" cy="61290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/>
          <p:cNvSpPr/>
          <p:nvPr/>
        </p:nvSpPr>
        <p:spPr>
          <a:xfrm>
            <a:off x="228600" y="304920"/>
            <a:ext cx="86868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"/>
          <p:cNvSpPr/>
          <p:nvPr/>
        </p:nvSpPr>
        <p:spPr>
          <a:xfrm>
            <a:off x="1066680" y="1676520"/>
            <a:ext cx="6553440" cy="429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Assignment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eek of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pic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Chapter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k 10   Performance Measurement &amp; Responsibility Acctg........... 22............        QS 22-12, QS 22-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  Relevant Costing for Management Decisions..................... 23............            23-1A, 23-3A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Review for Exam #3 (Chapters 20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   Capital Budgeting and Investment Analysis......................... 24............                  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 #3 (Chapters 20-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3   Capital Budgeting and Investment (Continued)................... 24............                 24-1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   Review for Exam #4 (Chapters 23-24)................................... ---.............                 ---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  Comprehensive Final Review................................................. ---.............                 ---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 #4 (Chapters 23-24)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  Final Exam (Chapters 14-24).................................................. ---.............                 ----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228600" y="542160"/>
            <a:ext cx="8686800" cy="61290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28600" y="228600"/>
            <a:ext cx="868680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2362320" y="873000"/>
            <a:ext cx="4876560" cy="564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96" name="TextBox 2"/>
          <p:cNvSpPr/>
          <p:nvPr/>
        </p:nvSpPr>
        <p:spPr>
          <a:xfrm>
            <a:off x="3809880" y="337644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(This is an optional form that can</a:t>
            </a:r>
            <a:br>
              <a:rPr sz="1200"/>
            </a:b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e completed to track perform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0880" y="478800"/>
            <a:ext cx="8458200" cy="61290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2209680" y="2819520"/>
            <a:ext cx="48006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 of 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6"/>
          <p:cNvSpPr/>
          <p:nvPr/>
        </p:nvSpPr>
        <p:spPr>
          <a:xfrm>
            <a:off x="380880" y="38088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2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447920" y="2438280"/>
            <a:ext cx="6553080" cy="235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n-Lin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ystems used for the cour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 Connect Homework System (McGraw-Hil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 Canvas (AC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 SAC Accounting Website (Instructor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1447920" y="2590920"/>
            <a:ext cx="6476760" cy="146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 HW System (McGraw-Hill)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ed through ACES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nect Homewor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762120" y="2286000"/>
            <a:ext cx="7619760" cy="23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Registration in the Connect System must be completed by scheduled date, s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that you will have access to your homework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Two registration procedures were provided as attachments to your cour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introduction emai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  If you need additional copies of the procedures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can download thes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procedures from the “</a:t>
            </a:r>
            <a:r>
              <a:rPr b="1" lang="en-US" sz="1400" spc="-1" strike="noStrike">
                <a:solidFill>
                  <a:srgbClr val="0c11dc"/>
                </a:solidFill>
                <a:latin typeface="Arial"/>
              </a:rPr>
              <a:t>Assignments and Instruc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 module located in you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Canvas course “Getting Started” section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380880" y="846720"/>
            <a:ext cx="853452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371600" y="2514600"/>
            <a:ext cx="6477120" cy="1852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vas (A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used mainly for access to assignments, exams, and course progress tracking)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1828800" y="2514600"/>
            <a:ext cx="5638680" cy="183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C Accounting Website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9200"/>
                </a:solidFill>
                <a:latin typeface="Arial"/>
              </a:rPr>
              <a:t>www.sacaccounting.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4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7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838080" y="2057400"/>
            <a:ext cx="7620120" cy="2994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EXT AND SUPPORT MATERIA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h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ld / Ken Shaw, 2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ec"/>
                </a:solidFill>
                <a:latin typeface="Arial"/>
              </a:rPr>
              <a:t>Financial &amp; Managerial Accounting, 9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McGraw-Hill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SBN: 978-1-264-09867-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c11dc"/>
                </a:solidFill>
                <a:latin typeface="Arial"/>
              </a:rPr>
              <a:t>Connec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-line Homework syst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cess to the Internet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Calcul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304920" y="846720"/>
            <a:ext cx="8534160" cy="585468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C Accountin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1371600" y="2057400"/>
            <a:ext cx="6477120" cy="224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This website was established to provide an additional sourc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to communicate with class stud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You will find that this website provides course information 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rticles to assist in the completion of your assignm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I recommend that you check your course, in the website at leas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twice a week, to obtain any newly published artic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C Account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2674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1" name="Line 5"/>
          <p:cNvSpPr/>
          <p:nvPr/>
        </p:nvSpPr>
        <p:spPr>
          <a:xfrm flipH="1" flipV="1">
            <a:off x="1447920" y="3582720"/>
            <a:ext cx="457200" cy="228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4" name="Line 5"/>
          <p:cNvSpPr/>
          <p:nvPr/>
        </p:nvSpPr>
        <p:spPr>
          <a:xfrm flipV="1">
            <a:off x="1600200" y="4990680"/>
            <a:ext cx="380880" cy="3812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C Account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504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28" name="AutoShape 4"/>
          <p:cNvSpPr/>
          <p:nvPr/>
        </p:nvSpPr>
        <p:spPr>
          <a:xfrm>
            <a:off x="304920" y="609480"/>
            <a:ext cx="8534160" cy="7621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ial Accounting Web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762120" y="1981080"/>
            <a:ext cx="4952880" cy="276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Point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647640" y="1676520"/>
            <a:ext cx="7848720" cy="4647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graphicFrame>
        <p:nvGraphicFramePr>
          <p:cNvPr id="233" name="Object 3"/>
          <p:cNvGraphicFramePr/>
          <p:nvPr/>
        </p:nvGraphicFramePr>
        <p:xfrm>
          <a:off x="1143000" y="3505320"/>
          <a:ext cx="4114800" cy="281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505320"/>
                    <a:ext cx="411480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67600" cy="4647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38" name="Line 5"/>
          <p:cNvSpPr/>
          <p:nvPr/>
        </p:nvSpPr>
        <p:spPr>
          <a:xfrm flipH="1">
            <a:off x="3504960" y="3048120"/>
            <a:ext cx="533160" cy="228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762120" y="3697200"/>
            <a:ext cx="4114800" cy="21564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ACCT 2302 Syllabus Basic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229600" cy="54864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43" name="TextBox 1"/>
          <p:cNvSpPr/>
          <p:nvPr/>
        </p:nvSpPr>
        <p:spPr>
          <a:xfrm>
            <a:off x="457200" y="1019160"/>
            <a:ext cx="4876920" cy="246240"/>
          </a:xfrm>
          <a:prstGeom prst="rect">
            <a:avLst/>
          </a:prstGeom>
          <a:solidFill>
            <a:srgbClr val="181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ssignment for Managerial Accoun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"/>
          <p:cNvSpPr/>
          <p:nvPr/>
        </p:nvSpPr>
        <p:spPr>
          <a:xfrm>
            <a:off x="1447920" y="1752480"/>
            <a:ext cx="1143000" cy="185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Current Seme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6479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48" name="TextBox 1"/>
          <p:cNvSpPr/>
          <p:nvPr/>
        </p:nvSpPr>
        <p:spPr>
          <a:xfrm>
            <a:off x="914400" y="3429000"/>
            <a:ext cx="5029200" cy="246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anagerial Accounting (230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6483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51" name="AutoShape 4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762120" y="5486400"/>
            <a:ext cx="4572000" cy="533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14392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55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Assig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0880" y="60948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143000" y="2133720"/>
            <a:ext cx="6858000" cy="326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ETHOD OF COURSE ASSESSM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basic course grade will be determined by your performa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terms of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Assigned Problems....................... 1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Four Chapter Exams...................... 6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Comprehensive Final Exam..........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 Attendance/Participation.............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  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......................................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80880" y="53352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s/Grades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8001000" cy="44197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59" name="Line 5"/>
          <p:cNvSpPr/>
          <p:nvPr/>
        </p:nvSpPr>
        <p:spPr>
          <a:xfrm flipH="1" flipV="1">
            <a:off x="4648320" y="3962160"/>
            <a:ext cx="457200" cy="2286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076960" cy="4724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262" name="AutoShape 4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s/Grades Web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685800" y="1531800"/>
            <a:ext cx="4952880" cy="2764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752480" y="2590920"/>
            <a:ext cx="5639040" cy="39888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SAC Accounting 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80880" y="685800"/>
            <a:ext cx="845820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1066680" y="2590920"/>
            <a:ext cx="7315200" cy="45972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Poin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/>
          <p:cNvSpPr/>
          <p:nvPr/>
        </p:nvSpPr>
        <p:spPr>
          <a:xfrm>
            <a:off x="380880" y="38088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304920" y="685800"/>
            <a:ext cx="8458200" cy="601992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304920" y="152280"/>
            <a:ext cx="845820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Poin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"/>
          <p:cNvSpPr/>
          <p:nvPr/>
        </p:nvSpPr>
        <p:spPr>
          <a:xfrm>
            <a:off x="1371600" y="1600200"/>
            <a:ext cx="6324480" cy="1270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PowerPoint files are provided for each assigned course chap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ownload instructions are included with each week class session   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requirements and procedure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933640" y="3809880"/>
            <a:ext cx="3200400" cy="217332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2286000" y="2438280"/>
            <a:ext cx="4800600" cy="520560"/>
          </a:xfrm>
          <a:prstGeom prst="rect">
            <a:avLst/>
          </a:prstGeom>
          <a:solidFill>
            <a:srgbClr val="666699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6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"/>
          <p:cNvPicPr/>
          <p:nvPr/>
        </p:nvPicPr>
        <p:blipFill>
          <a:blip r:embed="rId1"/>
          <a:stretch/>
        </p:blipFill>
        <p:spPr>
          <a:xfrm>
            <a:off x="3733920" y="3962520"/>
            <a:ext cx="2143080" cy="1628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3" descr="So Asst_logo"/>
          <p:cNvPicPr/>
          <p:nvPr/>
        </p:nvPicPr>
        <p:blipFill>
          <a:blip r:embed="rId1"/>
          <a:stretch/>
        </p:blipFill>
        <p:spPr>
          <a:xfrm>
            <a:off x="1066680" y="1828800"/>
            <a:ext cx="1676520" cy="13273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Sou Assn map"/>
          <p:cNvPicPr/>
          <p:nvPr/>
        </p:nvPicPr>
        <p:blipFill>
          <a:blip r:embed="rId2"/>
          <a:stretch/>
        </p:blipFill>
        <p:spPr>
          <a:xfrm>
            <a:off x="2743200" y="1905120"/>
            <a:ext cx="2133720" cy="121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81" name="Picture 5" descr="TX Coll_logo"/>
          <p:cNvPicPr/>
          <p:nvPr/>
        </p:nvPicPr>
        <p:blipFill>
          <a:blip r:embed="rId3"/>
          <a:stretch/>
        </p:blipFill>
        <p:spPr>
          <a:xfrm>
            <a:off x="5638680" y="2057400"/>
            <a:ext cx="2676600" cy="73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2" name="Text Box 6"/>
          <p:cNvSpPr/>
          <p:nvPr/>
        </p:nvSpPr>
        <p:spPr>
          <a:xfrm>
            <a:off x="1066680" y="3733920"/>
            <a:ext cx="7391520" cy="1008720"/>
          </a:xfrm>
          <a:prstGeom prst="rect">
            <a:avLst/>
          </a:prstGeom>
          <a:solidFill>
            <a:srgbClr val="3f7be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Outcome Measurement Required by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- State of Texa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-- Southern Association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066680" y="5181480"/>
            <a:ext cx="7391520" cy="1008720"/>
          </a:xfrm>
          <a:prstGeom prst="rect">
            <a:avLst/>
          </a:prstGeom>
          <a:solidFill>
            <a:srgbClr val="3f7be7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Students Performance Measurement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-  Six (6) Outcomes per Cours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--  Performance Reported (for each Stud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228600" y="770760"/>
            <a:ext cx="876312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380880" y="1600200"/>
            <a:ext cx="8382240" cy="447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 Identify the role and scope of financial and managerial accounting and the use of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accounting information in the decision making process of manager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 Define operational and capital budgeting, and explain its role in planning, control,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and decision making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 Prepare an operating budget, identify its major components, and explain th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interrelationships among its various component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 Explain methods of performance evaluation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 Use appropriate financial information to make operational decisions.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  Demonstrate use of accounting data in the areas of product costing, cost            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behavior, cost control, and operational and capital budgeting for managemen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decisions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7"/>
          <p:cNvSpPr/>
          <p:nvPr/>
        </p:nvSpPr>
        <p:spPr>
          <a:xfrm>
            <a:off x="228600" y="533520"/>
            <a:ext cx="876312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1295280" y="2057400"/>
            <a:ext cx="6553440" cy="276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ding data is collected automatically by the Canvas System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ased on your completion of the course assignments and exa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rformance measurement is either “met” or “did not meet.”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There are no points attached to Learning Outcomes. Therefore,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you will not see it listed in the course overall grade structure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ding and reporting, for each student, is accomplishe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utomatically in the background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bfbfb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1219320" y="1981080"/>
            <a:ext cx="68580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ources for the grading of the Learning Outcome are as follo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2209680" y="3124080"/>
            <a:ext cx="4191120" cy="289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earning Outcom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Grading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Final Ex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Exam 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Exam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Exam 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Exam 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B-2302-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Exam 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3" presetSubtype="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0" dur="1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9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2" dur="5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5" dur="5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228600" y="609480"/>
            <a:ext cx="8763120" cy="5943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1143000"/>
            <a:ext cx="8153280" cy="5229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igned Problem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are due the class session following your review and study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lecture slides for each related chapter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 McGraw-Hill’s  </a:t>
            </a:r>
            <a:r>
              <a:rPr b="1" lang="en-US" sz="1400" spc="-1" strike="noStrike" u="sng">
                <a:solidFill>
                  <a:srgbClr val="0000ec"/>
                </a:solidFill>
                <a:uFillTx/>
                <a:latin typeface="Arial"/>
              </a:rPr>
              <a:t>Connect Homework Syste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s used for this cours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  It is a web-based assignment and assessment solution that is us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accomplish your homework assignments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 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egist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  All accounting classes are a part of the Instructional Materials (IM)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                   Program.  When students enroll in this course, part of the course tuition includ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a fee for direct access to the </a:t>
            </a:r>
            <a:r>
              <a:rPr b="1" lang="en-US" sz="1400" spc="-1" strike="noStrike">
                <a:solidFill>
                  <a:srgbClr val="0c11dc"/>
                </a:solidFill>
                <a:latin typeface="Arial"/>
              </a:rPr>
              <a:t>Connec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.  Also included will be access to a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e-text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  A separate handout was provided, in the course introductory email, with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registration information and procedures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can also download thes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dures from the “</a:t>
            </a:r>
            <a:r>
              <a:rPr b="1" lang="en-US" sz="1400" spc="-1" strike="noStrike">
                <a:solidFill>
                  <a:srgbClr val="0c11dc"/>
                </a:solidFill>
                <a:latin typeface="Arial"/>
              </a:rPr>
              <a:t>Assignments and Instruc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” module located in your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Canvas course “Getting Started” s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 Check figures are provided for most of the homework problems. These check figure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are found with the eBook assigned problems (noted in red in the page margi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Requirements section)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>
            <a:off x="228600" y="380880"/>
            <a:ext cx="876312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219320" y="2590920"/>
            <a:ext cx="6553080" cy="39888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Accounting Competency Exam (P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1"/>
          <a:stretch/>
        </p:blipFill>
        <p:spPr>
          <a:xfrm>
            <a:off x="3886200" y="4191120"/>
            <a:ext cx="1076400" cy="1619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99"/>
            </a:outerShdw>
          </a:effectLst>
        </p:spPr>
      </p:pic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380880" y="465840"/>
            <a:ext cx="8458200" cy="61290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380880" y="457200"/>
            <a:ext cx="8458200" cy="7621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C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762120" y="1905120"/>
            <a:ext cx="7619760" cy="364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The Principles of Accounting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enc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xam (PACE) must be taken by all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applicants for admission to the School of Business at most 4-year universitie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and colle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The PACE is specifically required if your degree major is in accounting and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related financial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  Prior to the end of this course, I will provide a set of study materials to assi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you in preparing for the PACE when you move on to a 4-year institution.  The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material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 Multiple Choice Review of accounting subje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 PACE Sample Ex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 Sample Exam Sol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0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0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304920" y="770760"/>
            <a:ext cx="8534160" cy="58546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1981080" y="2819520"/>
            <a:ext cx="5029200" cy="42912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nd of Course Int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304920" y="533520"/>
            <a:ext cx="8534160" cy="76176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Managerial Accoun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171880" cy="1677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6699"/>
            </a:outerShdw>
          </a:effectLst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152280" y="609480"/>
            <a:ext cx="883944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33520" y="1600200"/>
            <a:ext cx="7924680" cy="40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igned Problems (Continued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 Missed homework may be made up by completing the "B" series problems.  In m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cases, the “B” problems contain the same type of transactions, only the amount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and names are different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The textbook “B” series of problems are not assigned in the Connect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Homework System.  Therefore, you will have to complete these problems 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manually, using either the provided generic forms or ones that you cre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 Complete the “B” assignment as instructed in the textbo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 Submit the make-up problem documents for grading (submit by emai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  When more than one homework problem is assigned for a chapter, the grades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all of that chapter's assignments will be averaged into a single grad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152280" y="380880"/>
            <a:ext cx="8839440" cy="68580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828800" y="2362320"/>
            <a:ext cx="5549760" cy="533160"/>
          </a:xfrm>
          <a:prstGeom prst="rect">
            <a:avLst/>
          </a:prstGeom>
          <a:solidFill>
            <a:srgbClr val="6666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04920" y="533520"/>
            <a:ext cx="8534160" cy="60948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rse Sylla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1"/>
          <a:stretch/>
        </p:blipFill>
        <p:spPr>
          <a:xfrm>
            <a:off x="3581280" y="3809880"/>
            <a:ext cx="2173320" cy="22100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33520" y="1600200"/>
            <a:ext cx="7924680" cy="277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 Optional generic forms are available for use in completing any of the chapter requirements.  You can download these forms by going to my website at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sacaccounting.n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 To access these forms, do the following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(a)  Log-on to the websi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(b)  Then select “Course Handouts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(c)  Next, select “Course Resources”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(d)  Last, go down the webpage to “Generic Working Papers” and sel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3)  The following slides provide examples of some of the available form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04920" y="609480"/>
            <a:ext cx="8534160" cy="609624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13465736"/>
          <p:cNvPicPr/>
          <p:nvPr/>
        </p:nvPicPr>
        <p:blipFill>
          <a:blip r:embed="rId1"/>
          <a:stretch/>
        </p:blipFill>
        <p:spPr>
          <a:xfrm>
            <a:off x="762120" y="990720"/>
            <a:ext cx="7732440" cy="5240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149" name="AutoShape 6"/>
          <p:cNvSpPr/>
          <p:nvPr/>
        </p:nvSpPr>
        <p:spPr>
          <a:xfrm>
            <a:off x="304920" y="228600"/>
            <a:ext cx="8534160" cy="533520"/>
          </a:xfrm>
          <a:prstGeom prst="bevel">
            <a:avLst>
              <a:gd name="adj" fmla="val 125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ic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1219320" y="1219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” Ac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21:19:53Z</dcterms:created>
  <dc:creator>Trial User</dc:creator>
  <dc:description/>
  <dc:language>en-US</dc:language>
  <cp:lastModifiedBy>Fred Blake</cp:lastModifiedBy>
  <dcterms:modified xsi:type="dcterms:W3CDTF">2024-11-04T23:15:20Z</dcterms:modified>
  <cp:revision>429</cp:revision>
  <dc:subject/>
  <dc:title>PowerPoint Presentation</dc:title>
</cp:coreProperties>
</file>